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D31-D29A-403B-B04E-81967A95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C03-75D5-4124-8D11-DBE28009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B33-CA42-46ED-9225-7705EF64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E80-099C-45D4-93A5-083853C5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99D5-BDD5-445E-A578-1FB9EF59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35C0-495F-4E58-90EC-06787A99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AD94-F84B-4628-8382-B358F760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CE25-DFE8-479E-AAAB-A80F03B1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9B5B-8765-4998-828A-1B52B70D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1312-2E42-4991-9CD8-322FD1E1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9954-0856-481E-B3C1-F4EB56BE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EE0-CE9A-4CCC-84B0-4D2973F9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2538-D26F-4AC7-A695-27CE2545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493B-7234-4687-B589-07ED15A9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9286-AF84-4B56-A4D5-E408252D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FE62-E98E-4D3B-88E0-CB530135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DECB-27D4-493E-A4E2-092D7DA1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D37-9F9D-40C5-9142-249642E4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9BA-20F8-4364-BCA7-86C1CA5A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58D-E9A2-4E4C-B7F6-67D04B4A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77B-DB17-4685-8B7D-03DBA446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51A-F06D-4A10-9204-EE35C732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E38-B685-411E-B5F5-4C35CCF1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13C-E78C-45A1-B19B-A55B4DC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0482-171C-46C4-953D-B016525EED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98A4-3CD6-4EE6-9146-34023D58CE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0813findhttp://www.mymaths.co.uk/gold/trigonometry/trigfunctions.htmlConditionalProbability.ppt" TargetMode="External"/><Relationship Id="rId4" Type="http://schemas.openxmlformats.org/officeDocument/2006/relationships/hyperlink" Target="file:///0813findhttp://www.mymaths.co.uk/gold/trigonometry/trigfunctions.htmlConditionalProbability.ppt" TargetMode="External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ymaths.co.uk/gold/trigonometry/trigfunctionsTan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220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16360" y="3860640"/>
            <a:ext cx="1440000" cy="23767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7080" y="4003560"/>
            <a:ext cx="2087640" cy="19447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0960" y="3990960"/>
            <a:ext cx="669960" cy="206280"/>
          </a:xfrm>
          <a:custGeom>
            <a:avLst/>
            <a:gdLst/>
            <a:ahLst/>
            <a:rect l="l" t="t" r="r" b="b"/>
            <a:pathLst>
              <a:path w="1861" h="571">
                <a:moveTo>
                  <a:pt x="2332" y="11361"/>
                </a:moveTo>
                <a:cubicBezTo>
                  <a:pt x="2371" y="11331"/>
                  <a:pt x="2385" y="11339"/>
                  <a:pt x="2406" y="11311"/>
                </a:cubicBezTo>
                <a:cubicBezTo>
                  <a:pt x="2429" y="11288"/>
                  <a:pt x="2437" y="11284"/>
                  <a:pt x="2431" y="11261"/>
                </a:cubicBezTo>
                <a:cubicBezTo>
                  <a:pt x="2392" y="11233"/>
                  <a:pt x="2334" y="11223"/>
                  <a:pt x="2282" y="11237"/>
                </a:cubicBezTo>
                <a:cubicBezTo>
                  <a:pt x="2224" y="11253"/>
                  <a:pt x="2151" y="11296"/>
                  <a:pt x="2108" y="11336"/>
                </a:cubicBezTo>
                <a:cubicBezTo>
                  <a:pt x="2074" y="11367"/>
                  <a:pt x="2067" y="11431"/>
                  <a:pt x="2108" y="11460"/>
                </a:cubicBezTo>
                <a:cubicBezTo>
                  <a:pt x="2167" y="11501"/>
                  <a:pt x="2247" y="11481"/>
                  <a:pt x="2307" y="11509"/>
                </a:cubicBezTo>
                <a:cubicBezTo>
                  <a:pt x="2331" y="11520"/>
                  <a:pt x="2362" y="11565"/>
                  <a:pt x="2381" y="11584"/>
                </a:cubicBezTo>
                <a:cubicBezTo>
                  <a:pt x="2319" y="11633"/>
                  <a:pt x="2298" y="11613"/>
                  <a:pt x="2232" y="11633"/>
                </a:cubicBezTo>
                <a:cubicBezTo>
                  <a:pt x="2182" y="11648"/>
                  <a:pt x="2162" y="11658"/>
                  <a:pt x="2108" y="11658"/>
                </a:cubicBezTo>
              </a:path>
              <a:path w="1861" h="571">
                <a:moveTo>
                  <a:pt x="2580" y="11410"/>
                </a:moveTo>
                <a:cubicBezTo>
                  <a:pt x="2580" y="11402"/>
                  <a:pt x="2580" y="11393"/>
                  <a:pt x="2580" y="11385"/>
                </a:cubicBezTo>
                <a:cubicBezTo>
                  <a:pt x="2580" y="11460"/>
                  <a:pt x="2580" y="11534"/>
                  <a:pt x="2580" y="11609"/>
                </a:cubicBezTo>
              </a:path>
              <a:path w="1861" h="571">
                <a:moveTo>
                  <a:pt x="2530" y="11237"/>
                </a:moveTo>
                <a:cubicBezTo>
                  <a:pt x="2538" y="11220"/>
                  <a:pt x="2547" y="11204"/>
                  <a:pt x="2555" y="11187"/>
                </a:cubicBezTo>
              </a:path>
              <a:path w="1861" h="571">
                <a:moveTo>
                  <a:pt x="2704" y="11435"/>
                </a:moveTo>
                <a:cubicBezTo>
                  <a:pt x="2704" y="11493"/>
                  <a:pt x="2704" y="11551"/>
                  <a:pt x="2704" y="11609"/>
                </a:cubicBezTo>
                <a:cubicBezTo>
                  <a:pt x="2740" y="11597"/>
                  <a:pt x="2731" y="11556"/>
                  <a:pt x="2753" y="11509"/>
                </a:cubicBezTo>
                <a:cubicBezTo>
                  <a:pt x="2777" y="11458"/>
                  <a:pt x="2812" y="11405"/>
                  <a:pt x="2853" y="11385"/>
                </a:cubicBezTo>
                <a:cubicBezTo>
                  <a:pt x="2901" y="11402"/>
                  <a:pt x="2899" y="11448"/>
                  <a:pt x="2902" y="11509"/>
                </a:cubicBezTo>
                <a:cubicBezTo>
                  <a:pt x="2902" y="11561"/>
                  <a:pt x="2903" y="11579"/>
                  <a:pt x="2927" y="11609"/>
                </a:cubicBezTo>
              </a:path>
              <a:path w="1861" h="571">
                <a:moveTo>
                  <a:pt x="3373" y="11162"/>
                </a:moveTo>
                <a:cubicBezTo>
                  <a:pt x="3419" y="11162"/>
                  <a:pt x="3442" y="11160"/>
                  <a:pt x="3448" y="11212"/>
                </a:cubicBezTo>
                <a:cubicBezTo>
                  <a:pt x="3455" y="11278"/>
                  <a:pt x="3469" y="11248"/>
                  <a:pt x="3448" y="11311"/>
                </a:cubicBezTo>
                <a:cubicBezTo>
                  <a:pt x="3432" y="11359"/>
                  <a:pt x="3406" y="11371"/>
                  <a:pt x="3349" y="11385"/>
                </a:cubicBezTo>
                <a:cubicBezTo>
                  <a:pt x="3288" y="11400"/>
                  <a:pt x="3264" y="11375"/>
                  <a:pt x="3225" y="11336"/>
                </a:cubicBezTo>
                <a:cubicBezTo>
                  <a:pt x="3185" y="11296"/>
                  <a:pt x="3200" y="11242"/>
                  <a:pt x="3200" y="11187"/>
                </a:cubicBezTo>
                <a:cubicBezTo>
                  <a:pt x="3200" y="11136"/>
                  <a:pt x="3187" y="11092"/>
                  <a:pt x="3249" y="11088"/>
                </a:cubicBezTo>
                <a:cubicBezTo>
                  <a:pt x="3305" y="11084"/>
                  <a:pt x="3362" y="11086"/>
                  <a:pt x="3398" y="11137"/>
                </a:cubicBezTo>
                <a:cubicBezTo>
                  <a:pt x="3444" y="11201"/>
                  <a:pt x="3470" y="11284"/>
                  <a:pt x="3473" y="11361"/>
                </a:cubicBezTo>
                <a:cubicBezTo>
                  <a:pt x="3476" y="11433"/>
                  <a:pt x="3463" y="11537"/>
                  <a:pt x="3398" y="11584"/>
                </a:cubicBezTo>
                <a:cubicBezTo>
                  <a:pt x="3357" y="11614"/>
                  <a:pt x="3264" y="11630"/>
                  <a:pt x="3225" y="11584"/>
                </a:cubicBezTo>
                <a:cubicBezTo>
                  <a:pt x="3205" y="11560"/>
                  <a:pt x="3204" y="11492"/>
                  <a:pt x="3200" y="11460"/>
                </a:cubicBezTo>
              </a:path>
              <a:path w="1861" h="571">
                <a:moveTo>
                  <a:pt x="3944" y="11286"/>
                </a:moveTo>
                <a:cubicBezTo>
                  <a:pt x="3886" y="11286"/>
                  <a:pt x="3828" y="11286"/>
                  <a:pt x="3770" y="11286"/>
                </a:cubicBezTo>
              </a:path>
              <a:path w="1861" h="571">
                <a:moveTo>
                  <a:pt x="3919" y="11361"/>
                </a:moveTo>
                <a:cubicBezTo>
                  <a:pt x="3927" y="11361"/>
                  <a:pt x="3936" y="11361"/>
                  <a:pt x="3944" y="11361"/>
                </a:cubicBezTo>
                <a:cubicBezTo>
                  <a:pt x="3931" y="11410"/>
                  <a:pt x="3920" y="11410"/>
                  <a:pt x="3870" y="11410"/>
                </a:cubicBezTo>
                <a:cubicBezTo>
                  <a:pt x="3835" y="11410"/>
                  <a:pt x="3817" y="11415"/>
                  <a:pt x="3795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8120" y="3911760"/>
            <a:ext cx="392040" cy="509400"/>
          </a:xfrm>
          <a:custGeom>
            <a:avLst/>
            <a:gdLst/>
            <a:ahLst/>
            <a:rect l="l" t="t" r="r" b="b"/>
            <a:pathLst>
              <a:path w="1092" h="1415">
                <a:moveTo>
                  <a:pt x="4539" y="10988"/>
                </a:moveTo>
                <a:cubicBezTo>
                  <a:pt x="4539" y="11059"/>
                  <a:pt x="4535" y="10945"/>
                  <a:pt x="4539" y="10939"/>
                </a:cubicBezTo>
                <a:cubicBezTo>
                  <a:pt x="4568" y="10886"/>
                  <a:pt x="4574" y="10889"/>
                  <a:pt x="4638" y="10889"/>
                </a:cubicBezTo>
                <a:cubicBezTo>
                  <a:pt x="4711" y="10889"/>
                  <a:pt x="4751" y="10920"/>
                  <a:pt x="4762" y="10988"/>
                </a:cubicBezTo>
                <a:cubicBezTo>
                  <a:pt x="4770" y="11039"/>
                  <a:pt x="4770" y="11084"/>
                  <a:pt x="4713" y="11088"/>
                </a:cubicBezTo>
                <a:cubicBezTo>
                  <a:pt x="4646" y="11093"/>
                  <a:pt x="4616" y="11080"/>
                  <a:pt x="4564" y="11063"/>
                </a:cubicBezTo>
                <a:cubicBezTo>
                  <a:pt x="4556" y="11063"/>
                  <a:pt x="4547" y="11063"/>
                  <a:pt x="4539" y="11063"/>
                </a:cubicBezTo>
              </a:path>
              <a:path w="1092" h="1415">
                <a:moveTo>
                  <a:pt x="4887" y="11013"/>
                </a:moveTo>
                <a:cubicBezTo>
                  <a:pt x="4922" y="10986"/>
                  <a:pt x="4917" y="10988"/>
                  <a:pt x="4961" y="10988"/>
                </a:cubicBezTo>
                <a:cubicBezTo>
                  <a:pt x="4961" y="11045"/>
                  <a:pt x="4945" y="11085"/>
                  <a:pt x="4936" y="11137"/>
                </a:cubicBezTo>
                <a:cubicBezTo>
                  <a:pt x="4926" y="11199"/>
                  <a:pt x="4936" y="11273"/>
                  <a:pt x="4936" y="11336"/>
                </a:cubicBezTo>
              </a:path>
              <a:path w="1092" h="1415">
                <a:moveTo>
                  <a:pt x="4986" y="11038"/>
                </a:moveTo>
                <a:cubicBezTo>
                  <a:pt x="4999" y="11021"/>
                  <a:pt x="5025" y="10945"/>
                  <a:pt x="5035" y="10939"/>
                </a:cubicBezTo>
                <a:cubicBezTo>
                  <a:pt x="5060" y="10922"/>
                  <a:pt x="5112" y="10894"/>
                  <a:pt x="5135" y="10939"/>
                </a:cubicBezTo>
                <a:cubicBezTo>
                  <a:pt x="5161" y="10990"/>
                  <a:pt x="5108" y="10998"/>
                  <a:pt x="5085" y="11013"/>
                </a:cubicBezTo>
                <a:cubicBezTo>
                  <a:pt x="5048" y="11037"/>
                  <a:pt x="5055" y="11038"/>
                  <a:pt x="5011" y="11038"/>
                </a:cubicBezTo>
              </a:path>
              <a:path w="1092" h="1415">
                <a:moveTo>
                  <a:pt x="5184" y="10988"/>
                </a:moveTo>
                <a:cubicBezTo>
                  <a:pt x="5201" y="10980"/>
                  <a:pt x="5217" y="10972"/>
                  <a:pt x="5234" y="10964"/>
                </a:cubicBezTo>
                <a:cubicBezTo>
                  <a:pt x="5246" y="11009"/>
                  <a:pt x="5259" y="11034"/>
                  <a:pt x="5259" y="11088"/>
                </a:cubicBezTo>
                <a:cubicBezTo>
                  <a:pt x="5259" y="11154"/>
                  <a:pt x="5259" y="11220"/>
                  <a:pt x="5259" y="11286"/>
                </a:cubicBezTo>
              </a:path>
              <a:path w="1092" h="1415">
                <a:moveTo>
                  <a:pt x="5259" y="10988"/>
                </a:moveTo>
                <a:cubicBezTo>
                  <a:pt x="5269" y="10925"/>
                  <a:pt x="5283" y="10939"/>
                  <a:pt x="5333" y="10889"/>
                </a:cubicBezTo>
                <a:cubicBezTo>
                  <a:pt x="5381" y="10841"/>
                  <a:pt x="5434" y="10852"/>
                  <a:pt x="5457" y="10914"/>
                </a:cubicBezTo>
                <a:cubicBezTo>
                  <a:pt x="5471" y="10951"/>
                  <a:pt x="5441" y="10998"/>
                  <a:pt x="5407" y="11013"/>
                </a:cubicBezTo>
                <a:cubicBezTo>
                  <a:pt x="5374" y="11013"/>
                  <a:pt x="5358" y="11013"/>
                  <a:pt x="5333" y="11013"/>
                </a:cubicBezTo>
              </a:path>
              <a:path w="1092" h="1415">
                <a:moveTo>
                  <a:pt x="5556" y="11237"/>
                </a:moveTo>
                <a:cubicBezTo>
                  <a:pt x="5499" y="11237"/>
                  <a:pt x="5453" y="11252"/>
                  <a:pt x="5407" y="11261"/>
                </a:cubicBezTo>
                <a:cubicBezTo>
                  <a:pt x="5289" y="11284"/>
                  <a:pt x="5175" y="11247"/>
                  <a:pt x="5060" y="11286"/>
                </a:cubicBezTo>
                <a:cubicBezTo>
                  <a:pt x="4972" y="11316"/>
                  <a:pt x="4899" y="11293"/>
                  <a:pt x="4812" y="11311"/>
                </a:cubicBezTo>
                <a:cubicBezTo>
                  <a:pt x="4731" y="11328"/>
                  <a:pt x="4673" y="11336"/>
                  <a:pt x="4589" y="11336"/>
                </a:cubicBezTo>
                <a:cubicBezTo>
                  <a:pt x="4556" y="11336"/>
                  <a:pt x="4483" y="11350"/>
                  <a:pt x="4465" y="11385"/>
                </a:cubicBezTo>
                <a:cubicBezTo>
                  <a:pt x="4465" y="11393"/>
                  <a:pt x="4465" y="11402"/>
                  <a:pt x="4465" y="11410"/>
                </a:cubicBezTo>
              </a:path>
              <a:path w="1092" h="1415">
                <a:moveTo>
                  <a:pt x="4638" y="11485"/>
                </a:moveTo>
                <a:cubicBezTo>
                  <a:pt x="4663" y="11485"/>
                  <a:pt x="4671" y="11485"/>
                  <a:pt x="4688" y="11485"/>
                </a:cubicBezTo>
                <a:cubicBezTo>
                  <a:pt x="4688" y="11609"/>
                  <a:pt x="4688" y="11733"/>
                  <a:pt x="4688" y="11857"/>
                </a:cubicBezTo>
                <a:cubicBezTo>
                  <a:pt x="4724" y="11845"/>
                  <a:pt x="4721" y="11821"/>
                  <a:pt x="4738" y="11782"/>
                </a:cubicBezTo>
                <a:cubicBezTo>
                  <a:pt x="4758" y="11735"/>
                  <a:pt x="4786" y="11689"/>
                  <a:pt x="4837" y="11683"/>
                </a:cubicBezTo>
                <a:cubicBezTo>
                  <a:pt x="4897" y="11676"/>
                  <a:pt x="4908" y="11740"/>
                  <a:pt x="4911" y="11782"/>
                </a:cubicBezTo>
                <a:cubicBezTo>
                  <a:pt x="4914" y="11818"/>
                  <a:pt x="4929" y="11847"/>
                  <a:pt x="4936" y="11881"/>
                </a:cubicBezTo>
              </a:path>
              <a:path w="1092" h="1415">
                <a:moveTo>
                  <a:pt x="5011" y="11757"/>
                </a:moveTo>
                <a:cubicBezTo>
                  <a:pt x="5046" y="11769"/>
                  <a:pt x="5035" y="11815"/>
                  <a:pt x="5060" y="11832"/>
                </a:cubicBezTo>
                <a:cubicBezTo>
                  <a:pt x="5090" y="11852"/>
                  <a:pt x="5140" y="11824"/>
                  <a:pt x="5159" y="11807"/>
                </a:cubicBezTo>
                <a:cubicBezTo>
                  <a:pt x="5182" y="11784"/>
                  <a:pt x="5186" y="11776"/>
                  <a:pt x="5209" y="11782"/>
                </a:cubicBezTo>
                <a:cubicBezTo>
                  <a:pt x="5239" y="11832"/>
                  <a:pt x="5255" y="11893"/>
                  <a:pt x="5259" y="11956"/>
                </a:cubicBezTo>
                <a:cubicBezTo>
                  <a:pt x="5263" y="12025"/>
                  <a:pt x="5250" y="12055"/>
                  <a:pt x="5184" y="12055"/>
                </a:cubicBezTo>
                <a:cubicBezTo>
                  <a:pt x="5122" y="12055"/>
                  <a:pt x="5065" y="12066"/>
                  <a:pt x="5011" y="12030"/>
                </a:cubicBezTo>
                <a:cubicBezTo>
                  <a:pt x="4989" y="12008"/>
                  <a:pt x="4980" y="12003"/>
                  <a:pt x="4986" y="11981"/>
                </a:cubicBezTo>
              </a:path>
              <a:path w="1092" h="1415">
                <a:moveTo>
                  <a:pt x="5383" y="12154"/>
                </a:moveTo>
                <a:cubicBezTo>
                  <a:pt x="5411" y="12225"/>
                  <a:pt x="5395" y="12238"/>
                  <a:pt x="5457" y="12254"/>
                </a:cubicBezTo>
                <a:cubicBezTo>
                  <a:pt x="5457" y="12298"/>
                  <a:pt x="5414" y="12227"/>
                  <a:pt x="5407" y="12204"/>
                </a:cubicBezTo>
                <a:cubicBezTo>
                  <a:pt x="5387" y="12135"/>
                  <a:pt x="5361" y="12055"/>
                  <a:pt x="5358" y="11981"/>
                </a:cubicBezTo>
                <a:cubicBezTo>
                  <a:pt x="5354" y="11894"/>
                  <a:pt x="5350" y="11812"/>
                  <a:pt x="5383" y="11733"/>
                </a:cubicBezTo>
                <a:cubicBezTo>
                  <a:pt x="5404" y="11681"/>
                  <a:pt x="5431" y="11594"/>
                  <a:pt x="5507" y="11633"/>
                </a:cubicBezTo>
                <a:cubicBezTo>
                  <a:pt x="5535" y="11647"/>
                  <a:pt x="5547" y="11755"/>
                  <a:pt x="5531" y="11782"/>
                </a:cubicBezTo>
                <a:cubicBezTo>
                  <a:pt x="5506" y="11824"/>
                  <a:pt x="5472" y="11847"/>
                  <a:pt x="5432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1920" y="3946680"/>
            <a:ext cx="615960" cy="188640"/>
          </a:xfrm>
          <a:custGeom>
            <a:avLst/>
            <a:gdLst/>
            <a:ahLst/>
            <a:rect l="l" t="t" r="r" b="b"/>
            <a:pathLst>
              <a:path w="1713" h="522">
                <a:moveTo>
                  <a:pt x="6821" y="11212"/>
                </a:moveTo>
                <a:cubicBezTo>
                  <a:pt x="6829" y="11204"/>
                  <a:pt x="6838" y="11195"/>
                  <a:pt x="6846" y="11187"/>
                </a:cubicBezTo>
                <a:cubicBezTo>
                  <a:pt x="6802" y="11187"/>
                  <a:pt x="6751" y="11171"/>
                  <a:pt x="6722" y="11212"/>
                </a:cubicBezTo>
                <a:cubicBezTo>
                  <a:pt x="6686" y="11264"/>
                  <a:pt x="6653" y="11318"/>
                  <a:pt x="6672" y="11385"/>
                </a:cubicBezTo>
                <a:cubicBezTo>
                  <a:pt x="6685" y="11432"/>
                  <a:pt x="6725" y="11480"/>
                  <a:pt x="6772" y="11485"/>
                </a:cubicBezTo>
                <a:cubicBezTo>
                  <a:pt x="6800" y="11485"/>
                  <a:pt x="6810" y="11482"/>
                  <a:pt x="6821" y="11460"/>
                </a:cubicBezTo>
              </a:path>
              <a:path w="1713" h="522">
                <a:moveTo>
                  <a:pt x="6970" y="11361"/>
                </a:moveTo>
                <a:cubicBezTo>
                  <a:pt x="6979" y="11326"/>
                  <a:pt x="6986" y="11289"/>
                  <a:pt x="7020" y="11286"/>
                </a:cubicBezTo>
                <a:cubicBezTo>
                  <a:pt x="7054" y="11283"/>
                  <a:pt x="7125" y="11272"/>
                  <a:pt x="7144" y="11311"/>
                </a:cubicBezTo>
                <a:cubicBezTo>
                  <a:pt x="7156" y="11336"/>
                  <a:pt x="7150" y="11426"/>
                  <a:pt x="7119" y="11435"/>
                </a:cubicBezTo>
                <a:cubicBezTo>
                  <a:pt x="7071" y="11450"/>
                  <a:pt x="6996" y="11435"/>
                  <a:pt x="6945" y="11435"/>
                </a:cubicBezTo>
              </a:path>
              <a:path w="1713" h="522">
                <a:moveTo>
                  <a:pt x="7417" y="11261"/>
                </a:moveTo>
                <a:cubicBezTo>
                  <a:pt x="7403" y="11221"/>
                  <a:pt x="7376" y="11231"/>
                  <a:pt x="7342" y="11261"/>
                </a:cubicBezTo>
                <a:cubicBezTo>
                  <a:pt x="7305" y="11293"/>
                  <a:pt x="7319" y="11328"/>
                  <a:pt x="7342" y="11361"/>
                </a:cubicBezTo>
                <a:cubicBezTo>
                  <a:pt x="7370" y="11402"/>
                  <a:pt x="7405" y="11400"/>
                  <a:pt x="7417" y="11435"/>
                </a:cubicBezTo>
                <a:cubicBezTo>
                  <a:pt x="7378" y="11445"/>
                  <a:pt x="7362" y="11460"/>
                  <a:pt x="7317" y="11460"/>
                </a:cubicBezTo>
              </a:path>
              <a:path w="1713" h="522">
                <a:moveTo>
                  <a:pt x="7863" y="11063"/>
                </a:moveTo>
                <a:cubicBezTo>
                  <a:pt x="7888" y="11063"/>
                  <a:pt x="7896" y="11063"/>
                  <a:pt x="7913" y="11063"/>
                </a:cubicBezTo>
                <a:cubicBezTo>
                  <a:pt x="7913" y="11089"/>
                  <a:pt x="7905" y="11150"/>
                  <a:pt x="7888" y="11162"/>
                </a:cubicBezTo>
                <a:cubicBezTo>
                  <a:pt x="7862" y="11180"/>
                  <a:pt x="7825" y="11187"/>
                  <a:pt x="7789" y="11187"/>
                </a:cubicBezTo>
                <a:cubicBezTo>
                  <a:pt x="7751" y="11187"/>
                  <a:pt x="7725" y="11144"/>
                  <a:pt x="7714" y="11112"/>
                </a:cubicBezTo>
                <a:cubicBezTo>
                  <a:pt x="7699" y="11067"/>
                  <a:pt x="7721" y="11029"/>
                  <a:pt x="7739" y="11013"/>
                </a:cubicBezTo>
                <a:cubicBezTo>
                  <a:pt x="7766" y="10989"/>
                  <a:pt x="7820" y="10941"/>
                  <a:pt x="7863" y="10964"/>
                </a:cubicBezTo>
                <a:cubicBezTo>
                  <a:pt x="7931" y="11000"/>
                  <a:pt x="7935" y="11071"/>
                  <a:pt x="7938" y="11137"/>
                </a:cubicBezTo>
                <a:cubicBezTo>
                  <a:pt x="7941" y="11209"/>
                  <a:pt x="7969" y="11388"/>
                  <a:pt x="7913" y="11435"/>
                </a:cubicBezTo>
                <a:cubicBezTo>
                  <a:pt x="7867" y="11474"/>
                  <a:pt x="7810" y="11466"/>
                  <a:pt x="7764" y="11435"/>
                </a:cubicBezTo>
                <a:cubicBezTo>
                  <a:pt x="7710" y="11399"/>
                  <a:pt x="7714" y="11342"/>
                  <a:pt x="7714" y="11286"/>
                </a:cubicBezTo>
              </a:path>
              <a:path w="1713" h="522">
                <a:moveTo>
                  <a:pt x="8359" y="11237"/>
                </a:moveTo>
                <a:cubicBezTo>
                  <a:pt x="8367" y="11237"/>
                  <a:pt x="8376" y="11237"/>
                  <a:pt x="8384" y="11237"/>
                </a:cubicBezTo>
                <a:cubicBezTo>
                  <a:pt x="8354" y="11215"/>
                  <a:pt x="8302" y="11191"/>
                  <a:pt x="8260" y="11212"/>
                </a:cubicBezTo>
                <a:cubicBezTo>
                  <a:pt x="8237" y="11235"/>
                  <a:pt x="8233" y="11243"/>
                  <a:pt x="8210" y="11237"/>
                </a:cubicBezTo>
              </a:path>
              <a:path w="1713" h="522">
                <a:moveTo>
                  <a:pt x="8359" y="11336"/>
                </a:moveTo>
                <a:cubicBezTo>
                  <a:pt x="8347" y="11385"/>
                  <a:pt x="8335" y="11385"/>
                  <a:pt x="8285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78080" y="3894120"/>
            <a:ext cx="366840" cy="480960"/>
          </a:xfrm>
          <a:custGeom>
            <a:avLst/>
            <a:gdLst/>
            <a:ahLst/>
            <a:rect l="l" t="t" r="r" b="b"/>
            <a:pathLst>
              <a:path w="1018" h="1340">
                <a:moveTo>
                  <a:pt x="9153" y="11038"/>
                </a:moveTo>
                <a:cubicBezTo>
                  <a:pt x="9153" y="11013"/>
                  <a:pt x="9153" y="11005"/>
                  <a:pt x="9153" y="10988"/>
                </a:cubicBezTo>
                <a:cubicBezTo>
                  <a:pt x="9104" y="10988"/>
                  <a:pt x="9074" y="10983"/>
                  <a:pt x="9029" y="11013"/>
                </a:cubicBezTo>
                <a:cubicBezTo>
                  <a:pt x="8975" y="11049"/>
                  <a:pt x="8979" y="11106"/>
                  <a:pt x="8979" y="11162"/>
                </a:cubicBezTo>
                <a:cubicBezTo>
                  <a:pt x="8979" y="11170"/>
                  <a:pt x="8979" y="11179"/>
                  <a:pt x="8979" y="11187"/>
                </a:cubicBezTo>
                <a:cubicBezTo>
                  <a:pt x="9073" y="11187"/>
                  <a:pt x="9038" y="11181"/>
                  <a:pt x="9079" y="11112"/>
                </a:cubicBezTo>
                <a:cubicBezTo>
                  <a:pt x="9101" y="11090"/>
                  <a:pt x="9109" y="11085"/>
                  <a:pt x="9103" y="11063"/>
                </a:cubicBezTo>
                <a:cubicBezTo>
                  <a:pt x="9129" y="11089"/>
                  <a:pt x="9151" y="11148"/>
                  <a:pt x="9178" y="11162"/>
                </a:cubicBezTo>
                <a:cubicBezTo>
                  <a:pt x="9186" y="11162"/>
                  <a:pt x="9195" y="11162"/>
                  <a:pt x="9203" y="11162"/>
                </a:cubicBezTo>
              </a:path>
              <a:path w="1018" h="1340">
                <a:moveTo>
                  <a:pt x="9327" y="11013"/>
                </a:moveTo>
                <a:cubicBezTo>
                  <a:pt x="9284" y="11024"/>
                  <a:pt x="9250" y="11059"/>
                  <a:pt x="9277" y="11112"/>
                </a:cubicBezTo>
                <a:cubicBezTo>
                  <a:pt x="9300" y="11135"/>
                  <a:pt x="9304" y="11143"/>
                  <a:pt x="9327" y="11137"/>
                </a:cubicBezTo>
                <a:cubicBezTo>
                  <a:pt x="9357" y="11117"/>
                  <a:pt x="9373" y="11065"/>
                  <a:pt x="9376" y="11013"/>
                </a:cubicBezTo>
                <a:cubicBezTo>
                  <a:pt x="9380" y="10947"/>
                  <a:pt x="9376" y="10881"/>
                  <a:pt x="9376" y="10815"/>
                </a:cubicBezTo>
                <a:cubicBezTo>
                  <a:pt x="9376" y="10880"/>
                  <a:pt x="9391" y="10928"/>
                  <a:pt x="9401" y="10988"/>
                </a:cubicBezTo>
                <a:cubicBezTo>
                  <a:pt x="9411" y="11046"/>
                  <a:pt x="9417" y="11110"/>
                  <a:pt x="9451" y="11162"/>
                </a:cubicBezTo>
                <a:cubicBezTo>
                  <a:pt x="9473" y="11196"/>
                  <a:pt x="9491" y="11187"/>
                  <a:pt x="9525" y="11187"/>
                </a:cubicBezTo>
              </a:path>
              <a:path w="1018" h="1340">
                <a:moveTo>
                  <a:pt x="9624" y="11013"/>
                </a:moveTo>
                <a:cubicBezTo>
                  <a:pt x="9658" y="11038"/>
                  <a:pt x="9710" y="11079"/>
                  <a:pt x="9723" y="11112"/>
                </a:cubicBezTo>
                <a:cubicBezTo>
                  <a:pt x="9746" y="11170"/>
                  <a:pt x="9748" y="11246"/>
                  <a:pt x="9748" y="11311"/>
                </a:cubicBezTo>
                <a:cubicBezTo>
                  <a:pt x="9748" y="11364"/>
                  <a:pt x="9760" y="11403"/>
                  <a:pt x="9699" y="11410"/>
                </a:cubicBezTo>
                <a:cubicBezTo>
                  <a:pt x="9655" y="11415"/>
                  <a:pt x="9630" y="11385"/>
                  <a:pt x="9599" y="11361"/>
                </a:cubicBezTo>
              </a:path>
              <a:path w="1018" h="1340">
                <a:moveTo>
                  <a:pt x="9624" y="10864"/>
                </a:moveTo>
                <a:cubicBezTo>
                  <a:pt x="9665" y="10845"/>
                  <a:pt x="9681" y="10826"/>
                  <a:pt x="9674" y="10864"/>
                </a:cubicBezTo>
              </a:path>
              <a:path w="1018" h="1340">
                <a:moveTo>
                  <a:pt x="9847" y="11385"/>
                </a:moveTo>
                <a:cubicBezTo>
                  <a:pt x="9798" y="11385"/>
                  <a:pt x="9761" y="11368"/>
                  <a:pt x="9723" y="11361"/>
                </a:cubicBezTo>
                <a:cubicBezTo>
                  <a:pt x="9447" y="11307"/>
                  <a:pt x="9114" y="11361"/>
                  <a:pt x="8830" y="11361"/>
                </a:cubicBezTo>
              </a:path>
              <a:path w="1018" h="1340">
                <a:moveTo>
                  <a:pt x="8954" y="11385"/>
                </a:moveTo>
                <a:cubicBezTo>
                  <a:pt x="8954" y="11361"/>
                  <a:pt x="8954" y="11353"/>
                  <a:pt x="8979" y="11361"/>
                </a:cubicBezTo>
                <a:cubicBezTo>
                  <a:pt x="8979" y="11416"/>
                  <a:pt x="8956" y="11454"/>
                  <a:pt x="8954" y="11509"/>
                </a:cubicBezTo>
                <a:cubicBezTo>
                  <a:pt x="8950" y="11590"/>
                  <a:pt x="8952" y="11835"/>
                  <a:pt x="8954" y="11832"/>
                </a:cubicBezTo>
                <a:cubicBezTo>
                  <a:pt x="8983" y="11792"/>
                  <a:pt x="8993" y="11748"/>
                  <a:pt x="9029" y="11708"/>
                </a:cubicBezTo>
                <a:cubicBezTo>
                  <a:pt x="9041" y="11695"/>
                  <a:pt x="9102" y="11625"/>
                  <a:pt x="9128" y="11658"/>
                </a:cubicBezTo>
                <a:cubicBezTo>
                  <a:pt x="9157" y="11694"/>
                  <a:pt x="9136" y="11741"/>
                  <a:pt x="9153" y="11782"/>
                </a:cubicBezTo>
                <a:cubicBezTo>
                  <a:pt x="9170" y="11821"/>
                  <a:pt x="9178" y="11810"/>
                  <a:pt x="9178" y="11857"/>
                </a:cubicBezTo>
              </a:path>
              <a:path w="1018" h="1340">
                <a:moveTo>
                  <a:pt x="9252" y="11683"/>
                </a:moveTo>
                <a:cubicBezTo>
                  <a:pt x="9252" y="11675"/>
                  <a:pt x="9252" y="11666"/>
                  <a:pt x="9252" y="11658"/>
                </a:cubicBezTo>
                <a:cubicBezTo>
                  <a:pt x="9279" y="11703"/>
                  <a:pt x="9267" y="11742"/>
                  <a:pt x="9302" y="11782"/>
                </a:cubicBezTo>
                <a:cubicBezTo>
                  <a:pt x="9341" y="11825"/>
                  <a:pt x="9372" y="11801"/>
                  <a:pt x="9401" y="11757"/>
                </a:cubicBezTo>
                <a:cubicBezTo>
                  <a:pt x="9436" y="11703"/>
                  <a:pt x="9408" y="11697"/>
                  <a:pt x="9451" y="11683"/>
                </a:cubicBezTo>
                <a:cubicBezTo>
                  <a:pt x="9466" y="11761"/>
                  <a:pt x="9496" y="11823"/>
                  <a:pt x="9500" y="11906"/>
                </a:cubicBezTo>
                <a:cubicBezTo>
                  <a:pt x="9504" y="11990"/>
                  <a:pt x="9513" y="12040"/>
                  <a:pt x="9426" y="12055"/>
                </a:cubicBezTo>
                <a:cubicBezTo>
                  <a:pt x="9382" y="12062"/>
                  <a:pt x="9288" y="12006"/>
                  <a:pt x="9252" y="11981"/>
                </a:cubicBezTo>
                <a:cubicBezTo>
                  <a:pt x="9229" y="11958"/>
                  <a:pt x="9221" y="11954"/>
                  <a:pt x="9227" y="11931"/>
                </a:cubicBezTo>
              </a:path>
              <a:path w="1018" h="1340">
                <a:moveTo>
                  <a:pt x="9550" y="11931"/>
                </a:moveTo>
                <a:cubicBezTo>
                  <a:pt x="9577" y="11985"/>
                  <a:pt x="9620" y="12045"/>
                  <a:pt x="9624" y="12105"/>
                </a:cubicBezTo>
                <a:cubicBezTo>
                  <a:pt x="9624" y="12146"/>
                  <a:pt x="9624" y="12170"/>
                  <a:pt x="9624" y="12129"/>
                </a:cubicBezTo>
                <a:cubicBezTo>
                  <a:pt x="9593" y="12068"/>
                  <a:pt x="9599" y="12005"/>
                  <a:pt x="9599" y="11931"/>
                </a:cubicBezTo>
                <a:cubicBezTo>
                  <a:pt x="9599" y="11844"/>
                  <a:pt x="9597" y="11782"/>
                  <a:pt x="9649" y="11708"/>
                </a:cubicBezTo>
                <a:cubicBezTo>
                  <a:pt x="9677" y="11680"/>
                  <a:pt x="9690" y="11671"/>
                  <a:pt x="9723" y="11683"/>
                </a:cubicBezTo>
                <a:cubicBezTo>
                  <a:pt x="9760" y="11732"/>
                  <a:pt x="9758" y="11774"/>
                  <a:pt x="9723" y="11832"/>
                </a:cubicBezTo>
                <a:cubicBezTo>
                  <a:pt x="9699" y="11857"/>
                  <a:pt x="9691" y="11865"/>
                  <a:pt x="9674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1680" y="6043680"/>
            <a:ext cx="162000" cy="162000"/>
          </a:xfrm>
          <a:custGeom>
            <a:avLst/>
            <a:gdLst/>
            <a:ahLst/>
            <a:rect l="l" t="t" r="r" b="b"/>
            <a:pathLst>
              <a:path w="448" h="448">
                <a:moveTo>
                  <a:pt x="11286" y="16991"/>
                </a:moveTo>
                <a:cubicBezTo>
                  <a:pt x="11398" y="16991"/>
                  <a:pt x="11512" y="16983"/>
                  <a:pt x="11609" y="17016"/>
                </a:cubicBezTo>
                <a:cubicBezTo>
                  <a:pt x="11635" y="17025"/>
                  <a:pt x="11681" y="17016"/>
                  <a:pt x="11708" y="17016"/>
                </a:cubicBezTo>
                <a:cubicBezTo>
                  <a:pt x="11727" y="17072"/>
                  <a:pt x="11730" y="17024"/>
                  <a:pt x="11708" y="17090"/>
                </a:cubicBezTo>
                <a:cubicBezTo>
                  <a:pt x="11696" y="17125"/>
                  <a:pt x="11687" y="17181"/>
                  <a:pt x="11683" y="17214"/>
                </a:cubicBezTo>
                <a:cubicBezTo>
                  <a:pt x="11676" y="17278"/>
                  <a:pt x="11676" y="17310"/>
                  <a:pt x="11658" y="17363"/>
                </a:cubicBezTo>
                <a:cubicBezTo>
                  <a:pt x="11652" y="17382"/>
                  <a:pt x="11658" y="17418"/>
                  <a:pt x="11658" y="174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29080" y="5829480"/>
            <a:ext cx="606600" cy="607680"/>
          </a:xfrm>
          <a:custGeom>
            <a:avLst/>
            <a:gdLst/>
            <a:ahLst/>
            <a:rect l="l" t="t" r="r" b="b"/>
            <a:pathLst>
              <a:path w="1687" h="1688">
                <a:moveTo>
                  <a:pt x="14684" y="16495"/>
                </a:moveTo>
                <a:cubicBezTo>
                  <a:pt x="14601" y="16495"/>
                  <a:pt x="14519" y="16495"/>
                  <a:pt x="14436" y="16495"/>
                </a:cubicBezTo>
                <a:cubicBezTo>
                  <a:pt x="14425" y="16504"/>
                  <a:pt x="14394" y="16539"/>
                  <a:pt x="14362" y="16545"/>
                </a:cubicBezTo>
                <a:cubicBezTo>
                  <a:pt x="14307" y="16556"/>
                  <a:pt x="14311" y="16563"/>
                  <a:pt x="14263" y="16594"/>
                </a:cubicBezTo>
                <a:cubicBezTo>
                  <a:pt x="14245" y="16606"/>
                  <a:pt x="14208" y="16609"/>
                  <a:pt x="14188" y="16619"/>
                </a:cubicBezTo>
                <a:cubicBezTo>
                  <a:pt x="14173" y="16640"/>
                  <a:pt x="14178" y="16648"/>
                  <a:pt x="14163" y="16669"/>
                </a:cubicBezTo>
                <a:cubicBezTo>
                  <a:pt x="14135" y="16685"/>
                  <a:pt x="14092" y="16702"/>
                  <a:pt x="14064" y="16718"/>
                </a:cubicBezTo>
                <a:cubicBezTo>
                  <a:pt x="14049" y="16739"/>
                  <a:pt x="14054" y="16747"/>
                  <a:pt x="14039" y="16768"/>
                </a:cubicBezTo>
                <a:cubicBezTo>
                  <a:pt x="14019" y="16783"/>
                  <a:pt x="14010" y="16778"/>
                  <a:pt x="13990" y="16793"/>
                </a:cubicBezTo>
                <a:cubicBezTo>
                  <a:pt x="13981" y="16845"/>
                  <a:pt x="13986" y="16815"/>
                  <a:pt x="13965" y="16842"/>
                </a:cubicBezTo>
                <a:cubicBezTo>
                  <a:pt x="13955" y="16866"/>
                  <a:pt x="13950" y="16893"/>
                  <a:pt x="13940" y="16917"/>
                </a:cubicBezTo>
                <a:cubicBezTo>
                  <a:pt x="13919" y="16938"/>
                  <a:pt x="13911" y="16955"/>
                  <a:pt x="13891" y="16991"/>
                </a:cubicBezTo>
                <a:cubicBezTo>
                  <a:pt x="13870" y="17006"/>
                  <a:pt x="13862" y="17000"/>
                  <a:pt x="13841" y="17016"/>
                </a:cubicBezTo>
                <a:cubicBezTo>
                  <a:pt x="13833" y="17067"/>
                  <a:pt x="13836" y="17040"/>
                  <a:pt x="13816" y="17066"/>
                </a:cubicBezTo>
                <a:cubicBezTo>
                  <a:pt x="13797" y="17097"/>
                  <a:pt x="13798" y="17092"/>
                  <a:pt x="13791" y="17140"/>
                </a:cubicBezTo>
                <a:cubicBezTo>
                  <a:pt x="13778" y="17163"/>
                  <a:pt x="13774" y="17166"/>
                  <a:pt x="13767" y="17214"/>
                </a:cubicBezTo>
                <a:cubicBezTo>
                  <a:pt x="13758" y="17225"/>
                  <a:pt x="13723" y="17257"/>
                  <a:pt x="13717" y="17289"/>
                </a:cubicBezTo>
                <a:cubicBezTo>
                  <a:pt x="13703" y="17357"/>
                  <a:pt x="13717" y="17442"/>
                  <a:pt x="13717" y="17512"/>
                </a:cubicBezTo>
              </a:path>
              <a:path w="1687" h="1688">
                <a:moveTo>
                  <a:pt x="13469" y="16545"/>
                </a:moveTo>
                <a:cubicBezTo>
                  <a:pt x="13469" y="16512"/>
                  <a:pt x="13469" y="16479"/>
                  <a:pt x="13469" y="16446"/>
                </a:cubicBezTo>
                <a:cubicBezTo>
                  <a:pt x="13395" y="16464"/>
                  <a:pt x="13422" y="16490"/>
                  <a:pt x="13395" y="16545"/>
                </a:cubicBezTo>
                <a:cubicBezTo>
                  <a:pt x="13366" y="16604"/>
                  <a:pt x="13345" y="16622"/>
                  <a:pt x="13345" y="16694"/>
                </a:cubicBezTo>
                <a:cubicBezTo>
                  <a:pt x="13345" y="16723"/>
                  <a:pt x="13329" y="16805"/>
                  <a:pt x="13370" y="16818"/>
                </a:cubicBezTo>
                <a:cubicBezTo>
                  <a:pt x="13424" y="16835"/>
                  <a:pt x="13451" y="16817"/>
                  <a:pt x="13469" y="16793"/>
                </a:cubicBezTo>
                <a:cubicBezTo>
                  <a:pt x="13495" y="16759"/>
                  <a:pt x="13522" y="16702"/>
                  <a:pt x="13469" y="16669"/>
                </a:cubicBezTo>
                <a:cubicBezTo>
                  <a:pt x="13440" y="16651"/>
                  <a:pt x="13413" y="16680"/>
                  <a:pt x="13395" y="16694"/>
                </a:cubicBezTo>
              </a:path>
              <a:path w="1687" h="1688">
                <a:moveTo>
                  <a:pt x="13618" y="16644"/>
                </a:moveTo>
                <a:cubicBezTo>
                  <a:pt x="13625" y="16599"/>
                  <a:pt x="13624" y="16575"/>
                  <a:pt x="13667" y="16570"/>
                </a:cubicBezTo>
                <a:cubicBezTo>
                  <a:pt x="13729" y="16562"/>
                  <a:pt x="13713" y="16539"/>
                  <a:pt x="13767" y="16594"/>
                </a:cubicBezTo>
                <a:cubicBezTo>
                  <a:pt x="13793" y="16620"/>
                  <a:pt x="13809" y="16681"/>
                  <a:pt x="13791" y="16718"/>
                </a:cubicBezTo>
                <a:cubicBezTo>
                  <a:pt x="13777" y="16747"/>
                  <a:pt x="13762" y="16767"/>
                  <a:pt x="13742" y="16793"/>
                </a:cubicBezTo>
                <a:cubicBezTo>
                  <a:pt x="13704" y="16783"/>
                  <a:pt x="13673" y="16770"/>
                  <a:pt x="13643" y="16743"/>
                </a:cubicBezTo>
                <a:cubicBezTo>
                  <a:pt x="13612" y="16715"/>
                  <a:pt x="13618" y="16707"/>
                  <a:pt x="13618" y="16669"/>
                </a:cubicBezTo>
              </a:path>
              <a:path w="1687" h="1688">
                <a:moveTo>
                  <a:pt x="13915" y="16446"/>
                </a:moveTo>
                <a:cubicBezTo>
                  <a:pt x="13923" y="16423"/>
                  <a:pt x="13958" y="16407"/>
                  <a:pt x="13990" y="16396"/>
                </a:cubicBezTo>
                <a:cubicBezTo>
                  <a:pt x="14042" y="16379"/>
                  <a:pt x="14039" y="16440"/>
                  <a:pt x="14039" y="16470"/>
                </a:cubicBezTo>
                <a:cubicBezTo>
                  <a:pt x="14039" y="16506"/>
                  <a:pt x="14018" y="16542"/>
                  <a:pt x="13990" y="16545"/>
                </a:cubicBezTo>
                <a:cubicBezTo>
                  <a:pt x="13949" y="16550"/>
                  <a:pt x="13950" y="16551"/>
                  <a:pt x="13940" y="16520"/>
                </a:cubicBezTo>
              </a:path>
              <a:path w="1687" h="1688">
                <a:moveTo>
                  <a:pt x="12998" y="17760"/>
                </a:moveTo>
                <a:cubicBezTo>
                  <a:pt x="12998" y="17868"/>
                  <a:pt x="12998" y="17975"/>
                  <a:pt x="12998" y="180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97760" y="4722840"/>
            <a:ext cx="27792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21158" y="13345"/>
                </a:moveTo>
                <a:cubicBezTo>
                  <a:pt x="21225" y="13345"/>
                  <a:pt x="21120" y="13345"/>
                  <a:pt x="21109" y="13345"/>
                </a:cubicBezTo>
                <a:cubicBezTo>
                  <a:pt x="21011" y="13345"/>
                  <a:pt x="20928" y="13343"/>
                  <a:pt x="20836" y="13320"/>
                </a:cubicBezTo>
                <a:cubicBezTo>
                  <a:pt x="20776" y="13305"/>
                  <a:pt x="20661" y="13314"/>
                  <a:pt x="20638" y="13345"/>
                </a:cubicBezTo>
                <a:cubicBezTo>
                  <a:pt x="20594" y="13403"/>
                  <a:pt x="20552" y="13468"/>
                  <a:pt x="20538" y="13543"/>
                </a:cubicBezTo>
                <a:cubicBezTo>
                  <a:pt x="20524" y="13618"/>
                  <a:pt x="20495" y="13692"/>
                  <a:pt x="20489" y="13767"/>
                </a:cubicBezTo>
                <a:cubicBezTo>
                  <a:pt x="20489" y="13791"/>
                  <a:pt x="20489" y="13800"/>
                  <a:pt x="20489" y="13816"/>
                </a:cubicBezTo>
                <a:cubicBezTo>
                  <a:pt x="20456" y="13761"/>
                  <a:pt x="20464" y="13711"/>
                  <a:pt x="20464" y="13643"/>
                </a:cubicBezTo>
                <a:cubicBezTo>
                  <a:pt x="20464" y="13571"/>
                  <a:pt x="20454" y="13522"/>
                  <a:pt x="20414" y="13469"/>
                </a:cubicBezTo>
              </a:path>
              <a:path w="770" h="547">
                <a:moveTo>
                  <a:pt x="20811" y="13643"/>
                </a:moveTo>
                <a:cubicBezTo>
                  <a:pt x="20811" y="13609"/>
                  <a:pt x="20798" y="13562"/>
                  <a:pt x="20836" y="13543"/>
                </a:cubicBezTo>
                <a:cubicBezTo>
                  <a:pt x="20872" y="13525"/>
                  <a:pt x="20973" y="13543"/>
                  <a:pt x="21010" y="13543"/>
                </a:cubicBezTo>
                <a:cubicBezTo>
                  <a:pt x="21010" y="13601"/>
                  <a:pt x="21023" y="13649"/>
                  <a:pt x="20985" y="13692"/>
                </a:cubicBezTo>
                <a:cubicBezTo>
                  <a:pt x="20956" y="13724"/>
                  <a:pt x="20916" y="13776"/>
                  <a:pt x="20910" y="13791"/>
                </a:cubicBezTo>
                <a:cubicBezTo>
                  <a:pt x="20910" y="13819"/>
                  <a:pt x="20908" y="13830"/>
                  <a:pt x="20886" y="13841"/>
                </a:cubicBezTo>
                <a:cubicBezTo>
                  <a:pt x="20925" y="13851"/>
                  <a:pt x="20940" y="13866"/>
                  <a:pt x="20985" y="13866"/>
                </a:cubicBezTo>
                <a:cubicBezTo>
                  <a:pt x="21026" y="13866"/>
                  <a:pt x="21068" y="13866"/>
                  <a:pt x="21109" y="138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000" y="5614920"/>
            <a:ext cx="857520" cy="608040"/>
          </a:xfrm>
          <a:custGeom>
            <a:avLst/>
            <a:gdLst/>
            <a:ahLst/>
            <a:rect l="l" t="t" r="r" b="b"/>
            <a:pathLst>
              <a:path w="2382" h="1687">
                <a:moveTo>
                  <a:pt x="22051" y="15801"/>
                </a:moveTo>
                <a:cubicBezTo>
                  <a:pt x="22007" y="15801"/>
                  <a:pt x="21991" y="15816"/>
                  <a:pt x="21952" y="15825"/>
                </a:cubicBezTo>
                <a:cubicBezTo>
                  <a:pt x="21940" y="15860"/>
                  <a:pt x="21945" y="15850"/>
                  <a:pt x="21903" y="15850"/>
                </a:cubicBezTo>
                <a:cubicBezTo>
                  <a:pt x="21891" y="15885"/>
                  <a:pt x="21865" y="15877"/>
                  <a:pt x="21853" y="15925"/>
                </a:cubicBezTo>
                <a:cubicBezTo>
                  <a:pt x="21824" y="15932"/>
                  <a:pt x="21808" y="15942"/>
                  <a:pt x="21779" y="15949"/>
                </a:cubicBezTo>
                <a:cubicBezTo>
                  <a:pt x="21767" y="15997"/>
                  <a:pt x="21724" y="16006"/>
                  <a:pt x="21704" y="16049"/>
                </a:cubicBezTo>
                <a:cubicBezTo>
                  <a:pt x="21704" y="16057"/>
                  <a:pt x="21704" y="16065"/>
                  <a:pt x="21704" y="16073"/>
                </a:cubicBezTo>
                <a:cubicBezTo>
                  <a:pt x="21672" y="16084"/>
                  <a:pt x="21664" y="16107"/>
                  <a:pt x="21654" y="16148"/>
                </a:cubicBezTo>
                <a:cubicBezTo>
                  <a:pt x="21618" y="16161"/>
                  <a:pt x="21630" y="16178"/>
                  <a:pt x="21630" y="16222"/>
                </a:cubicBezTo>
                <a:cubicBezTo>
                  <a:pt x="21598" y="16233"/>
                  <a:pt x="21590" y="16256"/>
                  <a:pt x="21580" y="16297"/>
                </a:cubicBezTo>
                <a:cubicBezTo>
                  <a:pt x="21557" y="16304"/>
                  <a:pt x="21541" y="16339"/>
                  <a:pt x="21530" y="16371"/>
                </a:cubicBezTo>
                <a:cubicBezTo>
                  <a:pt x="21520" y="16400"/>
                  <a:pt x="21509" y="16441"/>
                  <a:pt x="21506" y="16470"/>
                </a:cubicBezTo>
                <a:cubicBezTo>
                  <a:pt x="21499" y="16531"/>
                  <a:pt x="21498" y="16567"/>
                  <a:pt x="21481" y="16619"/>
                </a:cubicBezTo>
                <a:cubicBezTo>
                  <a:pt x="21481" y="16627"/>
                  <a:pt x="21481" y="16636"/>
                  <a:pt x="21481" y="16644"/>
                </a:cubicBezTo>
              </a:path>
              <a:path w="2382" h="1687">
                <a:moveTo>
                  <a:pt x="20638" y="15825"/>
                </a:moveTo>
                <a:cubicBezTo>
                  <a:pt x="20629" y="15861"/>
                  <a:pt x="20595" y="15892"/>
                  <a:pt x="20588" y="15925"/>
                </a:cubicBezTo>
                <a:cubicBezTo>
                  <a:pt x="20576" y="15978"/>
                  <a:pt x="20579" y="16003"/>
                  <a:pt x="20563" y="16049"/>
                </a:cubicBezTo>
                <a:cubicBezTo>
                  <a:pt x="20563" y="16057"/>
                  <a:pt x="20563" y="16065"/>
                  <a:pt x="20563" y="16073"/>
                </a:cubicBezTo>
                <a:cubicBezTo>
                  <a:pt x="20640" y="16073"/>
                  <a:pt x="20697" y="16076"/>
                  <a:pt x="20762" y="16098"/>
                </a:cubicBezTo>
                <a:cubicBezTo>
                  <a:pt x="20802" y="16112"/>
                  <a:pt x="20825" y="16114"/>
                  <a:pt x="20836" y="16148"/>
                </a:cubicBezTo>
              </a:path>
              <a:path w="2382" h="1687">
                <a:moveTo>
                  <a:pt x="20712" y="15974"/>
                </a:moveTo>
                <a:cubicBezTo>
                  <a:pt x="20712" y="16021"/>
                  <a:pt x="20692" y="16053"/>
                  <a:pt x="20687" y="16098"/>
                </a:cubicBezTo>
                <a:cubicBezTo>
                  <a:pt x="20685" y="16122"/>
                  <a:pt x="20687" y="16149"/>
                  <a:pt x="20687" y="16173"/>
                </a:cubicBezTo>
              </a:path>
              <a:path w="2382" h="1687">
                <a:moveTo>
                  <a:pt x="21010" y="15925"/>
                </a:moveTo>
                <a:cubicBezTo>
                  <a:pt x="20976" y="15936"/>
                  <a:pt x="20980" y="15964"/>
                  <a:pt x="20960" y="15974"/>
                </a:cubicBezTo>
                <a:cubicBezTo>
                  <a:pt x="20935" y="15974"/>
                  <a:pt x="20927" y="15974"/>
                  <a:pt x="20935" y="15999"/>
                </a:cubicBezTo>
                <a:cubicBezTo>
                  <a:pt x="20940" y="16015"/>
                  <a:pt x="20958" y="16060"/>
                  <a:pt x="20985" y="16073"/>
                </a:cubicBezTo>
                <a:cubicBezTo>
                  <a:pt x="21006" y="16083"/>
                  <a:pt x="21079" y="16103"/>
                  <a:pt x="21059" y="16148"/>
                </a:cubicBezTo>
                <a:cubicBezTo>
                  <a:pt x="21039" y="16192"/>
                  <a:pt x="21000" y="16197"/>
                  <a:pt x="20960" y="16197"/>
                </a:cubicBezTo>
                <a:cubicBezTo>
                  <a:pt x="20913" y="16197"/>
                  <a:pt x="20910" y="16193"/>
                  <a:pt x="20861" y="16173"/>
                </a:cubicBezTo>
              </a:path>
              <a:path w="2382" h="1687">
                <a:moveTo>
                  <a:pt x="21134" y="15925"/>
                </a:moveTo>
                <a:cubicBezTo>
                  <a:pt x="21093" y="15925"/>
                  <a:pt x="21051" y="15925"/>
                  <a:pt x="21010" y="15925"/>
                </a:cubicBezTo>
              </a:path>
              <a:path w="2382" h="1687">
                <a:moveTo>
                  <a:pt x="21258" y="15949"/>
                </a:moveTo>
                <a:cubicBezTo>
                  <a:pt x="21321" y="15939"/>
                  <a:pt x="21295" y="15925"/>
                  <a:pt x="21357" y="15925"/>
                </a:cubicBezTo>
                <a:cubicBezTo>
                  <a:pt x="21398" y="15925"/>
                  <a:pt x="21370" y="15913"/>
                  <a:pt x="21406" y="15900"/>
                </a:cubicBezTo>
                <a:cubicBezTo>
                  <a:pt x="21438" y="15942"/>
                  <a:pt x="21442" y="15957"/>
                  <a:pt x="21406" y="15999"/>
                </a:cubicBezTo>
                <a:cubicBezTo>
                  <a:pt x="21384" y="16024"/>
                  <a:pt x="21347" y="16071"/>
                  <a:pt x="21307" y="16049"/>
                </a:cubicBezTo>
                <a:cubicBezTo>
                  <a:pt x="21273" y="16030"/>
                  <a:pt x="21282" y="16006"/>
                  <a:pt x="21282" y="15974"/>
                </a:cubicBezTo>
              </a:path>
              <a:path w="2382" h="1687">
                <a:moveTo>
                  <a:pt x="19720" y="17140"/>
                </a:moveTo>
                <a:cubicBezTo>
                  <a:pt x="19753" y="17157"/>
                  <a:pt x="19705" y="17206"/>
                  <a:pt x="19695" y="17264"/>
                </a:cubicBezTo>
                <a:cubicBezTo>
                  <a:pt x="19683" y="17334"/>
                  <a:pt x="19686" y="17395"/>
                  <a:pt x="19670" y="17462"/>
                </a:cubicBezTo>
                <a:cubicBezTo>
                  <a:pt x="19670" y="17470"/>
                  <a:pt x="19670" y="17479"/>
                  <a:pt x="19670" y="174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4356000"/>
            <a:ext cx="303120" cy="349200"/>
          </a:xfrm>
          <a:custGeom>
            <a:avLst/>
            <a:gdLst/>
            <a:ahLst/>
            <a:rect l="l" t="t" r="r" b="b"/>
            <a:pathLst>
              <a:path w="844" h="969">
                <a:moveTo>
                  <a:pt x="12080" y="12303"/>
                </a:moveTo>
                <a:cubicBezTo>
                  <a:pt x="12080" y="12311"/>
                  <a:pt x="12080" y="12320"/>
                  <a:pt x="12080" y="12328"/>
                </a:cubicBezTo>
                <a:cubicBezTo>
                  <a:pt x="12037" y="12328"/>
                  <a:pt x="12042" y="12318"/>
                  <a:pt x="12030" y="12353"/>
                </a:cubicBezTo>
                <a:cubicBezTo>
                  <a:pt x="11988" y="12353"/>
                  <a:pt x="11992" y="12343"/>
                  <a:pt x="11981" y="12378"/>
                </a:cubicBezTo>
                <a:cubicBezTo>
                  <a:pt x="11936" y="12378"/>
                  <a:pt x="11921" y="12398"/>
                  <a:pt x="11881" y="12402"/>
                </a:cubicBezTo>
                <a:cubicBezTo>
                  <a:pt x="11712" y="12420"/>
                  <a:pt x="11531" y="12402"/>
                  <a:pt x="11361" y="12402"/>
                </a:cubicBezTo>
                <a:cubicBezTo>
                  <a:pt x="11361" y="12378"/>
                  <a:pt x="11361" y="12370"/>
                  <a:pt x="11336" y="12378"/>
                </a:cubicBezTo>
              </a:path>
              <a:path w="844" h="969">
                <a:moveTo>
                  <a:pt x="11559" y="12774"/>
                </a:moveTo>
                <a:cubicBezTo>
                  <a:pt x="11568" y="12748"/>
                  <a:pt x="11578" y="12729"/>
                  <a:pt x="11609" y="12725"/>
                </a:cubicBezTo>
                <a:cubicBezTo>
                  <a:pt x="11644" y="12721"/>
                  <a:pt x="11683" y="12734"/>
                  <a:pt x="11708" y="12750"/>
                </a:cubicBezTo>
                <a:cubicBezTo>
                  <a:pt x="11751" y="12778"/>
                  <a:pt x="11757" y="12803"/>
                  <a:pt x="11757" y="12849"/>
                </a:cubicBezTo>
                <a:cubicBezTo>
                  <a:pt x="11757" y="12895"/>
                  <a:pt x="11729" y="12907"/>
                  <a:pt x="11708" y="12923"/>
                </a:cubicBezTo>
                <a:cubicBezTo>
                  <a:pt x="11668" y="12953"/>
                  <a:pt x="11667" y="12987"/>
                  <a:pt x="11633" y="12998"/>
                </a:cubicBezTo>
                <a:cubicBezTo>
                  <a:pt x="11659" y="13023"/>
                  <a:pt x="11719" y="13045"/>
                  <a:pt x="11733" y="13072"/>
                </a:cubicBezTo>
                <a:cubicBezTo>
                  <a:pt x="11755" y="13115"/>
                  <a:pt x="11725" y="13158"/>
                  <a:pt x="11708" y="13171"/>
                </a:cubicBezTo>
                <a:cubicBezTo>
                  <a:pt x="11667" y="13202"/>
                  <a:pt x="11635" y="13196"/>
                  <a:pt x="11584" y="13196"/>
                </a:cubicBezTo>
                <a:cubicBezTo>
                  <a:pt x="11576" y="13196"/>
                  <a:pt x="11567" y="13196"/>
                  <a:pt x="11559" y="13196"/>
                </a:cubicBezTo>
              </a:path>
              <a:path w="844" h="969">
                <a:moveTo>
                  <a:pt x="11881" y="13047"/>
                </a:moveTo>
                <a:cubicBezTo>
                  <a:pt x="11890" y="13020"/>
                  <a:pt x="11899" y="13002"/>
                  <a:pt x="11931" y="12998"/>
                </a:cubicBezTo>
                <a:cubicBezTo>
                  <a:pt x="11966" y="12994"/>
                  <a:pt x="12018" y="13006"/>
                  <a:pt x="12030" y="13047"/>
                </a:cubicBezTo>
                <a:cubicBezTo>
                  <a:pt x="12044" y="13098"/>
                  <a:pt x="12030" y="13179"/>
                  <a:pt x="12005" y="13221"/>
                </a:cubicBezTo>
                <a:cubicBezTo>
                  <a:pt x="11979" y="13264"/>
                  <a:pt x="11951" y="13271"/>
                  <a:pt x="11906" y="13271"/>
                </a:cubicBezTo>
                <a:cubicBezTo>
                  <a:pt x="11853" y="13271"/>
                  <a:pt x="11857" y="13238"/>
                  <a:pt x="11857" y="13196"/>
                </a:cubicBezTo>
                <a:cubicBezTo>
                  <a:pt x="11857" y="13155"/>
                  <a:pt x="11857" y="13113"/>
                  <a:pt x="11857" y="13072"/>
                </a:cubicBezTo>
              </a:path>
              <a:path w="844" h="969">
                <a:moveTo>
                  <a:pt x="12105" y="12898"/>
                </a:moveTo>
                <a:cubicBezTo>
                  <a:pt x="12105" y="12874"/>
                  <a:pt x="12105" y="12865"/>
                  <a:pt x="12105" y="12849"/>
                </a:cubicBezTo>
                <a:cubicBezTo>
                  <a:pt x="12144" y="12849"/>
                  <a:pt x="12174" y="12833"/>
                  <a:pt x="12179" y="12874"/>
                </a:cubicBezTo>
                <a:cubicBezTo>
                  <a:pt x="12185" y="12918"/>
                  <a:pt x="12171" y="12974"/>
                  <a:pt x="12129" y="12998"/>
                </a:cubicBezTo>
                <a:cubicBezTo>
                  <a:pt x="12095" y="13017"/>
                  <a:pt x="12086" y="12992"/>
                  <a:pt x="12080" y="129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36920" y="4971960"/>
            <a:ext cx="312840" cy="250920"/>
          </a:xfrm>
          <a:custGeom>
            <a:avLst/>
            <a:gdLst/>
            <a:ahLst/>
            <a:rect l="l" t="t" r="r" b="b"/>
            <a:pathLst>
              <a:path w="869" h="695">
                <a:moveTo>
                  <a:pt x="11112" y="14114"/>
                </a:moveTo>
                <a:cubicBezTo>
                  <a:pt x="11105" y="14091"/>
                  <a:pt x="11070" y="14075"/>
                  <a:pt x="11038" y="14064"/>
                </a:cubicBezTo>
                <a:cubicBezTo>
                  <a:pt x="11005" y="14053"/>
                  <a:pt x="10941" y="14044"/>
                  <a:pt x="10914" y="14039"/>
                </a:cubicBezTo>
                <a:cubicBezTo>
                  <a:pt x="10799" y="14016"/>
                  <a:pt x="10649" y="14054"/>
                  <a:pt x="10567" y="14015"/>
                </a:cubicBezTo>
                <a:cubicBezTo>
                  <a:pt x="10559" y="14015"/>
                  <a:pt x="10550" y="14015"/>
                  <a:pt x="10542" y="14015"/>
                </a:cubicBezTo>
                <a:cubicBezTo>
                  <a:pt x="10506" y="14027"/>
                  <a:pt x="10508" y="14050"/>
                  <a:pt x="10492" y="14089"/>
                </a:cubicBezTo>
                <a:cubicBezTo>
                  <a:pt x="10465" y="14154"/>
                  <a:pt x="10446" y="14216"/>
                  <a:pt x="10443" y="14288"/>
                </a:cubicBezTo>
                <a:cubicBezTo>
                  <a:pt x="10439" y="14391"/>
                  <a:pt x="10423" y="14484"/>
                  <a:pt x="10418" y="14585"/>
                </a:cubicBezTo>
                <a:cubicBezTo>
                  <a:pt x="10416" y="14633"/>
                  <a:pt x="10402" y="14664"/>
                  <a:pt x="10393" y="14709"/>
                </a:cubicBezTo>
                <a:cubicBezTo>
                  <a:pt x="10362" y="14658"/>
                  <a:pt x="10349" y="14596"/>
                  <a:pt x="10319" y="14536"/>
                </a:cubicBezTo>
                <a:cubicBezTo>
                  <a:pt x="10303" y="14504"/>
                  <a:pt x="10294" y="14404"/>
                  <a:pt x="10269" y="14387"/>
                </a:cubicBezTo>
                <a:cubicBezTo>
                  <a:pt x="10244" y="14387"/>
                  <a:pt x="10236" y="14387"/>
                  <a:pt x="10244" y="14362"/>
                </a:cubicBezTo>
              </a:path>
              <a:path w="869" h="695">
                <a:moveTo>
                  <a:pt x="10716" y="14288"/>
                </a:moveTo>
                <a:cubicBezTo>
                  <a:pt x="10691" y="14288"/>
                  <a:pt x="10683" y="14288"/>
                  <a:pt x="10666" y="14288"/>
                </a:cubicBezTo>
                <a:cubicBezTo>
                  <a:pt x="10676" y="14259"/>
                  <a:pt x="10722" y="14228"/>
                  <a:pt x="10765" y="14213"/>
                </a:cubicBezTo>
                <a:cubicBezTo>
                  <a:pt x="10813" y="14197"/>
                  <a:pt x="10904" y="14207"/>
                  <a:pt x="10939" y="14238"/>
                </a:cubicBezTo>
                <a:cubicBezTo>
                  <a:pt x="10960" y="14256"/>
                  <a:pt x="10981" y="14307"/>
                  <a:pt x="10964" y="14337"/>
                </a:cubicBezTo>
                <a:cubicBezTo>
                  <a:pt x="10936" y="14387"/>
                  <a:pt x="10871" y="14402"/>
                  <a:pt x="10864" y="14461"/>
                </a:cubicBezTo>
                <a:cubicBezTo>
                  <a:pt x="10857" y="14524"/>
                  <a:pt x="10917" y="14494"/>
                  <a:pt x="10939" y="14536"/>
                </a:cubicBezTo>
                <a:cubicBezTo>
                  <a:pt x="10955" y="14568"/>
                  <a:pt x="10952" y="14550"/>
                  <a:pt x="10964" y="14585"/>
                </a:cubicBezTo>
                <a:cubicBezTo>
                  <a:pt x="10955" y="14613"/>
                  <a:pt x="10930" y="14632"/>
                  <a:pt x="10889" y="14635"/>
                </a:cubicBezTo>
                <a:cubicBezTo>
                  <a:pt x="10816" y="14640"/>
                  <a:pt x="10740" y="14635"/>
                  <a:pt x="10666" y="146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94560" y="4829040"/>
            <a:ext cx="9360" cy="1256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6793" y="13618"/>
                </a:moveTo>
                <a:cubicBezTo>
                  <a:pt x="16814" y="13628"/>
                  <a:pt x="16793" y="13660"/>
                  <a:pt x="16793" y="13717"/>
                </a:cubicBezTo>
                <a:cubicBezTo>
                  <a:pt x="16793" y="13800"/>
                  <a:pt x="16793" y="13882"/>
                  <a:pt x="16793" y="139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64480" y="5730840"/>
            <a:ext cx="179280" cy="17928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7264" y="16173"/>
                </a:moveTo>
                <a:cubicBezTo>
                  <a:pt x="17272" y="16173"/>
                  <a:pt x="17281" y="16173"/>
                  <a:pt x="17289" y="16173"/>
                </a:cubicBezTo>
                <a:cubicBezTo>
                  <a:pt x="17302" y="16135"/>
                  <a:pt x="17318" y="16148"/>
                  <a:pt x="17363" y="16148"/>
                </a:cubicBezTo>
                <a:cubicBezTo>
                  <a:pt x="17468" y="16148"/>
                  <a:pt x="17570" y="16153"/>
                  <a:pt x="17661" y="16123"/>
                </a:cubicBezTo>
                <a:cubicBezTo>
                  <a:pt x="17690" y="16113"/>
                  <a:pt x="17745" y="16118"/>
                  <a:pt x="17760" y="16148"/>
                </a:cubicBezTo>
                <a:cubicBezTo>
                  <a:pt x="17787" y="16203"/>
                  <a:pt x="17743" y="16305"/>
                  <a:pt x="17735" y="16346"/>
                </a:cubicBezTo>
                <a:cubicBezTo>
                  <a:pt x="17723" y="16405"/>
                  <a:pt x="17716" y="16464"/>
                  <a:pt x="17711" y="16520"/>
                </a:cubicBezTo>
                <a:cubicBezTo>
                  <a:pt x="17707" y="16572"/>
                  <a:pt x="17730" y="16604"/>
                  <a:pt x="17686" y="166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05560" y="5052960"/>
            <a:ext cx="223920" cy="160560"/>
          </a:xfrm>
          <a:custGeom>
            <a:avLst/>
            <a:gdLst/>
            <a:ahLst/>
            <a:rect l="l" t="t" r="r" b="b"/>
            <a:pathLst>
              <a:path w="621" h="447">
                <a:moveTo>
                  <a:pt x="13791" y="14337"/>
                </a:moveTo>
                <a:cubicBezTo>
                  <a:pt x="13783" y="14337"/>
                  <a:pt x="13775" y="14337"/>
                  <a:pt x="13767" y="14337"/>
                </a:cubicBezTo>
                <a:cubicBezTo>
                  <a:pt x="13772" y="14321"/>
                  <a:pt x="13789" y="14276"/>
                  <a:pt x="13816" y="14263"/>
                </a:cubicBezTo>
                <a:cubicBezTo>
                  <a:pt x="13858" y="14242"/>
                  <a:pt x="13887" y="14238"/>
                  <a:pt x="13940" y="14238"/>
                </a:cubicBezTo>
                <a:cubicBezTo>
                  <a:pt x="13985" y="14238"/>
                  <a:pt x="14011" y="14236"/>
                  <a:pt x="14015" y="14288"/>
                </a:cubicBezTo>
                <a:cubicBezTo>
                  <a:pt x="14020" y="14355"/>
                  <a:pt x="14019" y="14407"/>
                  <a:pt x="13990" y="14461"/>
                </a:cubicBezTo>
                <a:cubicBezTo>
                  <a:pt x="13966" y="14505"/>
                  <a:pt x="13909" y="14542"/>
                  <a:pt x="13891" y="14585"/>
                </a:cubicBezTo>
                <a:cubicBezTo>
                  <a:pt x="13891" y="14593"/>
                  <a:pt x="13891" y="14602"/>
                  <a:pt x="13891" y="14610"/>
                </a:cubicBezTo>
                <a:cubicBezTo>
                  <a:pt x="14007" y="14610"/>
                  <a:pt x="14214" y="14569"/>
                  <a:pt x="14312" y="14635"/>
                </a:cubicBezTo>
                <a:cubicBezTo>
                  <a:pt x="14343" y="14656"/>
                  <a:pt x="14356" y="14662"/>
                  <a:pt x="14387" y="146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4581360"/>
          <a:ext cx="4211640" cy="2070360"/>
        </p:xfrm>
        <a:graphic>
          <a:graphicData uri="http://schemas.openxmlformats.org/drawingml/2006/table">
            <a:tbl>
              <a:tblPr/>
              <a:tblGrid>
                <a:gridCol w="1052640"/>
                <a:gridCol w="1054080"/>
                <a:gridCol w="1052280"/>
                <a:gridCol w="105264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384200" y="5126040"/>
            <a:ext cx="420840" cy="1455840"/>
          </a:xfrm>
          <a:custGeom>
            <a:avLst/>
            <a:gdLst/>
            <a:ahLst/>
            <a:rect l="l" t="t" r="r" b="b"/>
            <a:pathLst>
              <a:path w="1167" h="4044">
                <a:moveTo>
                  <a:pt x="4291" y="14238"/>
                </a:moveTo>
                <a:cubicBezTo>
                  <a:pt x="4329" y="14251"/>
                  <a:pt x="4316" y="14267"/>
                  <a:pt x="4316" y="14312"/>
                </a:cubicBezTo>
                <a:cubicBezTo>
                  <a:pt x="4316" y="14420"/>
                  <a:pt x="4316" y="14527"/>
                  <a:pt x="4316" y="14635"/>
                </a:cubicBezTo>
              </a:path>
              <a:path w="1167" h="4044">
                <a:moveTo>
                  <a:pt x="4638" y="14784"/>
                </a:moveTo>
                <a:cubicBezTo>
                  <a:pt x="4621" y="14818"/>
                  <a:pt x="4594" y="14769"/>
                  <a:pt x="4539" y="14759"/>
                </a:cubicBezTo>
                <a:cubicBezTo>
                  <a:pt x="4449" y="14743"/>
                  <a:pt x="4342" y="14758"/>
                  <a:pt x="4266" y="14784"/>
                </a:cubicBezTo>
                <a:cubicBezTo>
                  <a:pt x="4258" y="14784"/>
                  <a:pt x="4250" y="14784"/>
                  <a:pt x="4242" y="14784"/>
                </a:cubicBezTo>
              </a:path>
              <a:path w="1167" h="4044">
                <a:moveTo>
                  <a:pt x="4316" y="15007"/>
                </a:moveTo>
                <a:cubicBezTo>
                  <a:pt x="4316" y="14936"/>
                  <a:pt x="4335" y="14949"/>
                  <a:pt x="4390" y="14908"/>
                </a:cubicBezTo>
                <a:cubicBezTo>
                  <a:pt x="4419" y="14887"/>
                  <a:pt x="4471" y="14834"/>
                  <a:pt x="4514" y="14858"/>
                </a:cubicBezTo>
                <a:cubicBezTo>
                  <a:pt x="4578" y="14894"/>
                  <a:pt x="4509" y="15012"/>
                  <a:pt x="4490" y="15056"/>
                </a:cubicBezTo>
                <a:cubicBezTo>
                  <a:pt x="4459" y="15128"/>
                  <a:pt x="4421" y="15175"/>
                  <a:pt x="4366" y="15230"/>
                </a:cubicBezTo>
                <a:cubicBezTo>
                  <a:pt x="4338" y="15259"/>
                  <a:pt x="4325" y="15268"/>
                  <a:pt x="4316" y="15304"/>
                </a:cubicBezTo>
                <a:cubicBezTo>
                  <a:pt x="4357" y="15294"/>
                  <a:pt x="4402" y="15263"/>
                  <a:pt x="4440" y="15255"/>
                </a:cubicBezTo>
                <a:cubicBezTo>
                  <a:pt x="4486" y="15246"/>
                  <a:pt x="4544" y="15235"/>
                  <a:pt x="4589" y="15230"/>
                </a:cubicBezTo>
                <a:cubicBezTo>
                  <a:pt x="4630" y="15226"/>
                  <a:pt x="4628" y="15223"/>
                  <a:pt x="4638" y="15255"/>
                </a:cubicBezTo>
              </a:path>
              <a:path w="1167" h="4044">
                <a:moveTo>
                  <a:pt x="4887" y="15652"/>
                </a:moveTo>
                <a:cubicBezTo>
                  <a:pt x="4728" y="15652"/>
                  <a:pt x="4559" y="15648"/>
                  <a:pt x="4415" y="15677"/>
                </a:cubicBezTo>
                <a:cubicBezTo>
                  <a:pt x="4377" y="15685"/>
                  <a:pt x="4314" y="15656"/>
                  <a:pt x="4291" y="15701"/>
                </a:cubicBezTo>
                <a:cubicBezTo>
                  <a:pt x="4272" y="15739"/>
                  <a:pt x="4249" y="15803"/>
                  <a:pt x="4242" y="15850"/>
                </a:cubicBezTo>
                <a:cubicBezTo>
                  <a:pt x="4228" y="15948"/>
                  <a:pt x="4230" y="16051"/>
                  <a:pt x="4217" y="16148"/>
                </a:cubicBezTo>
                <a:cubicBezTo>
                  <a:pt x="4209" y="16207"/>
                  <a:pt x="4217" y="16222"/>
                  <a:pt x="4167" y="16247"/>
                </a:cubicBezTo>
                <a:cubicBezTo>
                  <a:pt x="4150" y="16164"/>
                  <a:pt x="4109" y="16098"/>
                  <a:pt x="4068" y="16024"/>
                </a:cubicBezTo>
                <a:cubicBezTo>
                  <a:pt x="4037" y="15966"/>
                  <a:pt x="4015" y="15922"/>
                  <a:pt x="3969" y="15875"/>
                </a:cubicBezTo>
              </a:path>
              <a:path w="1167" h="4044">
                <a:moveTo>
                  <a:pt x="4614" y="15825"/>
                </a:moveTo>
                <a:cubicBezTo>
                  <a:pt x="4577" y="15807"/>
                  <a:pt x="4624" y="15779"/>
                  <a:pt x="4663" y="15776"/>
                </a:cubicBezTo>
                <a:cubicBezTo>
                  <a:pt x="4704" y="15773"/>
                  <a:pt x="4746" y="15776"/>
                  <a:pt x="4787" y="15776"/>
                </a:cubicBezTo>
                <a:cubicBezTo>
                  <a:pt x="4787" y="15831"/>
                  <a:pt x="4789" y="15867"/>
                  <a:pt x="4738" y="15900"/>
                </a:cubicBezTo>
                <a:cubicBezTo>
                  <a:pt x="4688" y="15932"/>
                  <a:pt x="4656" y="15956"/>
                  <a:pt x="4614" y="15999"/>
                </a:cubicBezTo>
                <a:cubicBezTo>
                  <a:pt x="4653" y="16023"/>
                  <a:pt x="4713" y="16037"/>
                  <a:pt x="4762" y="16049"/>
                </a:cubicBezTo>
                <a:cubicBezTo>
                  <a:pt x="4770" y="16049"/>
                  <a:pt x="4779" y="16049"/>
                  <a:pt x="4787" y="16049"/>
                </a:cubicBezTo>
                <a:cubicBezTo>
                  <a:pt x="4778" y="16085"/>
                  <a:pt x="4749" y="16125"/>
                  <a:pt x="4713" y="16148"/>
                </a:cubicBezTo>
                <a:cubicBezTo>
                  <a:pt x="4662" y="16181"/>
                  <a:pt x="4622" y="16173"/>
                  <a:pt x="4564" y="16173"/>
                </a:cubicBezTo>
              </a:path>
              <a:path w="1167" h="4044">
                <a:moveTo>
                  <a:pt x="5011" y="16396"/>
                </a:moveTo>
                <a:cubicBezTo>
                  <a:pt x="5001" y="16365"/>
                  <a:pt x="4956" y="16357"/>
                  <a:pt x="4911" y="16371"/>
                </a:cubicBezTo>
                <a:cubicBezTo>
                  <a:pt x="4819" y="16398"/>
                  <a:pt x="4737" y="16396"/>
                  <a:pt x="4638" y="16396"/>
                </a:cubicBezTo>
                <a:cubicBezTo>
                  <a:pt x="4559" y="16396"/>
                  <a:pt x="4494" y="16421"/>
                  <a:pt x="4415" y="16421"/>
                </a:cubicBezTo>
                <a:cubicBezTo>
                  <a:pt x="4390" y="16421"/>
                  <a:pt x="4366" y="16421"/>
                  <a:pt x="4341" y="16421"/>
                </a:cubicBezTo>
              </a:path>
              <a:path w="1167" h="4044">
                <a:moveTo>
                  <a:pt x="4539" y="16669"/>
                </a:moveTo>
                <a:cubicBezTo>
                  <a:pt x="4516" y="16646"/>
                  <a:pt x="4508" y="16642"/>
                  <a:pt x="4514" y="16619"/>
                </a:cubicBezTo>
                <a:cubicBezTo>
                  <a:pt x="4547" y="16594"/>
                  <a:pt x="4577" y="16569"/>
                  <a:pt x="4614" y="16545"/>
                </a:cubicBezTo>
                <a:cubicBezTo>
                  <a:pt x="4662" y="16514"/>
                  <a:pt x="4683" y="16520"/>
                  <a:pt x="4738" y="16520"/>
                </a:cubicBezTo>
                <a:cubicBezTo>
                  <a:pt x="4738" y="16569"/>
                  <a:pt x="4752" y="16630"/>
                  <a:pt x="4713" y="16669"/>
                </a:cubicBezTo>
                <a:cubicBezTo>
                  <a:pt x="4678" y="16704"/>
                  <a:pt x="4612" y="16741"/>
                  <a:pt x="4589" y="16793"/>
                </a:cubicBezTo>
                <a:cubicBezTo>
                  <a:pt x="4589" y="16801"/>
                  <a:pt x="4589" y="16810"/>
                  <a:pt x="4589" y="16818"/>
                </a:cubicBezTo>
                <a:cubicBezTo>
                  <a:pt x="4669" y="16818"/>
                  <a:pt x="4708" y="16783"/>
                  <a:pt x="4787" y="16768"/>
                </a:cubicBezTo>
                <a:cubicBezTo>
                  <a:pt x="4839" y="16768"/>
                  <a:pt x="4857" y="16767"/>
                  <a:pt x="4887" y="16743"/>
                </a:cubicBezTo>
              </a:path>
              <a:path w="1167" h="4044">
                <a:moveTo>
                  <a:pt x="4390" y="17165"/>
                </a:moveTo>
                <a:cubicBezTo>
                  <a:pt x="4390" y="17264"/>
                  <a:pt x="4390" y="17363"/>
                  <a:pt x="4390" y="17462"/>
                </a:cubicBezTo>
              </a:path>
              <a:path w="1167" h="4044">
                <a:moveTo>
                  <a:pt x="4837" y="17711"/>
                </a:moveTo>
                <a:cubicBezTo>
                  <a:pt x="4784" y="17711"/>
                  <a:pt x="4763" y="17695"/>
                  <a:pt x="4713" y="17686"/>
                </a:cubicBezTo>
                <a:cubicBezTo>
                  <a:pt x="4527" y="17653"/>
                  <a:pt x="4296" y="17683"/>
                  <a:pt x="4118" y="17711"/>
                </a:cubicBezTo>
                <a:cubicBezTo>
                  <a:pt x="4071" y="17718"/>
                  <a:pt x="4059" y="17725"/>
                  <a:pt x="4018" y="17735"/>
                </a:cubicBezTo>
              </a:path>
              <a:path w="1167" h="4044">
                <a:moveTo>
                  <a:pt x="4762" y="17859"/>
                </a:moveTo>
                <a:cubicBezTo>
                  <a:pt x="4725" y="17831"/>
                  <a:pt x="4710" y="17835"/>
                  <a:pt x="4663" y="17835"/>
                </a:cubicBezTo>
                <a:cubicBezTo>
                  <a:pt x="4582" y="17835"/>
                  <a:pt x="4509" y="17846"/>
                  <a:pt x="4440" y="17859"/>
                </a:cubicBezTo>
                <a:cubicBezTo>
                  <a:pt x="4356" y="17875"/>
                  <a:pt x="4253" y="17859"/>
                  <a:pt x="4167" y="17859"/>
                </a:cubicBezTo>
                <a:cubicBezTo>
                  <a:pt x="4167" y="17905"/>
                  <a:pt x="4147" y="17918"/>
                  <a:pt x="4142" y="17959"/>
                </a:cubicBezTo>
                <a:cubicBezTo>
                  <a:pt x="4137" y="18002"/>
                  <a:pt x="4134" y="18044"/>
                  <a:pt x="4118" y="18083"/>
                </a:cubicBezTo>
                <a:cubicBezTo>
                  <a:pt x="4101" y="18125"/>
                  <a:pt x="4110" y="18197"/>
                  <a:pt x="4093" y="18231"/>
                </a:cubicBezTo>
                <a:cubicBezTo>
                  <a:pt x="4070" y="18254"/>
                  <a:pt x="4062" y="18258"/>
                  <a:pt x="4068" y="18281"/>
                </a:cubicBezTo>
                <a:cubicBezTo>
                  <a:pt x="3998" y="18281"/>
                  <a:pt x="4024" y="18257"/>
                  <a:pt x="3994" y="18207"/>
                </a:cubicBezTo>
                <a:cubicBezTo>
                  <a:pt x="3964" y="18157"/>
                  <a:pt x="3909" y="18140"/>
                  <a:pt x="3894" y="18083"/>
                </a:cubicBezTo>
                <a:cubicBezTo>
                  <a:pt x="3870" y="18083"/>
                  <a:pt x="3861" y="18083"/>
                  <a:pt x="3845" y="18083"/>
                </a:cubicBezTo>
              </a:path>
              <a:path w="1167" h="4044">
                <a:moveTo>
                  <a:pt x="4539" y="18008"/>
                </a:moveTo>
                <a:cubicBezTo>
                  <a:pt x="4496" y="17951"/>
                  <a:pt x="4524" y="17964"/>
                  <a:pt x="4539" y="17934"/>
                </a:cubicBezTo>
                <a:cubicBezTo>
                  <a:pt x="4558" y="17896"/>
                  <a:pt x="4581" y="17889"/>
                  <a:pt x="4638" y="17884"/>
                </a:cubicBezTo>
                <a:cubicBezTo>
                  <a:pt x="4663" y="17884"/>
                  <a:pt x="4671" y="17884"/>
                  <a:pt x="4688" y="17884"/>
                </a:cubicBezTo>
                <a:cubicBezTo>
                  <a:pt x="4688" y="17930"/>
                  <a:pt x="4694" y="17948"/>
                  <a:pt x="4663" y="17983"/>
                </a:cubicBezTo>
                <a:cubicBezTo>
                  <a:pt x="4637" y="18012"/>
                  <a:pt x="4580" y="18048"/>
                  <a:pt x="4564" y="18083"/>
                </a:cubicBezTo>
                <a:cubicBezTo>
                  <a:pt x="4564" y="18091"/>
                  <a:pt x="4564" y="18099"/>
                  <a:pt x="4564" y="18107"/>
                </a:cubicBezTo>
                <a:cubicBezTo>
                  <a:pt x="4622" y="18107"/>
                  <a:pt x="4680" y="18107"/>
                  <a:pt x="4738" y="18107"/>
                </a:cubicBezTo>
                <a:cubicBezTo>
                  <a:pt x="4719" y="18145"/>
                  <a:pt x="4664" y="18187"/>
                  <a:pt x="4614" y="18207"/>
                </a:cubicBezTo>
                <a:cubicBezTo>
                  <a:pt x="4547" y="18229"/>
                  <a:pt x="4529" y="18233"/>
                  <a:pt x="4490" y="18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57280" y="5126040"/>
            <a:ext cx="401760" cy="938160"/>
          </a:xfrm>
          <a:custGeom>
            <a:avLst/>
            <a:gdLst/>
            <a:ahLst/>
            <a:rect l="l" t="t" r="r" b="b"/>
            <a:pathLst>
              <a:path w="1118" h="2605">
                <a:moveTo>
                  <a:pt x="7144" y="14362"/>
                </a:moveTo>
                <a:cubicBezTo>
                  <a:pt x="7144" y="14329"/>
                  <a:pt x="7144" y="14296"/>
                  <a:pt x="7144" y="14263"/>
                </a:cubicBezTo>
                <a:cubicBezTo>
                  <a:pt x="7144" y="14200"/>
                  <a:pt x="7120" y="14400"/>
                  <a:pt x="7119" y="14412"/>
                </a:cubicBezTo>
                <a:cubicBezTo>
                  <a:pt x="7110" y="14488"/>
                  <a:pt x="7118" y="14538"/>
                  <a:pt x="7094" y="14610"/>
                </a:cubicBezTo>
              </a:path>
              <a:path w="1118" h="2605">
                <a:moveTo>
                  <a:pt x="7565" y="14833"/>
                </a:moveTo>
                <a:cubicBezTo>
                  <a:pt x="7306" y="14833"/>
                  <a:pt x="7019" y="14800"/>
                  <a:pt x="6772" y="14858"/>
                </a:cubicBezTo>
                <a:cubicBezTo>
                  <a:pt x="6742" y="14865"/>
                  <a:pt x="6727" y="14875"/>
                  <a:pt x="6697" y="14883"/>
                </a:cubicBezTo>
              </a:path>
              <a:path w="1118" h="2605">
                <a:moveTo>
                  <a:pt x="7590" y="15032"/>
                </a:moveTo>
                <a:cubicBezTo>
                  <a:pt x="7493" y="15032"/>
                  <a:pt x="7411" y="15021"/>
                  <a:pt x="7317" y="15007"/>
                </a:cubicBezTo>
                <a:cubicBezTo>
                  <a:pt x="7265" y="14999"/>
                  <a:pt x="7166" y="14971"/>
                  <a:pt x="7119" y="14982"/>
                </a:cubicBezTo>
                <a:cubicBezTo>
                  <a:pt x="7066" y="14994"/>
                  <a:pt x="7050" y="15007"/>
                  <a:pt x="6995" y="15007"/>
                </a:cubicBezTo>
                <a:cubicBezTo>
                  <a:pt x="6958" y="15007"/>
                  <a:pt x="6958" y="15050"/>
                  <a:pt x="6945" y="15081"/>
                </a:cubicBezTo>
                <a:cubicBezTo>
                  <a:pt x="6914" y="15155"/>
                  <a:pt x="6904" y="15228"/>
                  <a:pt x="6871" y="15304"/>
                </a:cubicBezTo>
                <a:cubicBezTo>
                  <a:pt x="6844" y="15368"/>
                  <a:pt x="6822" y="15446"/>
                  <a:pt x="6796" y="15503"/>
                </a:cubicBezTo>
                <a:cubicBezTo>
                  <a:pt x="6754" y="15596"/>
                  <a:pt x="6727" y="15467"/>
                  <a:pt x="6722" y="15453"/>
                </a:cubicBezTo>
                <a:cubicBezTo>
                  <a:pt x="6700" y="15393"/>
                  <a:pt x="6641" y="15327"/>
                  <a:pt x="6598" y="15280"/>
                </a:cubicBezTo>
                <a:cubicBezTo>
                  <a:pt x="6575" y="15257"/>
                  <a:pt x="6571" y="15249"/>
                  <a:pt x="6548" y="15255"/>
                </a:cubicBezTo>
              </a:path>
              <a:path w="1118" h="2605">
                <a:moveTo>
                  <a:pt x="7243" y="15230"/>
                </a:moveTo>
                <a:cubicBezTo>
                  <a:pt x="7231" y="15226"/>
                  <a:pt x="7188" y="15179"/>
                  <a:pt x="7218" y="15156"/>
                </a:cubicBezTo>
                <a:cubicBezTo>
                  <a:pt x="7250" y="15131"/>
                  <a:pt x="7298" y="15131"/>
                  <a:pt x="7342" y="15131"/>
                </a:cubicBezTo>
                <a:cubicBezTo>
                  <a:pt x="7367" y="15131"/>
                  <a:pt x="7375" y="15131"/>
                  <a:pt x="7392" y="15131"/>
                </a:cubicBezTo>
                <a:cubicBezTo>
                  <a:pt x="7392" y="15196"/>
                  <a:pt x="7388" y="15231"/>
                  <a:pt x="7342" y="15280"/>
                </a:cubicBezTo>
                <a:cubicBezTo>
                  <a:pt x="7302" y="15323"/>
                  <a:pt x="7259" y="15363"/>
                  <a:pt x="7218" y="15404"/>
                </a:cubicBezTo>
                <a:cubicBezTo>
                  <a:pt x="7278" y="15404"/>
                  <a:pt x="7319" y="15389"/>
                  <a:pt x="7367" y="15379"/>
                </a:cubicBezTo>
                <a:cubicBezTo>
                  <a:pt x="7395" y="15373"/>
                  <a:pt x="7436" y="15379"/>
                  <a:pt x="7466" y="15379"/>
                </a:cubicBezTo>
              </a:path>
              <a:path w="1118" h="2605">
                <a:moveTo>
                  <a:pt x="7342" y="15652"/>
                </a:moveTo>
                <a:cubicBezTo>
                  <a:pt x="7300" y="15666"/>
                  <a:pt x="7317" y="15700"/>
                  <a:pt x="7317" y="15751"/>
                </a:cubicBezTo>
                <a:cubicBezTo>
                  <a:pt x="7317" y="15817"/>
                  <a:pt x="7317" y="15883"/>
                  <a:pt x="7317" y="15949"/>
                </a:cubicBezTo>
              </a:path>
              <a:path w="1118" h="2605">
                <a:moveTo>
                  <a:pt x="7665" y="16098"/>
                </a:moveTo>
                <a:cubicBezTo>
                  <a:pt x="7529" y="16098"/>
                  <a:pt x="7397" y="16089"/>
                  <a:pt x="7268" y="16073"/>
                </a:cubicBezTo>
                <a:cubicBezTo>
                  <a:pt x="7188" y="16063"/>
                  <a:pt x="7128" y="16069"/>
                  <a:pt x="7069" y="16123"/>
                </a:cubicBezTo>
                <a:cubicBezTo>
                  <a:pt x="7061" y="16131"/>
                  <a:pt x="7053" y="16140"/>
                  <a:pt x="7045" y="16148"/>
                </a:cubicBezTo>
              </a:path>
              <a:path w="1118" h="2605">
                <a:moveTo>
                  <a:pt x="7640" y="16272"/>
                </a:moveTo>
                <a:cubicBezTo>
                  <a:pt x="7665" y="16272"/>
                  <a:pt x="7673" y="16272"/>
                  <a:pt x="7665" y="16297"/>
                </a:cubicBezTo>
                <a:cubicBezTo>
                  <a:pt x="7584" y="16297"/>
                  <a:pt x="7205" y="16247"/>
                  <a:pt x="7169" y="16321"/>
                </a:cubicBezTo>
                <a:cubicBezTo>
                  <a:pt x="7148" y="16363"/>
                  <a:pt x="7145" y="16450"/>
                  <a:pt x="7144" y="16495"/>
                </a:cubicBezTo>
                <a:cubicBezTo>
                  <a:pt x="7141" y="16584"/>
                  <a:pt x="7129" y="16712"/>
                  <a:pt x="7094" y="16793"/>
                </a:cubicBezTo>
                <a:cubicBezTo>
                  <a:pt x="7061" y="16869"/>
                  <a:pt x="7007" y="16831"/>
                  <a:pt x="6970" y="16793"/>
                </a:cubicBezTo>
                <a:cubicBezTo>
                  <a:pt x="6927" y="16749"/>
                  <a:pt x="6869" y="16676"/>
                  <a:pt x="6846" y="16619"/>
                </a:cubicBezTo>
                <a:cubicBezTo>
                  <a:pt x="6846" y="16594"/>
                  <a:pt x="6846" y="16586"/>
                  <a:pt x="6846" y="16570"/>
                </a:cubicBezTo>
              </a:path>
              <a:path w="1118" h="2605">
                <a:moveTo>
                  <a:pt x="7417" y="16545"/>
                </a:moveTo>
                <a:cubicBezTo>
                  <a:pt x="7385" y="16503"/>
                  <a:pt x="7380" y="16488"/>
                  <a:pt x="7417" y="16446"/>
                </a:cubicBezTo>
                <a:cubicBezTo>
                  <a:pt x="7439" y="16421"/>
                  <a:pt x="7476" y="16374"/>
                  <a:pt x="7516" y="16396"/>
                </a:cubicBezTo>
                <a:cubicBezTo>
                  <a:pt x="7578" y="16431"/>
                  <a:pt x="7566" y="16466"/>
                  <a:pt x="7541" y="16520"/>
                </a:cubicBezTo>
                <a:cubicBezTo>
                  <a:pt x="7515" y="16575"/>
                  <a:pt x="7472" y="16607"/>
                  <a:pt x="7466" y="16669"/>
                </a:cubicBezTo>
                <a:cubicBezTo>
                  <a:pt x="7460" y="16728"/>
                  <a:pt x="7542" y="16679"/>
                  <a:pt x="7565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08200" y="6276960"/>
            <a:ext cx="7920" cy="206280"/>
          </a:xfrm>
          <a:custGeom>
            <a:avLst/>
            <a:gdLst/>
            <a:ahLst/>
            <a:rect l="l" t="t" r="r" b="b"/>
            <a:pathLst>
              <a:path w="26" h="571">
                <a:moveTo>
                  <a:pt x="7243" y="17487"/>
                </a:moveTo>
                <a:cubicBezTo>
                  <a:pt x="7251" y="17471"/>
                  <a:pt x="7260" y="17454"/>
                  <a:pt x="7268" y="17438"/>
                </a:cubicBezTo>
                <a:cubicBezTo>
                  <a:pt x="7268" y="17566"/>
                  <a:pt x="7255" y="17684"/>
                  <a:pt x="7243" y="17810"/>
                </a:cubicBezTo>
                <a:cubicBezTo>
                  <a:pt x="7237" y="17875"/>
                  <a:pt x="7243" y="17943"/>
                  <a:pt x="7243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5116680"/>
            <a:ext cx="376200" cy="911160"/>
          </a:xfrm>
          <a:custGeom>
            <a:avLst/>
            <a:gdLst/>
            <a:ahLst/>
            <a:rect l="l" t="t" r="r" b="b"/>
            <a:pathLst>
              <a:path w="1043" h="2531">
                <a:moveTo>
                  <a:pt x="10120" y="14312"/>
                </a:moveTo>
                <a:cubicBezTo>
                  <a:pt x="10120" y="14288"/>
                  <a:pt x="10120" y="14280"/>
                  <a:pt x="10145" y="14288"/>
                </a:cubicBezTo>
                <a:cubicBezTo>
                  <a:pt x="10111" y="14277"/>
                  <a:pt x="10115" y="14253"/>
                  <a:pt x="10071" y="14238"/>
                </a:cubicBezTo>
                <a:cubicBezTo>
                  <a:pt x="10024" y="14222"/>
                  <a:pt x="9947" y="14215"/>
                  <a:pt x="9897" y="14213"/>
                </a:cubicBezTo>
                <a:cubicBezTo>
                  <a:pt x="9845" y="14211"/>
                  <a:pt x="9628" y="14180"/>
                  <a:pt x="9599" y="14238"/>
                </a:cubicBezTo>
                <a:cubicBezTo>
                  <a:pt x="9594" y="14248"/>
                  <a:pt x="9577" y="14330"/>
                  <a:pt x="9575" y="14337"/>
                </a:cubicBezTo>
                <a:cubicBezTo>
                  <a:pt x="9559" y="14415"/>
                  <a:pt x="9534" y="14506"/>
                  <a:pt x="9525" y="14585"/>
                </a:cubicBezTo>
                <a:cubicBezTo>
                  <a:pt x="9516" y="14664"/>
                  <a:pt x="9523" y="14674"/>
                  <a:pt x="9475" y="14734"/>
                </a:cubicBezTo>
                <a:cubicBezTo>
                  <a:pt x="9451" y="14718"/>
                  <a:pt x="9420" y="14634"/>
                  <a:pt x="9401" y="14585"/>
                </a:cubicBezTo>
                <a:cubicBezTo>
                  <a:pt x="9389" y="14555"/>
                  <a:pt x="9354" y="14429"/>
                  <a:pt x="9327" y="14412"/>
                </a:cubicBezTo>
                <a:cubicBezTo>
                  <a:pt x="9319" y="14412"/>
                  <a:pt x="9310" y="14412"/>
                  <a:pt x="9302" y="14412"/>
                </a:cubicBezTo>
              </a:path>
              <a:path w="1043" h="2531">
                <a:moveTo>
                  <a:pt x="9823" y="14486"/>
                </a:moveTo>
                <a:cubicBezTo>
                  <a:pt x="9823" y="14426"/>
                  <a:pt x="9832" y="14439"/>
                  <a:pt x="9872" y="14412"/>
                </a:cubicBezTo>
                <a:cubicBezTo>
                  <a:pt x="9918" y="14381"/>
                  <a:pt x="9939" y="14362"/>
                  <a:pt x="9996" y="14362"/>
                </a:cubicBezTo>
                <a:cubicBezTo>
                  <a:pt x="10031" y="14362"/>
                  <a:pt x="10068" y="14398"/>
                  <a:pt x="10046" y="14436"/>
                </a:cubicBezTo>
                <a:cubicBezTo>
                  <a:pt x="10027" y="14470"/>
                  <a:pt x="9988" y="14500"/>
                  <a:pt x="9971" y="14536"/>
                </a:cubicBezTo>
                <a:cubicBezTo>
                  <a:pt x="9964" y="14552"/>
                  <a:pt x="9971" y="14592"/>
                  <a:pt x="9971" y="14610"/>
                </a:cubicBezTo>
                <a:cubicBezTo>
                  <a:pt x="10018" y="14610"/>
                  <a:pt x="10052" y="14626"/>
                  <a:pt x="10096" y="14635"/>
                </a:cubicBezTo>
                <a:cubicBezTo>
                  <a:pt x="10089" y="14662"/>
                  <a:pt x="10056" y="14724"/>
                  <a:pt x="10021" y="14734"/>
                </a:cubicBezTo>
                <a:cubicBezTo>
                  <a:pt x="9986" y="14744"/>
                  <a:pt x="9934" y="14734"/>
                  <a:pt x="9897" y="14734"/>
                </a:cubicBezTo>
              </a:path>
              <a:path w="1043" h="2531">
                <a:moveTo>
                  <a:pt x="10244" y="14932"/>
                </a:moveTo>
                <a:cubicBezTo>
                  <a:pt x="10116" y="14932"/>
                  <a:pt x="9993" y="14923"/>
                  <a:pt x="9872" y="14908"/>
                </a:cubicBezTo>
                <a:cubicBezTo>
                  <a:pt x="9808" y="14900"/>
                  <a:pt x="9739" y="14908"/>
                  <a:pt x="9674" y="14908"/>
                </a:cubicBezTo>
              </a:path>
              <a:path w="1043" h="2531">
                <a:moveTo>
                  <a:pt x="9773" y="15205"/>
                </a:moveTo>
                <a:cubicBezTo>
                  <a:pt x="9748" y="15155"/>
                  <a:pt x="9766" y="15138"/>
                  <a:pt x="9823" y="15106"/>
                </a:cubicBezTo>
                <a:cubicBezTo>
                  <a:pt x="9852" y="15090"/>
                  <a:pt x="9956" y="15023"/>
                  <a:pt x="9996" y="15056"/>
                </a:cubicBezTo>
                <a:cubicBezTo>
                  <a:pt x="10052" y="15103"/>
                  <a:pt x="10003" y="15188"/>
                  <a:pt x="9971" y="15230"/>
                </a:cubicBezTo>
                <a:cubicBezTo>
                  <a:pt x="9922" y="15294"/>
                  <a:pt x="9859" y="15333"/>
                  <a:pt x="9798" y="15379"/>
                </a:cubicBezTo>
                <a:cubicBezTo>
                  <a:pt x="9790" y="15387"/>
                  <a:pt x="9781" y="15396"/>
                  <a:pt x="9773" y="15404"/>
                </a:cubicBezTo>
                <a:cubicBezTo>
                  <a:pt x="9791" y="15458"/>
                  <a:pt x="9871" y="15424"/>
                  <a:pt x="9922" y="15404"/>
                </a:cubicBezTo>
                <a:cubicBezTo>
                  <a:pt x="10013" y="15369"/>
                  <a:pt x="10124" y="15366"/>
                  <a:pt x="10220" y="15354"/>
                </a:cubicBezTo>
              </a:path>
              <a:path w="1043" h="2531">
                <a:moveTo>
                  <a:pt x="9947" y="15801"/>
                </a:moveTo>
                <a:cubicBezTo>
                  <a:pt x="9947" y="15793"/>
                  <a:pt x="9947" y="15784"/>
                  <a:pt x="9947" y="15776"/>
                </a:cubicBezTo>
                <a:cubicBezTo>
                  <a:pt x="9947" y="15859"/>
                  <a:pt x="9947" y="15941"/>
                  <a:pt x="9947" y="16024"/>
                </a:cubicBezTo>
              </a:path>
              <a:path w="1043" h="2531">
                <a:moveTo>
                  <a:pt x="10294" y="16073"/>
                </a:moveTo>
                <a:cubicBezTo>
                  <a:pt x="10311" y="16090"/>
                  <a:pt x="10327" y="16106"/>
                  <a:pt x="10344" y="16123"/>
                </a:cubicBezTo>
                <a:cubicBezTo>
                  <a:pt x="10257" y="16123"/>
                  <a:pt x="10179" y="16106"/>
                  <a:pt x="10096" y="16098"/>
                </a:cubicBezTo>
                <a:cubicBezTo>
                  <a:pt x="9970" y="16086"/>
                  <a:pt x="9841" y="16095"/>
                  <a:pt x="9723" y="16123"/>
                </a:cubicBezTo>
                <a:cubicBezTo>
                  <a:pt x="9695" y="16123"/>
                  <a:pt x="9685" y="16126"/>
                  <a:pt x="9674" y="16148"/>
                </a:cubicBezTo>
              </a:path>
              <a:path w="1043" h="2531">
                <a:moveTo>
                  <a:pt x="9798" y="16495"/>
                </a:moveTo>
                <a:cubicBezTo>
                  <a:pt x="9810" y="16458"/>
                  <a:pt x="9875" y="16445"/>
                  <a:pt x="9922" y="16421"/>
                </a:cubicBezTo>
                <a:cubicBezTo>
                  <a:pt x="10009" y="16377"/>
                  <a:pt x="10047" y="16346"/>
                  <a:pt x="10145" y="16346"/>
                </a:cubicBezTo>
                <a:cubicBezTo>
                  <a:pt x="10235" y="16346"/>
                  <a:pt x="10173" y="16458"/>
                  <a:pt x="10145" y="16495"/>
                </a:cubicBezTo>
                <a:cubicBezTo>
                  <a:pt x="10104" y="16548"/>
                  <a:pt x="9995" y="16618"/>
                  <a:pt x="9971" y="16669"/>
                </a:cubicBezTo>
                <a:cubicBezTo>
                  <a:pt x="9971" y="16710"/>
                  <a:pt x="9971" y="16718"/>
                  <a:pt x="9971" y="16743"/>
                </a:cubicBezTo>
                <a:cubicBezTo>
                  <a:pt x="10027" y="16743"/>
                  <a:pt x="10092" y="16730"/>
                  <a:pt x="10145" y="16718"/>
                </a:cubicBezTo>
                <a:cubicBezTo>
                  <a:pt x="10170" y="16710"/>
                  <a:pt x="10195" y="16702"/>
                  <a:pt x="10220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94080" y="6232680"/>
            <a:ext cx="507960" cy="277560"/>
          </a:xfrm>
          <a:custGeom>
            <a:avLst/>
            <a:gdLst/>
            <a:ahLst/>
            <a:rect l="l" t="t" r="r" b="b"/>
            <a:pathLst>
              <a:path w="1415" h="770">
                <a:moveTo>
                  <a:pt x="10840" y="17462"/>
                </a:moveTo>
                <a:cubicBezTo>
                  <a:pt x="10809" y="17444"/>
                  <a:pt x="10812" y="17441"/>
                  <a:pt x="10765" y="17438"/>
                </a:cubicBezTo>
                <a:cubicBezTo>
                  <a:pt x="10700" y="17434"/>
                  <a:pt x="10657" y="17399"/>
                  <a:pt x="10592" y="17388"/>
                </a:cubicBezTo>
                <a:cubicBezTo>
                  <a:pt x="10509" y="17374"/>
                  <a:pt x="10424" y="17368"/>
                  <a:pt x="10344" y="17338"/>
                </a:cubicBezTo>
                <a:cubicBezTo>
                  <a:pt x="10268" y="17310"/>
                  <a:pt x="10201" y="17314"/>
                  <a:pt x="10120" y="17314"/>
                </a:cubicBezTo>
                <a:cubicBezTo>
                  <a:pt x="10046" y="17314"/>
                  <a:pt x="9990" y="17310"/>
                  <a:pt x="9922" y="17338"/>
                </a:cubicBezTo>
                <a:cubicBezTo>
                  <a:pt x="9884" y="17354"/>
                  <a:pt x="9859" y="17366"/>
                  <a:pt x="9823" y="17388"/>
                </a:cubicBezTo>
                <a:cubicBezTo>
                  <a:pt x="9769" y="17420"/>
                  <a:pt x="9781" y="17421"/>
                  <a:pt x="9748" y="17487"/>
                </a:cubicBezTo>
                <a:cubicBezTo>
                  <a:pt x="9700" y="17583"/>
                  <a:pt x="9702" y="17728"/>
                  <a:pt x="9699" y="17835"/>
                </a:cubicBezTo>
                <a:cubicBezTo>
                  <a:pt x="9696" y="17919"/>
                  <a:pt x="9684" y="18014"/>
                  <a:pt x="9649" y="18083"/>
                </a:cubicBezTo>
                <a:cubicBezTo>
                  <a:pt x="9586" y="18038"/>
                  <a:pt x="9593" y="18013"/>
                  <a:pt x="9550" y="17934"/>
                </a:cubicBezTo>
                <a:cubicBezTo>
                  <a:pt x="9504" y="17848"/>
                  <a:pt x="9483" y="17775"/>
                  <a:pt x="9451" y="17686"/>
                </a:cubicBezTo>
                <a:cubicBezTo>
                  <a:pt x="9451" y="17658"/>
                  <a:pt x="9449" y="17647"/>
                  <a:pt x="9426" y="17636"/>
                </a:cubicBezTo>
              </a:path>
              <a:path w="1415" h="770">
                <a:moveTo>
                  <a:pt x="10195" y="17661"/>
                </a:moveTo>
                <a:cubicBezTo>
                  <a:pt x="10204" y="17624"/>
                  <a:pt x="10233" y="17585"/>
                  <a:pt x="10269" y="17562"/>
                </a:cubicBezTo>
                <a:cubicBezTo>
                  <a:pt x="10341" y="17516"/>
                  <a:pt x="10432" y="17456"/>
                  <a:pt x="10517" y="17438"/>
                </a:cubicBezTo>
                <a:cubicBezTo>
                  <a:pt x="10534" y="17438"/>
                  <a:pt x="10550" y="17438"/>
                  <a:pt x="10567" y="17438"/>
                </a:cubicBezTo>
                <a:cubicBezTo>
                  <a:pt x="10567" y="17500"/>
                  <a:pt x="10558" y="17537"/>
                  <a:pt x="10517" y="17587"/>
                </a:cubicBezTo>
                <a:cubicBezTo>
                  <a:pt x="10471" y="17644"/>
                  <a:pt x="10396" y="17665"/>
                  <a:pt x="10368" y="17735"/>
                </a:cubicBezTo>
                <a:cubicBezTo>
                  <a:pt x="10342" y="17799"/>
                  <a:pt x="10448" y="17800"/>
                  <a:pt x="10468" y="17810"/>
                </a:cubicBezTo>
                <a:cubicBezTo>
                  <a:pt x="10494" y="17823"/>
                  <a:pt x="10539" y="17845"/>
                  <a:pt x="10517" y="17884"/>
                </a:cubicBezTo>
                <a:cubicBezTo>
                  <a:pt x="10482" y="17947"/>
                  <a:pt x="10402" y="17934"/>
                  <a:pt x="10344" y="179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2153" t="10459" r="325" b="6856"/>
          <a:stretch/>
        </p:blipFill>
        <p:spPr>
          <a:xfrm>
            <a:off x="250920" y="1413000"/>
            <a:ext cx="4248000" cy="3398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22902" t="9854" r="3271" b="6856"/>
          <a:stretch/>
        </p:blipFill>
        <p:spPr>
          <a:xfrm>
            <a:off x="4643280" y="1413000"/>
            <a:ext cx="4032360" cy="3411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501336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9640" y="501336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mymaths - sin and </a:t>
            </a:r>
            <a:r>
              <a:rPr b="0" lang="en-GB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sketching graphs, solve these equations for x where 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≤ x &lt; 3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sin x = 0.463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sin x = -0.5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cos x = -0.647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cos x = -0.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8520" y="5950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mymaths - 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22153" t="10459" r="325" b="6856"/>
          <a:stretch/>
        </p:blipFill>
        <p:spPr>
          <a:xfrm>
            <a:off x="2843280" y="2421000"/>
            <a:ext cx="2160360" cy="1728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22902" t="9854" r="3271" b="6856"/>
          <a:stretch/>
        </p:blipFill>
        <p:spPr>
          <a:xfrm>
            <a:off x="2843280" y="490680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00240" y="2820960"/>
            <a:ext cx="330480" cy="679320"/>
          </a:xfrm>
          <a:custGeom>
            <a:avLst/>
            <a:gdLst/>
            <a:ahLst/>
            <a:rect l="l" t="t" r="r" b="b"/>
            <a:pathLst>
              <a:path w="919" h="1886">
                <a:moveTo>
                  <a:pt x="8731" y="9029"/>
                </a:moveTo>
                <a:cubicBezTo>
                  <a:pt x="8731" y="9004"/>
                  <a:pt x="8731" y="8996"/>
                  <a:pt x="8731" y="8979"/>
                </a:cubicBezTo>
                <a:cubicBezTo>
                  <a:pt x="8731" y="9026"/>
                  <a:pt x="8709" y="9058"/>
                  <a:pt x="8706" y="9103"/>
                </a:cubicBezTo>
                <a:cubicBezTo>
                  <a:pt x="8702" y="9160"/>
                  <a:pt x="8706" y="9219"/>
                  <a:pt x="8706" y="9277"/>
                </a:cubicBezTo>
              </a:path>
              <a:path w="919" h="1886">
                <a:moveTo>
                  <a:pt x="8334" y="9475"/>
                </a:moveTo>
                <a:cubicBezTo>
                  <a:pt x="8343" y="9439"/>
                  <a:pt x="8372" y="9413"/>
                  <a:pt x="8409" y="9401"/>
                </a:cubicBezTo>
                <a:cubicBezTo>
                  <a:pt x="8428" y="9395"/>
                  <a:pt x="8463" y="9401"/>
                  <a:pt x="8483" y="9401"/>
                </a:cubicBezTo>
                <a:cubicBezTo>
                  <a:pt x="8483" y="9458"/>
                  <a:pt x="8473" y="9479"/>
                  <a:pt x="8458" y="9525"/>
                </a:cubicBezTo>
                <a:cubicBezTo>
                  <a:pt x="8448" y="9556"/>
                  <a:pt x="8426" y="9599"/>
                  <a:pt x="8409" y="9624"/>
                </a:cubicBezTo>
                <a:cubicBezTo>
                  <a:pt x="8401" y="9632"/>
                  <a:pt x="8392" y="9641"/>
                  <a:pt x="8384" y="9649"/>
                </a:cubicBezTo>
                <a:cubicBezTo>
                  <a:pt x="8434" y="9649"/>
                  <a:pt x="8483" y="9649"/>
                  <a:pt x="8533" y="9649"/>
                </a:cubicBezTo>
              </a:path>
              <a:path w="919" h="1886">
                <a:moveTo>
                  <a:pt x="8682" y="9451"/>
                </a:moveTo>
                <a:cubicBezTo>
                  <a:pt x="8674" y="9451"/>
                  <a:pt x="8665" y="9451"/>
                  <a:pt x="8657" y="9451"/>
                </a:cubicBezTo>
                <a:cubicBezTo>
                  <a:pt x="8692" y="9424"/>
                  <a:pt x="8687" y="9426"/>
                  <a:pt x="8731" y="9426"/>
                </a:cubicBezTo>
                <a:cubicBezTo>
                  <a:pt x="8744" y="9388"/>
                  <a:pt x="8761" y="9401"/>
                  <a:pt x="8806" y="9401"/>
                </a:cubicBezTo>
                <a:cubicBezTo>
                  <a:pt x="8806" y="9458"/>
                  <a:pt x="8796" y="9479"/>
                  <a:pt x="8781" y="9525"/>
                </a:cubicBezTo>
                <a:cubicBezTo>
                  <a:pt x="8769" y="9562"/>
                  <a:pt x="8756" y="9581"/>
                  <a:pt x="8756" y="9624"/>
                </a:cubicBezTo>
                <a:cubicBezTo>
                  <a:pt x="8756" y="9632"/>
                  <a:pt x="8756" y="9641"/>
                  <a:pt x="8756" y="9649"/>
                </a:cubicBezTo>
              </a:path>
              <a:path w="919" h="1886">
                <a:moveTo>
                  <a:pt x="8954" y="9624"/>
                </a:moveTo>
                <a:cubicBezTo>
                  <a:pt x="8962" y="9624"/>
                  <a:pt x="8971" y="9624"/>
                  <a:pt x="8979" y="9624"/>
                </a:cubicBezTo>
              </a:path>
              <a:path w="919" h="1886">
                <a:moveTo>
                  <a:pt x="9227" y="9401"/>
                </a:moveTo>
                <a:cubicBezTo>
                  <a:pt x="9227" y="9376"/>
                  <a:pt x="9227" y="9368"/>
                  <a:pt x="9227" y="9351"/>
                </a:cubicBezTo>
                <a:cubicBezTo>
                  <a:pt x="9219" y="9385"/>
                  <a:pt x="9196" y="9446"/>
                  <a:pt x="9178" y="9475"/>
                </a:cubicBezTo>
                <a:cubicBezTo>
                  <a:pt x="9154" y="9514"/>
                  <a:pt x="9133" y="9548"/>
                  <a:pt x="9128" y="9599"/>
                </a:cubicBezTo>
                <a:cubicBezTo>
                  <a:pt x="9124" y="9635"/>
                  <a:pt x="9115" y="9704"/>
                  <a:pt x="9153" y="9723"/>
                </a:cubicBezTo>
                <a:cubicBezTo>
                  <a:pt x="9209" y="9750"/>
                  <a:pt x="9209" y="9686"/>
                  <a:pt x="9227" y="9674"/>
                </a:cubicBezTo>
                <a:cubicBezTo>
                  <a:pt x="9232" y="9671"/>
                  <a:pt x="9285" y="9625"/>
                  <a:pt x="9252" y="9599"/>
                </a:cubicBezTo>
                <a:cubicBezTo>
                  <a:pt x="9224" y="9576"/>
                  <a:pt x="9193" y="9619"/>
                  <a:pt x="9178" y="9624"/>
                </a:cubicBezTo>
              </a:path>
              <a:path w="919" h="1886">
                <a:moveTo>
                  <a:pt x="8756" y="9103"/>
                </a:moveTo>
                <a:cubicBezTo>
                  <a:pt x="8764" y="9103"/>
                  <a:pt x="8773" y="9103"/>
                  <a:pt x="8781" y="9103"/>
                </a:cubicBezTo>
              </a:path>
              <a:path w="919" h="1886">
                <a:moveTo>
                  <a:pt x="8756" y="9103"/>
                </a:moveTo>
                <a:cubicBezTo>
                  <a:pt x="8764" y="9078"/>
                  <a:pt x="8773" y="9054"/>
                  <a:pt x="8781" y="9029"/>
                </a:cubicBezTo>
              </a:path>
              <a:path w="919" h="1886">
                <a:moveTo>
                  <a:pt x="8781" y="8905"/>
                </a:moveTo>
                <a:cubicBezTo>
                  <a:pt x="8781" y="8864"/>
                  <a:pt x="8794" y="8892"/>
                  <a:pt x="8806" y="8855"/>
                </a:cubicBezTo>
              </a:path>
              <a:path w="919" h="1886">
                <a:moveTo>
                  <a:pt x="8806" y="8756"/>
                </a:moveTo>
                <a:cubicBezTo>
                  <a:pt x="8783" y="8733"/>
                  <a:pt x="8775" y="8729"/>
                  <a:pt x="8781" y="8706"/>
                </a:cubicBezTo>
              </a:path>
              <a:path w="919" h="1886">
                <a:moveTo>
                  <a:pt x="8781" y="8607"/>
                </a:moveTo>
                <a:cubicBezTo>
                  <a:pt x="8781" y="8582"/>
                  <a:pt x="8781" y="8574"/>
                  <a:pt x="8781" y="8558"/>
                </a:cubicBezTo>
              </a:path>
              <a:path w="919" h="1886">
                <a:moveTo>
                  <a:pt x="8756" y="8384"/>
                </a:moveTo>
                <a:cubicBezTo>
                  <a:pt x="8756" y="8359"/>
                  <a:pt x="8756" y="8351"/>
                  <a:pt x="8756" y="8334"/>
                </a:cubicBezTo>
              </a:path>
              <a:path w="919" h="1886">
                <a:moveTo>
                  <a:pt x="8781" y="8235"/>
                </a:moveTo>
                <a:cubicBezTo>
                  <a:pt x="8781" y="8210"/>
                  <a:pt x="8781" y="8202"/>
                  <a:pt x="8781" y="8186"/>
                </a:cubicBezTo>
              </a:path>
              <a:path w="919" h="1886">
                <a:moveTo>
                  <a:pt x="8781" y="8037"/>
                </a:moveTo>
                <a:cubicBezTo>
                  <a:pt x="8758" y="8014"/>
                  <a:pt x="8747" y="8006"/>
                  <a:pt x="8781" y="8012"/>
                </a:cubicBezTo>
              </a:path>
              <a:path w="919" h="1886">
                <a:moveTo>
                  <a:pt x="8781" y="8037"/>
                </a:moveTo>
                <a:cubicBezTo>
                  <a:pt x="8773" y="8004"/>
                  <a:pt x="8764" y="7971"/>
                  <a:pt x="8756" y="7938"/>
                </a:cubicBezTo>
              </a:path>
              <a:path w="919" h="1886">
                <a:moveTo>
                  <a:pt x="8706" y="7838"/>
                </a:moveTo>
                <a:cubicBezTo>
                  <a:pt x="8682" y="7838"/>
                  <a:pt x="8673" y="7838"/>
                  <a:pt x="8657" y="7838"/>
                </a:cubicBezTo>
              </a:path>
              <a:path w="919" h="1886">
                <a:moveTo>
                  <a:pt x="8607" y="7838"/>
                </a:moveTo>
                <a:cubicBezTo>
                  <a:pt x="8582" y="7838"/>
                  <a:pt x="8574" y="7838"/>
                  <a:pt x="8558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1320" y="2820960"/>
            <a:ext cx="106560" cy="4608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8384" y="7838"/>
                </a:moveTo>
                <a:cubicBezTo>
                  <a:pt x="8376" y="7846"/>
                  <a:pt x="8367" y="7855"/>
                  <a:pt x="8359" y="7863"/>
                </a:cubicBezTo>
              </a:path>
              <a:path w="299" h="125">
                <a:moveTo>
                  <a:pt x="8235" y="7888"/>
                </a:moveTo>
                <a:cubicBezTo>
                  <a:pt x="8197" y="7898"/>
                  <a:pt x="8167" y="7911"/>
                  <a:pt x="8136" y="7938"/>
                </a:cubicBezTo>
                <a:cubicBezTo>
                  <a:pt x="8113" y="7960"/>
                  <a:pt x="8108" y="7968"/>
                  <a:pt x="8086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2803680"/>
            <a:ext cx="465120" cy="18720"/>
          </a:xfrm>
          <a:custGeom>
            <a:avLst/>
            <a:gdLst/>
            <a:ahLst/>
            <a:rect l="l" t="t" r="r" b="b"/>
            <a:pathLst>
              <a:path w="1291" h="50">
                <a:moveTo>
                  <a:pt x="8806" y="7838"/>
                </a:moveTo>
                <a:lnTo>
                  <a:pt x="8806" y="7838"/>
                </a:lnTo>
                <a:lnTo>
                  <a:pt x="8806" y="7838"/>
                </a:lnTo>
                <a:lnTo>
                  <a:pt x="8806" y="7838"/>
                </a:lnTo>
                <a:lnTo>
                  <a:pt x="8806" y="7838"/>
                </a:lnTo>
                <a:lnTo>
                  <a:pt x="8806" y="7838"/>
                </a:lnTo>
                <a:lnTo>
                  <a:pt x="8806" y="7838"/>
                </a:lnTo>
                <a:lnTo>
                  <a:pt x="8806" y="7838"/>
                </a:lnTo>
                <a:lnTo>
                  <a:pt x="8806" y="7838"/>
                </a:lnTo>
              </a:path>
              <a:path w="1291" h="50">
                <a:moveTo>
                  <a:pt x="8880" y="7838"/>
                </a:moveTo>
                <a:cubicBezTo>
                  <a:pt x="8905" y="7838"/>
                  <a:pt x="8929" y="7838"/>
                  <a:pt x="8954" y="7838"/>
                </a:cubicBezTo>
              </a:path>
              <a:path w="1291" h="50">
                <a:moveTo>
                  <a:pt x="9029" y="7813"/>
                </a:moveTo>
                <a:cubicBezTo>
                  <a:pt x="9073" y="7781"/>
                  <a:pt x="9084" y="7781"/>
                  <a:pt x="9128" y="7813"/>
                </a:cubicBezTo>
              </a:path>
              <a:path w="1291" h="50">
                <a:moveTo>
                  <a:pt x="9203" y="7813"/>
                </a:moveTo>
                <a:cubicBezTo>
                  <a:pt x="9228" y="7813"/>
                  <a:pt x="9252" y="7813"/>
                  <a:pt x="9277" y="7813"/>
                </a:cubicBezTo>
                <a:cubicBezTo>
                  <a:pt x="9277" y="7838"/>
                  <a:pt x="9277" y="7846"/>
                  <a:pt x="9302" y="7838"/>
                </a:cubicBezTo>
              </a:path>
              <a:path w="1291" h="50">
                <a:moveTo>
                  <a:pt x="9302" y="7838"/>
                </a:moveTo>
                <a:cubicBezTo>
                  <a:pt x="9343" y="7838"/>
                  <a:pt x="9315" y="7826"/>
                  <a:pt x="9351" y="7813"/>
                </a:cubicBezTo>
              </a:path>
              <a:path w="1291" h="50">
                <a:moveTo>
                  <a:pt x="9525" y="7813"/>
                </a:moveTo>
                <a:cubicBezTo>
                  <a:pt x="9550" y="7813"/>
                  <a:pt x="9558" y="7813"/>
                  <a:pt x="9575" y="7813"/>
                </a:cubicBezTo>
              </a:path>
              <a:path w="1291" h="50">
                <a:moveTo>
                  <a:pt x="9748" y="7813"/>
                </a:moveTo>
                <a:cubicBezTo>
                  <a:pt x="9756" y="7813"/>
                  <a:pt x="9765" y="7813"/>
                  <a:pt x="9773" y="7813"/>
                </a:cubicBezTo>
              </a:path>
              <a:path w="1291" h="50">
                <a:moveTo>
                  <a:pt x="9947" y="7789"/>
                </a:moveTo>
                <a:cubicBezTo>
                  <a:pt x="9997" y="7789"/>
                  <a:pt x="10046" y="7789"/>
                  <a:pt x="10096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70200" y="2830680"/>
            <a:ext cx="44640" cy="428400"/>
          </a:xfrm>
          <a:custGeom>
            <a:avLst/>
            <a:gdLst/>
            <a:ahLst/>
            <a:rect l="l" t="t" r="r" b="b"/>
            <a:pathLst>
              <a:path w="125" h="1192">
                <a:moveTo>
                  <a:pt x="10220" y="7863"/>
                </a:moveTo>
                <a:cubicBezTo>
                  <a:pt x="10220" y="7888"/>
                  <a:pt x="10220" y="7896"/>
                  <a:pt x="10220" y="7913"/>
                </a:cubicBezTo>
              </a:path>
              <a:path w="125" h="1192">
                <a:moveTo>
                  <a:pt x="10195" y="8037"/>
                </a:moveTo>
                <a:cubicBezTo>
                  <a:pt x="10195" y="8070"/>
                  <a:pt x="10195" y="8103"/>
                  <a:pt x="10195" y="8136"/>
                </a:cubicBezTo>
              </a:path>
              <a:path w="125" h="1192">
                <a:moveTo>
                  <a:pt x="10195" y="8186"/>
                </a:moveTo>
                <a:cubicBezTo>
                  <a:pt x="10195" y="8219"/>
                  <a:pt x="10195" y="8252"/>
                  <a:pt x="10195" y="8285"/>
                </a:cubicBezTo>
              </a:path>
              <a:path w="125" h="1192">
                <a:moveTo>
                  <a:pt x="10195" y="8359"/>
                </a:moveTo>
                <a:cubicBezTo>
                  <a:pt x="10195" y="8384"/>
                  <a:pt x="10195" y="8392"/>
                  <a:pt x="10195" y="8409"/>
                </a:cubicBezTo>
              </a:path>
              <a:path w="125" h="1192">
                <a:moveTo>
                  <a:pt x="10244" y="8508"/>
                </a:moveTo>
                <a:cubicBezTo>
                  <a:pt x="10244" y="8541"/>
                  <a:pt x="10244" y="8574"/>
                  <a:pt x="10244" y="8607"/>
                </a:cubicBezTo>
              </a:path>
              <a:path w="125" h="1192">
                <a:moveTo>
                  <a:pt x="10244" y="8607"/>
                </a:moveTo>
                <a:cubicBezTo>
                  <a:pt x="10267" y="8630"/>
                  <a:pt x="10275" y="8634"/>
                  <a:pt x="10269" y="8657"/>
                </a:cubicBezTo>
              </a:path>
              <a:path w="125" h="1192">
                <a:moveTo>
                  <a:pt x="10244" y="8607"/>
                </a:moveTo>
                <a:cubicBezTo>
                  <a:pt x="10280" y="8697"/>
                  <a:pt x="10297" y="8702"/>
                  <a:pt x="10294" y="8756"/>
                </a:cubicBezTo>
              </a:path>
              <a:path w="125" h="1192">
                <a:moveTo>
                  <a:pt x="10319" y="8855"/>
                </a:moveTo>
                <a:lnTo>
                  <a:pt x="10319" y="8855"/>
                </a:lnTo>
              </a:path>
              <a:path w="125" h="1192">
                <a:moveTo>
                  <a:pt x="10319" y="8855"/>
                </a:moveTo>
                <a:cubicBezTo>
                  <a:pt x="10319" y="8913"/>
                  <a:pt x="10319" y="8921"/>
                  <a:pt x="10319" y="8954"/>
                </a:cubicBezTo>
              </a:path>
              <a:path w="125" h="1192">
                <a:moveTo>
                  <a:pt x="10319" y="8979"/>
                </a:moveTo>
                <a:cubicBezTo>
                  <a:pt x="10319" y="9004"/>
                  <a:pt x="10319" y="9029"/>
                  <a:pt x="10319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7920" y="3357720"/>
            <a:ext cx="430200" cy="115560"/>
          </a:xfrm>
          <a:custGeom>
            <a:avLst/>
            <a:gdLst/>
            <a:ahLst/>
            <a:rect l="l" t="t" r="r" b="b"/>
            <a:pathLst>
              <a:path w="1192" h="323">
                <a:moveTo>
                  <a:pt x="9773" y="9401"/>
                </a:moveTo>
                <a:cubicBezTo>
                  <a:pt x="9773" y="9454"/>
                  <a:pt x="9793" y="9471"/>
                  <a:pt x="9798" y="9525"/>
                </a:cubicBezTo>
                <a:cubicBezTo>
                  <a:pt x="9800" y="9549"/>
                  <a:pt x="9798" y="9575"/>
                  <a:pt x="9798" y="9599"/>
                </a:cubicBezTo>
              </a:path>
              <a:path w="1192" h="323">
                <a:moveTo>
                  <a:pt x="10021" y="9401"/>
                </a:moveTo>
                <a:cubicBezTo>
                  <a:pt x="10046" y="9401"/>
                  <a:pt x="10054" y="9401"/>
                  <a:pt x="10046" y="9376"/>
                </a:cubicBezTo>
                <a:cubicBezTo>
                  <a:pt x="10031" y="9381"/>
                  <a:pt x="9980" y="9417"/>
                  <a:pt x="9996" y="9451"/>
                </a:cubicBezTo>
                <a:cubicBezTo>
                  <a:pt x="10011" y="9484"/>
                  <a:pt x="10073" y="9484"/>
                  <a:pt x="10096" y="9500"/>
                </a:cubicBezTo>
                <a:cubicBezTo>
                  <a:pt x="10145" y="9533"/>
                  <a:pt x="10117" y="9560"/>
                  <a:pt x="10096" y="9575"/>
                </a:cubicBezTo>
                <a:cubicBezTo>
                  <a:pt x="10061" y="9601"/>
                  <a:pt x="10064" y="9599"/>
                  <a:pt x="10021" y="9599"/>
                </a:cubicBezTo>
              </a:path>
              <a:path w="1192" h="323">
                <a:moveTo>
                  <a:pt x="10220" y="9351"/>
                </a:moveTo>
                <a:cubicBezTo>
                  <a:pt x="10165" y="9311"/>
                  <a:pt x="10173" y="9334"/>
                  <a:pt x="10120" y="9351"/>
                </a:cubicBezTo>
                <a:cubicBezTo>
                  <a:pt x="10092" y="9351"/>
                  <a:pt x="10082" y="9354"/>
                  <a:pt x="10071" y="9376"/>
                </a:cubicBezTo>
              </a:path>
              <a:path w="1192" h="323">
                <a:moveTo>
                  <a:pt x="10294" y="9451"/>
                </a:moveTo>
                <a:cubicBezTo>
                  <a:pt x="10269" y="9451"/>
                  <a:pt x="10261" y="9451"/>
                  <a:pt x="10269" y="9426"/>
                </a:cubicBezTo>
                <a:cubicBezTo>
                  <a:pt x="10325" y="9426"/>
                  <a:pt x="10303" y="9406"/>
                  <a:pt x="10344" y="9401"/>
                </a:cubicBezTo>
                <a:cubicBezTo>
                  <a:pt x="10396" y="9394"/>
                  <a:pt x="10393" y="9438"/>
                  <a:pt x="10393" y="9475"/>
                </a:cubicBezTo>
                <a:cubicBezTo>
                  <a:pt x="10393" y="9535"/>
                  <a:pt x="10365" y="9526"/>
                  <a:pt x="10344" y="9575"/>
                </a:cubicBezTo>
                <a:cubicBezTo>
                  <a:pt x="10333" y="9599"/>
                  <a:pt x="10326" y="9622"/>
                  <a:pt x="10319" y="9649"/>
                </a:cubicBezTo>
                <a:cubicBezTo>
                  <a:pt x="10369" y="9649"/>
                  <a:pt x="10418" y="9649"/>
                  <a:pt x="10468" y="9649"/>
                </a:cubicBezTo>
              </a:path>
              <a:path w="1192" h="323">
                <a:moveTo>
                  <a:pt x="10592" y="9624"/>
                </a:moveTo>
                <a:cubicBezTo>
                  <a:pt x="10600" y="9624"/>
                  <a:pt x="10608" y="9624"/>
                  <a:pt x="10616" y="9624"/>
                </a:cubicBezTo>
              </a:path>
              <a:path w="1192" h="323">
                <a:moveTo>
                  <a:pt x="10765" y="9426"/>
                </a:moveTo>
                <a:cubicBezTo>
                  <a:pt x="10765" y="9409"/>
                  <a:pt x="10765" y="9393"/>
                  <a:pt x="10765" y="9376"/>
                </a:cubicBezTo>
                <a:cubicBezTo>
                  <a:pt x="10765" y="9429"/>
                  <a:pt x="10745" y="9446"/>
                  <a:pt x="10740" y="9500"/>
                </a:cubicBezTo>
                <a:cubicBezTo>
                  <a:pt x="10740" y="9525"/>
                  <a:pt x="10740" y="9533"/>
                  <a:pt x="10740" y="9550"/>
                </a:cubicBezTo>
                <a:cubicBezTo>
                  <a:pt x="10778" y="9563"/>
                  <a:pt x="10761" y="9575"/>
                  <a:pt x="10815" y="9575"/>
                </a:cubicBezTo>
                <a:cubicBezTo>
                  <a:pt x="10865" y="9575"/>
                  <a:pt x="10914" y="9575"/>
                  <a:pt x="10964" y="9575"/>
                </a:cubicBezTo>
              </a:path>
              <a:path w="1192" h="323">
                <a:moveTo>
                  <a:pt x="10939" y="9525"/>
                </a:moveTo>
                <a:cubicBezTo>
                  <a:pt x="10891" y="9537"/>
                  <a:pt x="10877" y="9571"/>
                  <a:pt x="10864" y="9624"/>
                </a:cubicBezTo>
                <a:cubicBezTo>
                  <a:pt x="10864" y="9632"/>
                  <a:pt x="10864" y="9641"/>
                  <a:pt x="10864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760" y="651816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191" y="18107"/>
                </a:moveTo>
                <a:cubicBezTo>
                  <a:pt x="1191" y="18115"/>
                  <a:pt x="1191" y="18124"/>
                  <a:pt x="1191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20920" y="3098880"/>
            <a:ext cx="528480" cy="241200"/>
          </a:xfrm>
          <a:custGeom>
            <a:avLst/>
            <a:gdLst/>
            <a:ahLst/>
            <a:rect l="l" t="t" r="r" b="b"/>
            <a:pathLst>
              <a:path w="1465" h="671">
                <a:moveTo>
                  <a:pt x="7218" y="9029"/>
                </a:moveTo>
                <a:cubicBezTo>
                  <a:pt x="7226" y="9029"/>
                  <a:pt x="7235" y="9029"/>
                  <a:pt x="7243" y="9029"/>
                </a:cubicBezTo>
                <a:cubicBezTo>
                  <a:pt x="7243" y="9112"/>
                  <a:pt x="7243" y="9194"/>
                  <a:pt x="7243" y="9277"/>
                </a:cubicBezTo>
              </a:path>
              <a:path w="1465" h="671">
                <a:moveTo>
                  <a:pt x="7913" y="9079"/>
                </a:moveTo>
                <a:cubicBezTo>
                  <a:pt x="7857" y="9079"/>
                  <a:pt x="7834" y="9088"/>
                  <a:pt x="7789" y="9103"/>
                </a:cubicBezTo>
                <a:cubicBezTo>
                  <a:pt x="7718" y="9126"/>
                  <a:pt x="7632" y="9105"/>
                  <a:pt x="7565" y="9128"/>
                </a:cubicBezTo>
                <a:cubicBezTo>
                  <a:pt x="7477" y="9158"/>
                  <a:pt x="7354" y="9127"/>
                  <a:pt x="7268" y="9153"/>
                </a:cubicBezTo>
                <a:cubicBezTo>
                  <a:pt x="7233" y="9164"/>
                  <a:pt x="7203" y="9169"/>
                  <a:pt x="7169" y="9178"/>
                </a:cubicBezTo>
                <a:cubicBezTo>
                  <a:pt x="7169" y="9203"/>
                  <a:pt x="7169" y="9211"/>
                  <a:pt x="7144" y="9203"/>
                </a:cubicBezTo>
              </a:path>
              <a:path w="1465" h="671">
                <a:moveTo>
                  <a:pt x="6623" y="8781"/>
                </a:moveTo>
                <a:cubicBezTo>
                  <a:pt x="6589" y="8814"/>
                  <a:pt x="6561" y="8834"/>
                  <a:pt x="6524" y="8855"/>
                </a:cubicBezTo>
                <a:cubicBezTo>
                  <a:pt x="6480" y="8877"/>
                  <a:pt x="6468" y="8880"/>
                  <a:pt x="6449" y="8905"/>
                </a:cubicBezTo>
              </a:path>
              <a:path w="1465" h="671">
                <a:moveTo>
                  <a:pt x="6846" y="8731"/>
                </a:moveTo>
                <a:cubicBezTo>
                  <a:pt x="6858" y="8682"/>
                  <a:pt x="6871" y="8682"/>
                  <a:pt x="6921" y="8682"/>
                </a:cubicBezTo>
                <a:cubicBezTo>
                  <a:pt x="6945" y="8682"/>
                  <a:pt x="6954" y="8682"/>
                  <a:pt x="6970" y="8682"/>
                </a:cubicBezTo>
                <a:cubicBezTo>
                  <a:pt x="6970" y="8734"/>
                  <a:pt x="6974" y="8734"/>
                  <a:pt x="6945" y="8756"/>
                </a:cubicBezTo>
                <a:cubicBezTo>
                  <a:pt x="6919" y="8776"/>
                  <a:pt x="6895" y="8807"/>
                  <a:pt x="6871" y="8830"/>
                </a:cubicBezTo>
                <a:cubicBezTo>
                  <a:pt x="6907" y="8857"/>
                  <a:pt x="6940" y="8855"/>
                  <a:pt x="6945" y="8905"/>
                </a:cubicBezTo>
                <a:cubicBezTo>
                  <a:pt x="6951" y="8958"/>
                  <a:pt x="6909" y="8954"/>
                  <a:pt x="6871" y="8954"/>
                </a:cubicBezTo>
                <a:cubicBezTo>
                  <a:pt x="6846" y="8954"/>
                  <a:pt x="6838" y="8954"/>
                  <a:pt x="6821" y="8954"/>
                </a:cubicBezTo>
              </a:path>
              <a:path w="1465" h="671">
                <a:moveTo>
                  <a:pt x="7119" y="8682"/>
                </a:moveTo>
                <a:cubicBezTo>
                  <a:pt x="7119" y="8690"/>
                  <a:pt x="7119" y="8698"/>
                  <a:pt x="7119" y="8706"/>
                </a:cubicBezTo>
                <a:cubicBezTo>
                  <a:pt x="7151" y="8698"/>
                  <a:pt x="7192" y="8655"/>
                  <a:pt x="7218" y="8706"/>
                </a:cubicBezTo>
                <a:cubicBezTo>
                  <a:pt x="7242" y="8754"/>
                  <a:pt x="7205" y="8820"/>
                  <a:pt x="7193" y="8855"/>
                </a:cubicBezTo>
                <a:cubicBezTo>
                  <a:pt x="7187" y="8874"/>
                  <a:pt x="7193" y="8910"/>
                  <a:pt x="7193" y="8930"/>
                </a:cubicBezTo>
                <a:cubicBezTo>
                  <a:pt x="7140" y="8948"/>
                  <a:pt x="7182" y="8954"/>
                  <a:pt x="7218" y="8954"/>
                </a:cubicBezTo>
                <a:cubicBezTo>
                  <a:pt x="7261" y="8954"/>
                  <a:pt x="7258" y="8955"/>
                  <a:pt x="7293" y="8930"/>
                </a:cubicBezTo>
              </a:path>
              <a:path w="1465" h="671">
                <a:moveTo>
                  <a:pt x="7441" y="8905"/>
                </a:moveTo>
                <a:cubicBezTo>
                  <a:pt x="7449" y="8905"/>
                  <a:pt x="7458" y="8905"/>
                  <a:pt x="7466" y="8905"/>
                </a:cubicBezTo>
              </a:path>
              <a:path w="1465" h="671">
                <a:moveTo>
                  <a:pt x="7590" y="8706"/>
                </a:moveTo>
                <a:cubicBezTo>
                  <a:pt x="7598" y="8698"/>
                  <a:pt x="7607" y="8690"/>
                  <a:pt x="7615" y="8682"/>
                </a:cubicBezTo>
                <a:cubicBezTo>
                  <a:pt x="7601" y="8701"/>
                  <a:pt x="7553" y="8755"/>
                  <a:pt x="7565" y="8781"/>
                </a:cubicBezTo>
                <a:cubicBezTo>
                  <a:pt x="7578" y="8809"/>
                  <a:pt x="7640" y="8847"/>
                  <a:pt x="7665" y="8855"/>
                </a:cubicBezTo>
                <a:cubicBezTo>
                  <a:pt x="7701" y="8867"/>
                  <a:pt x="7689" y="8886"/>
                  <a:pt x="7689" y="8930"/>
                </a:cubicBezTo>
                <a:cubicBezTo>
                  <a:pt x="7656" y="8930"/>
                  <a:pt x="7623" y="8930"/>
                  <a:pt x="7590" y="8930"/>
                </a:cubicBezTo>
              </a:path>
              <a:path w="1465" h="671">
                <a:moveTo>
                  <a:pt x="7739" y="8607"/>
                </a:moveTo>
                <a:cubicBezTo>
                  <a:pt x="7714" y="8607"/>
                  <a:pt x="7706" y="8607"/>
                  <a:pt x="7689" y="860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251160"/>
            <a:ext cx="884520" cy="598680"/>
          </a:xfrm>
          <a:custGeom>
            <a:avLst/>
            <a:gdLst/>
            <a:ahLst/>
            <a:rect l="l" t="t" r="r" b="b"/>
            <a:pathLst>
              <a:path w="2456" h="1663">
                <a:moveTo>
                  <a:pt x="8186" y="10294"/>
                </a:moveTo>
                <a:cubicBezTo>
                  <a:pt x="8228" y="10294"/>
                  <a:pt x="8223" y="10284"/>
                  <a:pt x="8235" y="10319"/>
                </a:cubicBezTo>
              </a:path>
              <a:path w="2456" h="1663">
                <a:moveTo>
                  <a:pt x="8434" y="10319"/>
                </a:move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  <a:lnTo>
                  <a:pt x="8434" y="10319"/>
                </a:lnTo>
              </a:path>
              <a:path w="2456" h="1663">
                <a:moveTo>
                  <a:pt x="8582" y="10319"/>
                </a:moveTo>
                <a:cubicBezTo>
                  <a:pt x="8607" y="10319"/>
                  <a:pt x="8615" y="10319"/>
                  <a:pt x="8632" y="10319"/>
                </a:cubicBezTo>
              </a:path>
              <a:path w="2456" h="1663">
                <a:moveTo>
                  <a:pt x="8781" y="10344"/>
                </a:moveTo>
                <a:cubicBezTo>
                  <a:pt x="8806" y="10344"/>
                  <a:pt x="8814" y="10344"/>
                  <a:pt x="8830" y="10344"/>
                </a:cubicBezTo>
              </a:path>
              <a:path w="2456" h="1663">
                <a:moveTo>
                  <a:pt x="8930" y="10319"/>
                </a:moveTo>
                <a:cubicBezTo>
                  <a:pt x="8930" y="10344"/>
                  <a:pt x="8930" y="10352"/>
                  <a:pt x="8954" y="10344"/>
                </a:cubicBezTo>
              </a:path>
              <a:path w="2456" h="1663">
                <a:moveTo>
                  <a:pt x="9203" y="10344"/>
                </a:moveTo>
                <a:cubicBezTo>
                  <a:pt x="9211" y="10344"/>
                  <a:pt x="9219" y="10344"/>
                  <a:pt x="9227" y="10344"/>
                </a:cubicBezTo>
              </a:path>
              <a:path w="2456" h="1663">
                <a:moveTo>
                  <a:pt x="7962" y="9798"/>
                </a:moveTo>
                <a:cubicBezTo>
                  <a:pt x="7954" y="9798"/>
                  <a:pt x="7946" y="9798"/>
                  <a:pt x="7938" y="9798"/>
                </a:cubicBezTo>
                <a:cubicBezTo>
                  <a:pt x="7920" y="9820"/>
                  <a:pt x="7911" y="9836"/>
                  <a:pt x="7888" y="9872"/>
                </a:cubicBezTo>
                <a:cubicBezTo>
                  <a:pt x="7876" y="9890"/>
                  <a:pt x="7873" y="9927"/>
                  <a:pt x="7863" y="9947"/>
                </a:cubicBezTo>
                <a:cubicBezTo>
                  <a:pt x="7844" y="9965"/>
                  <a:pt x="7834" y="9993"/>
                  <a:pt x="7813" y="10021"/>
                </a:cubicBezTo>
                <a:cubicBezTo>
                  <a:pt x="7790" y="10052"/>
                  <a:pt x="7784" y="10092"/>
                  <a:pt x="7764" y="10120"/>
                </a:cubicBezTo>
                <a:cubicBezTo>
                  <a:pt x="7742" y="10151"/>
                  <a:pt x="7733" y="10193"/>
                  <a:pt x="7714" y="10220"/>
                </a:cubicBezTo>
                <a:cubicBezTo>
                  <a:pt x="7692" y="10251"/>
                  <a:pt x="7684" y="10291"/>
                  <a:pt x="7665" y="10319"/>
                </a:cubicBezTo>
                <a:cubicBezTo>
                  <a:pt x="7646" y="10347"/>
                  <a:pt x="7629" y="10369"/>
                  <a:pt x="7615" y="10393"/>
                </a:cubicBezTo>
                <a:cubicBezTo>
                  <a:pt x="7584" y="10414"/>
                  <a:pt x="7586" y="10412"/>
                  <a:pt x="7565" y="10443"/>
                </a:cubicBezTo>
                <a:cubicBezTo>
                  <a:pt x="7529" y="10469"/>
                  <a:pt x="7524" y="10481"/>
                  <a:pt x="7491" y="10517"/>
                </a:cubicBezTo>
                <a:cubicBezTo>
                  <a:pt x="7438" y="10575"/>
                  <a:pt x="7380" y="10632"/>
                  <a:pt x="7317" y="10666"/>
                </a:cubicBezTo>
                <a:cubicBezTo>
                  <a:pt x="7261" y="10696"/>
                  <a:pt x="7231" y="10688"/>
                  <a:pt x="7169" y="10691"/>
                </a:cubicBezTo>
                <a:cubicBezTo>
                  <a:pt x="7098" y="10694"/>
                  <a:pt x="7007" y="10705"/>
                  <a:pt x="6945" y="10666"/>
                </a:cubicBezTo>
                <a:cubicBezTo>
                  <a:pt x="6894" y="10634"/>
                  <a:pt x="6857" y="10585"/>
                  <a:pt x="6821" y="10542"/>
                </a:cubicBezTo>
                <a:cubicBezTo>
                  <a:pt x="6796" y="10517"/>
                  <a:pt x="6788" y="10509"/>
                  <a:pt x="6772" y="10492"/>
                </a:cubicBezTo>
              </a:path>
              <a:path w="2456" h="1663">
                <a:moveTo>
                  <a:pt x="7913" y="9922"/>
                </a:moveTo>
                <a:cubicBezTo>
                  <a:pt x="7921" y="9922"/>
                  <a:pt x="7930" y="9922"/>
                  <a:pt x="7938" y="9922"/>
                </a:cubicBezTo>
                <a:cubicBezTo>
                  <a:pt x="7938" y="9853"/>
                  <a:pt x="7943" y="9806"/>
                  <a:pt x="7962" y="9748"/>
                </a:cubicBezTo>
                <a:cubicBezTo>
                  <a:pt x="7968" y="9729"/>
                  <a:pt x="7962" y="9694"/>
                  <a:pt x="7962" y="9674"/>
                </a:cubicBezTo>
                <a:cubicBezTo>
                  <a:pt x="8000" y="9661"/>
                  <a:pt x="7987" y="9644"/>
                  <a:pt x="7987" y="9599"/>
                </a:cubicBezTo>
                <a:cubicBezTo>
                  <a:pt x="7987" y="9583"/>
                  <a:pt x="8003" y="9515"/>
                  <a:pt x="8012" y="9500"/>
                </a:cubicBezTo>
                <a:cubicBezTo>
                  <a:pt x="8035" y="9458"/>
                  <a:pt x="8037" y="9452"/>
                  <a:pt x="8037" y="9401"/>
                </a:cubicBezTo>
                <a:cubicBezTo>
                  <a:pt x="8037" y="9393"/>
                  <a:pt x="8037" y="9384"/>
                  <a:pt x="8037" y="9376"/>
                </a:cubicBezTo>
                <a:cubicBezTo>
                  <a:pt x="8091" y="9358"/>
                  <a:pt x="8039" y="9346"/>
                  <a:pt x="8062" y="9302"/>
                </a:cubicBezTo>
                <a:cubicBezTo>
                  <a:pt x="8081" y="9267"/>
                  <a:pt x="8096" y="9239"/>
                  <a:pt x="8111" y="9203"/>
                </a:cubicBezTo>
                <a:cubicBezTo>
                  <a:pt x="8140" y="9137"/>
                  <a:pt x="8139" y="9087"/>
                  <a:pt x="8186" y="902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63920" y="3679920"/>
            <a:ext cx="179280" cy="27000"/>
          </a:xfrm>
          <a:custGeom>
            <a:avLst/>
            <a:gdLst/>
            <a:ahLst/>
            <a:rect l="l" t="t" r="r" b="b"/>
            <a:pathLst>
              <a:path w="497" h="75">
                <a:moveTo>
                  <a:pt x="9624" y="10294"/>
                </a:moveTo>
                <a:cubicBezTo>
                  <a:pt x="9667" y="10294"/>
                  <a:pt x="9662" y="10304"/>
                  <a:pt x="9674" y="10269"/>
                </a:cubicBezTo>
              </a:path>
              <a:path w="497" h="75">
                <a:moveTo>
                  <a:pt x="9723" y="10244"/>
                </a:moveTo>
                <a:cubicBezTo>
                  <a:pt x="9773" y="10244"/>
                  <a:pt x="9822" y="10244"/>
                  <a:pt x="9872" y="10244"/>
                </a:cubicBezTo>
              </a:path>
              <a:path w="497" h="75">
                <a:moveTo>
                  <a:pt x="10046" y="10220"/>
                </a:moveTo>
                <a:cubicBezTo>
                  <a:pt x="10071" y="10220"/>
                  <a:pt x="10095" y="10220"/>
                  <a:pt x="10120" y="1022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24200" y="3679920"/>
            <a:ext cx="758880" cy="44280"/>
          </a:xfrm>
          <a:custGeom>
            <a:avLst/>
            <a:gdLst/>
            <a:ahLst/>
            <a:rect l="l" t="t" r="r" b="b"/>
            <a:pathLst>
              <a:path w="2109" h="125">
                <a:moveTo>
                  <a:pt x="10344" y="10220"/>
                </a:moveTo>
                <a:cubicBezTo>
                  <a:pt x="10393" y="10240"/>
                  <a:pt x="10396" y="10244"/>
                  <a:pt x="10443" y="10244"/>
                </a:cubicBezTo>
              </a:path>
              <a:path w="2109" h="125">
                <a:moveTo>
                  <a:pt x="10616" y="10244"/>
                </a:moveTo>
                <a:cubicBezTo>
                  <a:pt x="10639" y="10267"/>
                  <a:pt x="10643" y="10275"/>
                  <a:pt x="10666" y="10269"/>
                </a:cubicBezTo>
              </a:path>
              <a:path w="2109" h="125">
                <a:moveTo>
                  <a:pt x="10840" y="10294"/>
                </a:moveTo>
                <a:cubicBezTo>
                  <a:pt x="10866" y="10331"/>
                  <a:pt x="10855" y="10333"/>
                  <a:pt x="10889" y="10344"/>
                </a:cubicBezTo>
              </a:path>
              <a:path w="2109" h="125">
                <a:moveTo>
                  <a:pt x="10988" y="10319"/>
                </a:moveTo>
                <a:cubicBezTo>
                  <a:pt x="11039" y="10319"/>
                  <a:pt x="11047" y="10330"/>
                  <a:pt x="11088" y="10344"/>
                </a:cubicBezTo>
                <a:cubicBezTo>
                  <a:pt x="11096" y="10344"/>
                  <a:pt x="11104" y="10344"/>
                  <a:pt x="11112" y="10344"/>
                </a:cubicBezTo>
              </a:path>
              <a:path w="2109" h="125">
                <a:moveTo>
                  <a:pt x="11286" y="10319"/>
                </a:moveTo>
                <a:cubicBezTo>
                  <a:pt x="11337" y="10281"/>
                  <a:pt x="11331" y="10305"/>
                  <a:pt x="11385" y="10319"/>
                </a:cubicBezTo>
              </a:path>
              <a:path w="2109" h="125">
                <a:moveTo>
                  <a:pt x="11559" y="10319"/>
                </a:moveTo>
                <a:cubicBezTo>
                  <a:pt x="11584" y="10319"/>
                  <a:pt x="11608" y="10319"/>
                  <a:pt x="11633" y="10319"/>
                </a:cubicBezTo>
              </a:path>
              <a:path w="2109" h="125">
                <a:moveTo>
                  <a:pt x="11807" y="10294"/>
                </a:moveTo>
                <a:cubicBezTo>
                  <a:pt x="11832" y="10294"/>
                  <a:pt x="11856" y="10294"/>
                  <a:pt x="11881" y="10294"/>
                </a:cubicBezTo>
              </a:path>
              <a:path w="2109" h="125">
                <a:moveTo>
                  <a:pt x="12080" y="10294"/>
                </a:moveTo>
                <a:cubicBezTo>
                  <a:pt x="12105" y="10294"/>
                  <a:pt x="12129" y="10294"/>
                  <a:pt x="12154" y="10294"/>
                </a:cubicBezTo>
              </a:path>
              <a:path w="2109" h="125">
                <a:moveTo>
                  <a:pt x="12328" y="10269"/>
                </a:moveTo>
                <a:cubicBezTo>
                  <a:pt x="12369" y="10279"/>
                  <a:pt x="12384" y="10314"/>
                  <a:pt x="12427" y="10319"/>
                </a:cubicBezTo>
                <a:cubicBezTo>
                  <a:pt x="12435" y="10319"/>
                  <a:pt x="12444" y="10319"/>
                  <a:pt x="12452" y="1031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697200"/>
            <a:ext cx="54000" cy="17640"/>
          </a:xfrm>
          <a:custGeom>
            <a:avLst/>
            <a:gdLst/>
            <a:ahLst/>
            <a:rect l="l" t="t" r="r" b="b"/>
            <a:pathLst>
              <a:path w="150" h="51">
                <a:moveTo>
                  <a:pt x="12700" y="10319"/>
                </a:moveTo>
                <a:cubicBezTo>
                  <a:pt x="12733" y="10319"/>
                  <a:pt x="12766" y="10319"/>
                  <a:pt x="12799" y="10319"/>
                </a:cubicBezTo>
              </a:path>
              <a:path w="150" h="51">
                <a:moveTo>
                  <a:pt x="12849" y="10319"/>
                </a:moveTo>
                <a:lnTo>
                  <a:pt x="12849" y="10319"/>
                </a:lnTo>
                <a:lnTo>
                  <a:pt x="12849" y="10319"/>
                </a:lnTo>
                <a:lnTo>
                  <a:pt x="12849" y="10319"/>
                </a:lnTo>
                <a:lnTo>
                  <a:pt x="12849" y="10319"/>
                </a:lnTo>
              </a:path>
              <a:path w="150" h="51">
                <a:moveTo>
                  <a:pt x="12849" y="10319"/>
                </a:moveTo>
                <a:cubicBezTo>
                  <a:pt x="12849" y="10294"/>
                  <a:pt x="12849" y="10286"/>
                  <a:pt x="12849" y="1026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276720"/>
            <a:ext cx="54000" cy="384120"/>
          </a:xfrm>
          <a:custGeom>
            <a:avLst/>
            <a:gdLst/>
            <a:ahLst/>
            <a:rect l="l" t="t" r="r" b="b"/>
            <a:pathLst>
              <a:path w="150" h="1068">
                <a:moveTo>
                  <a:pt x="12849" y="10170"/>
                </a:moveTo>
                <a:cubicBezTo>
                  <a:pt x="12823" y="10135"/>
                  <a:pt x="12824" y="10139"/>
                  <a:pt x="12824" y="10096"/>
                </a:cubicBezTo>
              </a:path>
              <a:path w="150" h="1068">
                <a:moveTo>
                  <a:pt x="12824" y="9971"/>
                </a:moveTo>
                <a:cubicBezTo>
                  <a:pt x="12824" y="9946"/>
                  <a:pt x="12824" y="9922"/>
                  <a:pt x="12824" y="9897"/>
                </a:cubicBezTo>
              </a:path>
              <a:path w="150" h="1068">
                <a:moveTo>
                  <a:pt x="12799" y="9823"/>
                </a:moveTo>
                <a:cubicBezTo>
                  <a:pt x="12799" y="9765"/>
                  <a:pt x="12799" y="9707"/>
                  <a:pt x="12799" y="9649"/>
                </a:cubicBezTo>
                <a:cubicBezTo>
                  <a:pt x="12774" y="9649"/>
                  <a:pt x="12766" y="9649"/>
                  <a:pt x="12774" y="9624"/>
                </a:cubicBezTo>
              </a:path>
              <a:path w="150" h="1068">
                <a:moveTo>
                  <a:pt x="12774" y="9575"/>
                </a:moveTo>
                <a:cubicBezTo>
                  <a:pt x="12774" y="9530"/>
                  <a:pt x="12778" y="9517"/>
                  <a:pt x="12750" y="9500"/>
                </a:cubicBezTo>
              </a:path>
              <a:path w="150" h="1068">
                <a:moveTo>
                  <a:pt x="12750" y="9327"/>
                </a:moveTo>
                <a:cubicBezTo>
                  <a:pt x="12724" y="9292"/>
                  <a:pt x="12725" y="9296"/>
                  <a:pt x="12725" y="9252"/>
                </a:cubicBezTo>
              </a:path>
              <a:path w="150" h="1068">
                <a:moveTo>
                  <a:pt x="12725" y="9153"/>
                </a:moveTo>
                <a:cubicBezTo>
                  <a:pt x="12725" y="9111"/>
                  <a:pt x="12733" y="9095"/>
                  <a:pt x="12700" y="910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62240" y="3303720"/>
            <a:ext cx="9720" cy="349200"/>
          </a:xfrm>
          <a:custGeom>
            <a:avLst/>
            <a:gdLst/>
            <a:ahLst/>
            <a:rect l="l" t="t" r="r" b="b"/>
            <a:pathLst>
              <a:path w="26" h="968">
                <a:moveTo>
                  <a:pt x="11311" y="10145"/>
                </a:moveTo>
                <a:cubicBezTo>
                  <a:pt x="11311" y="10062"/>
                  <a:pt x="11311" y="10203"/>
                  <a:pt x="11311" y="10120"/>
                </a:cubicBezTo>
              </a:path>
              <a:path w="26" h="968">
                <a:moveTo>
                  <a:pt x="11311" y="10145"/>
                </a:moveTo>
                <a:cubicBezTo>
                  <a:pt x="11311" y="10112"/>
                  <a:pt x="11311" y="10079"/>
                  <a:pt x="11311" y="10046"/>
                </a:cubicBezTo>
              </a:path>
              <a:path w="26" h="968">
                <a:moveTo>
                  <a:pt x="11286" y="9922"/>
                </a:moveTo>
                <a:lnTo>
                  <a:pt x="11286" y="9922"/>
                </a:lnTo>
                <a:lnTo>
                  <a:pt x="11286" y="9922"/>
                </a:lnTo>
                <a:lnTo>
                  <a:pt x="11286" y="9922"/>
                </a:lnTo>
                <a:lnTo>
                  <a:pt x="11286" y="9922"/>
                </a:lnTo>
                <a:lnTo>
                  <a:pt x="11286" y="9922"/>
                </a:lnTo>
                <a:lnTo>
                  <a:pt x="11286" y="9922"/>
                </a:lnTo>
              </a:path>
              <a:path w="26" h="968">
                <a:moveTo>
                  <a:pt x="11286" y="9823"/>
                </a:moveTo>
                <a:cubicBezTo>
                  <a:pt x="11286" y="9815"/>
                  <a:pt x="11286" y="9806"/>
                  <a:pt x="11286" y="9798"/>
                </a:cubicBezTo>
              </a:path>
              <a:path w="26" h="968">
                <a:moveTo>
                  <a:pt x="11286" y="9649"/>
                </a:moveTo>
                <a:lnTo>
                  <a:pt x="11286" y="9649"/>
                </a:lnTo>
                <a:lnTo>
                  <a:pt x="11286" y="9649"/>
                </a:lnTo>
                <a:lnTo>
                  <a:pt x="11286" y="9649"/>
                </a:lnTo>
                <a:lnTo>
                  <a:pt x="11286" y="9649"/>
                </a:lnTo>
                <a:lnTo>
                  <a:pt x="11286" y="9649"/>
                </a:lnTo>
                <a:lnTo>
                  <a:pt x="11286" y="9649"/>
                </a:lnTo>
              </a:path>
              <a:path w="26" h="968">
                <a:moveTo>
                  <a:pt x="11311" y="9575"/>
                </a:moveTo>
                <a:cubicBezTo>
                  <a:pt x="11311" y="9567"/>
                  <a:pt x="11311" y="9558"/>
                  <a:pt x="11311" y="9550"/>
                </a:cubicBezTo>
              </a:path>
              <a:path w="26" h="968">
                <a:moveTo>
                  <a:pt x="11286" y="9451"/>
                </a:moveTo>
                <a:cubicBezTo>
                  <a:pt x="11286" y="9443"/>
                  <a:pt x="11286" y="9434"/>
                  <a:pt x="11286" y="9426"/>
                </a:cubicBezTo>
              </a:path>
              <a:path w="26" h="968">
                <a:moveTo>
                  <a:pt x="11311" y="9302"/>
                </a:moveTo>
                <a:cubicBezTo>
                  <a:pt x="11311" y="9294"/>
                  <a:pt x="11311" y="9285"/>
                  <a:pt x="11311" y="9277"/>
                </a:cubicBezTo>
              </a:path>
              <a:path w="26" h="968">
                <a:moveTo>
                  <a:pt x="11311" y="9203"/>
                </a:moveTo>
                <a:cubicBezTo>
                  <a:pt x="11311" y="9195"/>
                  <a:pt x="11311" y="9186"/>
                  <a:pt x="11311" y="917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9040" y="3071880"/>
            <a:ext cx="473040" cy="152280"/>
          </a:xfrm>
          <a:custGeom>
            <a:avLst/>
            <a:gdLst/>
            <a:ahLst/>
            <a:rect l="l" t="t" r="r" b="b"/>
            <a:pathLst>
              <a:path w="1316" h="422">
                <a:moveTo>
                  <a:pt x="11038" y="8706"/>
                </a:moveTo>
                <a:cubicBezTo>
                  <a:pt x="10997" y="8706"/>
                  <a:pt x="10955" y="8706"/>
                  <a:pt x="10914" y="8706"/>
                </a:cubicBezTo>
                <a:cubicBezTo>
                  <a:pt x="10922" y="8676"/>
                  <a:pt x="10935" y="8627"/>
                  <a:pt x="10964" y="8607"/>
                </a:cubicBezTo>
                <a:cubicBezTo>
                  <a:pt x="11007" y="8576"/>
                  <a:pt x="11039" y="8582"/>
                  <a:pt x="11088" y="8582"/>
                </a:cubicBezTo>
                <a:cubicBezTo>
                  <a:pt x="11096" y="8582"/>
                  <a:pt x="11104" y="8582"/>
                  <a:pt x="11112" y="8582"/>
                </a:cubicBezTo>
                <a:cubicBezTo>
                  <a:pt x="11112" y="8654"/>
                  <a:pt x="11118" y="8714"/>
                  <a:pt x="11088" y="8781"/>
                </a:cubicBezTo>
                <a:cubicBezTo>
                  <a:pt x="11062" y="8839"/>
                  <a:pt x="11063" y="8866"/>
                  <a:pt x="11063" y="8930"/>
                </a:cubicBezTo>
                <a:cubicBezTo>
                  <a:pt x="11063" y="8938"/>
                  <a:pt x="11063" y="8946"/>
                  <a:pt x="11063" y="8954"/>
                </a:cubicBezTo>
                <a:cubicBezTo>
                  <a:pt x="11116" y="8954"/>
                  <a:pt x="11145" y="8939"/>
                  <a:pt x="11187" y="8930"/>
                </a:cubicBezTo>
                <a:cubicBezTo>
                  <a:pt x="11251" y="8917"/>
                  <a:pt x="11258" y="8918"/>
                  <a:pt x="11286" y="8880"/>
                </a:cubicBezTo>
                <a:cubicBezTo>
                  <a:pt x="11294" y="8872"/>
                  <a:pt x="11303" y="8863"/>
                  <a:pt x="11311" y="8855"/>
                </a:cubicBezTo>
              </a:path>
              <a:path w="1316" h="422">
                <a:moveTo>
                  <a:pt x="11385" y="8632"/>
                </a:moveTo>
                <a:cubicBezTo>
                  <a:pt x="11418" y="8687"/>
                  <a:pt x="11410" y="8738"/>
                  <a:pt x="11410" y="8806"/>
                </a:cubicBezTo>
                <a:cubicBezTo>
                  <a:pt x="11410" y="8839"/>
                  <a:pt x="11410" y="8872"/>
                  <a:pt x="11410" y="8905"/>
                </a:cubicBezTo>
              </a:path>
              <a:path w="1316" h="422">
                <a:moveTo>
                  <a:pt x="11534" y="8632"/>
                </a:moveTo>
                <a:cubicBezTo>
                  <a:pt x="11509" y="8632"/>
                  <a:pt x="11501" y="8632"/>
                  <a:pt x="11509" y="8607"/>
                </a:cubicBezTo>
                <a:cubicBezTo>
                  <a:pt x="11517" y="8584"/>
                  <a:pt x="11551" y="8569"/>
                  <a:pt x="11584" y="8558"/>
                </a:cubicBezTo>
                <a:cubicBezTo>
                  <a:pt x="11628" y="8544"/>
                  <a:pt x="11654" y="8567"/>
                  <a:pt x="11658" y="8607"/>
                </a:cubicBezTo>
                <a:cubicBezTo>
                  <a:pt x="11663" y="8655"/>
                  <a:pt x="11637" y="8693"/>
                  <a:pt x="11609" y="8731"/>
                </a:cubicBezTo>
                <a:cubicBezTo>
                  <a:pt x="11582" y="8767"/>
                  <a:pt x="11564" y="8807"/>
                  <a:pt x="11559" y="8855"/>
                </a:cubicBezTo>
                <a:cubicBezTo>
                  <a:pt x="11559" y="8880"/>
                  <a:pt x="11559" y="8888"/>
                  <a:pt x="11559" y="8905"/>
                </a:cubicBezTo>
                <a:cubicBezTo>
                  <a:pt x="11620" y="8905"/>
                  <a:pt x="11654" y="8895"/>
                  <a:pt x="11683" y="8880"/>
                </a:cubicBezTo>
                <a:cubicBezTo>
                  <a:pt x="11691" y="8880"/>
                  <a:pt x="11700" y="8880"/>
                  <a:pt x="11708" y="8880"/>
                </a:cubicBezTo>
              </a:path>
              <a:path w="1316" h="422">
                <a:moveTo>
                  <a:pt x="11906" y="8830"/>
                </a:moveTo>
                <a:cubicBezTo>
                  <a:pt x="11906" y="8838"/>
                  <a:pt x="11906" y="8847"/>
                  <a:pt x="11906" y="8855"/>
                </a:cubicBezTo>
              </a:path>
              <a:path w="1316" h="422">
                <a:moveTo>
                  <a:pt x="12080" y="8632"/>
                </a:moveTo>
                <a:cubicBezTo>
                  <a:pt x="12080" y="8607"/>
                  <a:pt x="12080" y="8599"/>
                  <a:pt x="12055" y="8607"/>
                </a:cubicBezTo>
                <a:cubicBezTo>
                  <a:pt x="12055" y="8659"/>
                  <a:pt x="12041" y="8660"/>
                  <a:pt x="12030" y="8682"/>
                </a:cubicBezTo>
                <a:cubicBezTo>
                  <a:pt x="12012" y="8716"/>
                  <a:pt x="12051" y="8768"/>
                  <a:pt x="12080" y="8781"/>
                </a:cubicBezTo>
                <a:cubicBezTo>
                  <a:pt x="12113" y="8796"/>
                  <a:pt x="12149" y="8794"/>
                  <a:pt x="12154" y="8830"/>
                </a:cubicBezTo>
                <a:cubicBezTo>
                  <a:pt x="12157" y="8854"/>
                  <a:pt x="12154" y="8881"/>
                  <a:pt x="12154" y="8905"/>
                </a:cubicBezTo>
                <a:cubicBezTo>
                  <a:pt x="12107" y="8905"/>
                  <a:pt x="12074" y="8921"/>
                  <a:pt x="12030" y="8930"/>
                </a:cubicBezTo>
              </a:path>
              <a:path w="1316" h="422">
                <a:moveTo>
                  <a:pt x="12229" y="8582"/>
                </a:moveTo>
                <a:cubicBezTo>
                  <a:pt x="12229" y="8507"/>
                  <a:pt x="12196" y="8573"/>
                  <a:pt x="12129" y="858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89640" y="3071880"/>
            <a:ext cx="571320" cy="179280"/>
          </a:xfrm>
          <a:custGeom>
            <a:avLst/>
            <a:gdLst/>
            <a:ahLst/>
            <a:rect l="l" t="t" r="r" b="b"/>
            <a:pathLst>
              <a:path w="1588" h="497">
                <a:moveTo>
                  <a:pt x="12799" y="8731"/>
                </a:moveTo>
                <a:cubicBezTo>
                  <a:pt x="12774" y="8731"/>
                  <a:pt x="12766" y="8731"/>
                  <a:pt x="12750" y="8731"/>
                </a:cubicBezTo>
                <a:cubicBezTo>
                  <a:pt x="12790" y="8721"/>
                  <a:pt x="12813" y="8703"/>
                  <a:pt x="12849" y="8682"/>
                </a:cubicBezTo>
                <a:cubicBezTo>
                  <a:pt x="12898" y="8654"/>
                  <a:pt x="12940" y="8638"/>
                  <a:pt x="12948" y="8706"/>
                </a:cubicBezTo>
                <a:cubicBezTo>
                  <a:pt x="12951" y="8732"/>
                  <a:pt x="12939" y="8795"/>
                  <a:pt x="12923" y="8806"/>
                </a:cubicBezTo>
                <a:cubicBezTo>
                  <a:pt x="12892" y="8827"/>
                  <a:pt x="12898" y="8829"/>
                  <a:pt x="12898" y="8880"/>
                </a:cubicBezTo>
                <a:cubicBezTo>
                  <a:pt x="12898" y="8946"/>
                  <a:pt x="12950" y="8909"/>
                  <a:pt x="12973" y="8954"/>
                </a:cubicBezTo>
                <a:cubicBezTo>
                  <a:pt x="13003" y="9013"/>
                  <a:pt x="12915" y="8994"/>
                  <a:pt x="12898" y="9004"/>
                </a:cubicBezTo>
                <a:cubicBezTo>
                  <a:pt x="12860" y="9026"/>
                  <a:pt x="12870" y="9029"/>
                  <a:pt x="12824" y="9029"/>
                </a:cubicBezTo>
              </a:path>
              <a:path w="1588" h="497">
                <a:moveTo>
                  <a:pt x="13122" y="8731"/>
                </a:moveTo>
                <a:cubicBezTo>
                  <a:pt x="13134" y="8681"/>
                  <a:pt x="13146" y="8682"/>
                  <a:pt x="13196" y="8682"/>
                </a:cubicBezTo>
                <a:cubicBezTo>
                  <a:pt x="13221" y="8682"/>
                  <a:pt x="13246" y="8682"/>
                  <a:pt x="13271" y="8682"/>
                </a:cubicBezTo>
                <a:cubicBezTo>
                  <a:pt x="13271" y="8729"/>
                  <a:pt x="13254" y="8745"/>
                  <a:pt x="13246" y="8781"/>
                </a:cubicBezTo>
                <a:cubicBezTo>
                  <a:pt x="13236" y="8828"/>
                  <a:pt x="13170" y="8903"/>
                  <a:pt x="13196" y="8954"/>
                </a:cubicBezTo>
                <a:cubicBezTo>
                  <a:pt x="13224" y="9010"/>
                  <a:pt x="13279" y="8958"/>
                  <a:pt x="13320" y="8954"/>
                </a:cubicBezTo>
                <a:cubicBezTo>
                  <a:pt x="13345" y="8954"/>
                  <a:pt x="13353" y="8954"/>
                  <a:pt x="13345" y="8930"/>
                </a:cubicBezTo>
              </a:path>
              <a:path w="1588" h="497">
                <a:moveTo>
                  <a:pt x="13444" y="8607"/>
                </a:moveTo>
                <a:cubicBezTo>
                  <a:pt x="13462" y="8662"/>
                  <a:pt x="13480" y="8620"/>
                  <a:pt x="13519" y="8607"/>
                </a:cubicBezTo>
                <a:cubicBezTo>
                  <a:pt x="13559" y="8593"/>
                  <a:pt x="13606" y="8595"/>
                  <a:pt x="13643" y="8582"/>
                </a:cubicBezTo>
                <a:cubicBezTo>
                  <a:pt x="13695" y="8564"/>
                  <a:pt x="13692" y="8628"/>
                  <a:pt x="13692" y="8657"/>
                </a:cubicBezTo>
                <a:cubicBezTo>
                  <a:pt x="13692" y="8737"/>
                  <a:pt x="13641" y="8782"/>
                  <a:pt x="13618" y="8855"/>
                </a:cubicBezTo>
                <a:cubicBezTo>
                  <a:pt x="13609" y="8883"/>
                  <a:pt x="13600" y="8901"/>
                  <a:pt x="13593" y="8930"/>
                </a:cubicBezTo>
              </a:path>
              <a:path w="1588" h="497">
                <a:moveTo>
                  <a:pt x="13791" y="8880"/>
                </a:moveTo>
                <a:cubicBezTo>
                  <a:pt x="13816" y="8880"/>
                  <a:pt x="13824" y="8880"/>
                  <a:pt x="13816" y="8905"/>
                </a:cubicBezTo>
              </a:path>
              <a:path w="1588" h="497">
                <a:moveTo>
                  <a:pt x="14089" y="8657"/>
                </a:moveTo>
                <a:cubicBezTo>
                  <a:pt x="14112" y="8634"/>
                  <a:pt x="14120" y="8630"/>
                  <a:pt x="14114" y="8607"/>
                </a:cubicBezTo>
                <a:cubicBezTo>
                  <a:pt x="14056" y="8607"/>
                  <a:pt x="14045" y="8620"/>
                  <a:pt x="14039" y="8682"/>
                </a:cubicBezTo>
                <a:cubicBezTo>
                  <a:pt x="14035" y="8726"/>
                  <a:pt x="14101" y="8772"/>
                  <a:pt x="14139" y="8781"/>
                </a:cubicBezTo>
                <a:cubicBezTo>
                  <a:pt x="14193" y="8794"/>
                  <a:pt x="14243" y="8776"/>
                  <a:pt x="14288" y="8806"/>
                </a:cubicBezTo>
                <a:cubicBezTo>
                  <a:pt x="14296" y="8814"/>
                  <a:pt x="14304" y="8822"/>
                  <a:pt x="14312" y="8830"/>
                </a:cubicBezTo>
                <a:cubicBezTo>
                  <a:pt x="14303" y="8858"/>
                  <a:pt x="14279" y="8877"/>
                  <a:pt x="14238" y="8880"/>
                </a:cubicBezTo>
                <a:cubicBezTo>
                  <a:pt x="14166" y="8885"/>
                  <a:pt x="14108" y="8900"/>
                  <a:pt x="14039" y="8905"/>
                </a:cubicBezTo>
                <a:cubicBezTo>
                  <a:pt x="14031" y="8905"/>
                  <a:pt x="14023" y="8905"/>
                  <a:pt x="14015" y="8905"/>
                </a:cubicBezTo>
              </a:path>
              <a:path w="1588" h="497">
                <a:moveTo>
                  <a:pt x="14312" y="8632"/>
                </a:moveTo>
                <a:cubicBezTo>
                  <a:pt x="14331" y="8575"/>
                  <a:pt x="14340" y="8568"/>
                  <a:pt x="14337" y="8533"/>
                </a:cubicBezTo>
                <a:cubicBezTo>
                  <a:pt x="14279" y="8533"/>
                  <a:pt x="14241" y="8556"/>
                  <a:pt x="14188" y="858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83000" y="5581800"/>
            <a:ext cx="330120" cy="588960"/>
          </a:xfrm>
          <a:custGeom>
            <a:avLst/>
            <a:gdLst/>
            <a:ahLst/>
            <a:rect l="l" t="t" r="r" b="b"/>
            <a:pathLst>
              <a:path w="919" h="1638">
                <a:moveTo>
                  <a:pt x="10170" y="16024"/>
                </a:moveTo>
                <a:cubicBezTo>
                  <a:pt x="10170" y="15999"/>
                  <a:pt x="10170" y="15991"/>
                  <a:pt x="10170" y="15974"/>
                </a:cubicBezTo>
                <a:cubicBezTo>
                  <a:pt x="10170" y="16023"/>
                  <a:pt x="10153" y="16060"/>
                  <a:pt x="10145" y="16098"/>
                </a:cubicBezTo>
                <a:cubicBezTo>
                  <a:pt x="10134" y="16151"/>
                  <a:pt x="10145" y="16218"/>
                  <a:pt x="10145" y="16272"/>
                </a:cubicBezTo>
              </a:path>
              <a:path w="919" h="1638">
                <a:moveTo>
                  <a:pt x="9674" y="15528"/>
                </a:moveTo>
                <a:cubicBezTo>
                  <a:pt x="9674" y="15619"/>
                  <a:pt x="9674" y="15710"/>
                  <a:pt x="9674" y="15801"/>
                </a:cubicBezTo>
              </a:path>
              <a:path w="919" h="1638">
                <a:moveTo>
                  <a:pt x="9847" y="15577"/>
                </a:moveTo>
                <a:cubicBezTo>
                  <a:pt x="9858" y="15545"/>
                  <a:pt x="9887" y="15547"/>
                  <a:pt x="9897" y="15528"/>
                </a:cubicBezTo>
                <a:cubicBezTo>
                  <a:pt x="9901" y="15520"/>
                  <a:pt x="9946" y="15471"/>
                  <a:pt x="9971" y="15503"/>
                </a:cubicBezTo>
                <a:cubicBezTo>
                  <a:pt x="9992" y="15530"/>
                  <a:pt x="9971" y="15528"/>
                  <a:pt x="10021" y="15528"/>
                </a:cubicBezTo>
                <a:cubicBezTo>
                  <a:pt x="10013" y="15559"/>
                  <a:pt x="9988" y="15601"/>
                  <a:pt x="9971" y="15627"/>
                </a:cubicBezTo>
                <a:cubicBezTo>
                  <a:pt x="9963" y="15635"/>
                  <a:pt x="9955" y="15644"/>
                  <a:pt x="9947" y="15652"/>
                </a:cubicBezTo>
                <a:cubicBezTo>
                  <a:pt x="9984" y="15661"/>
                  <a:pt x="10007" y="15694"/>
                  <a:pt x="10021" y="15701"/>
                </a:cubicBezTo>
                <a:cubicBezTo>
                  <a:pt x="10044" y="15712"/>
                  <a:pt x="10073" y="15750"/>
                  <a:pt x="10021" y="15776"/>
                </a:cubicBezTo>
                <a:cubicBezTo>
                  <a:pt x="10006" y="15783"/>
                  <a:pt x="9964" y="15776"/>
                  <a:pt x="9947" y="15776"/>
                </a:cubicBezTo>
              </a:path>
              <a:path w="919" h="1638">
                <a:moveTo>
                  <a:pt x="10120" y="15677"/>
                </a:moveTo>
                <a:cubicBezTo>
                  <a:pt x="10108" y="15640"/>
                  <a:pt x="10096" y="15655"/>
                  <a:pt x="10096" y="15602"/>
                </a:cubicBezTo>
                <a:cubicBezTo>
                  <a:pt x="10096" y="15577"/>
                  <a:pt x="10096" y="15569"/>
                  <a:pt x="10096" y="15553"/>
                </a:cubicBezTo>
                <a:cubicBezTo>
                  <a:pt x="10181" y="15553"/>
                  <a:pt x="10162" y="15542"/>
                  <a:pt x="10195" y="15602"/>
                </a:cubicBezTo>
                <a:cubicBezTo>
                  <a:pt x="10203" y="15617"/>
                  <a:pt x="10247" y="15704"/>
                  <a:pt x="10220" y="15726"/>
                </a:cubicBezTo>
                <a:cubicBezTo>
                  <a:pt x="10206" y="15737"/>
                  <a:pt x="10165" y="15746"/>
                  <a:pt x="10145" y="15751"/>
                </a:cubicBezTo>
              </a:path>
              <a:path w="919" h="1638">
                <a:moveTo>
                  <a:pt x="10319" y="15801"/>
                </a:moveTo>
                <a:cubicBezTo>
                  <a:pt x="10327" y="15801"/>
                  <a:pt x="10336" y="15801"/>
                  <a:pt x="10344" y="15801"/>
                </a:cubicBezTo>
              </a:path>
              <a:path w="919" h="1638">
                <a:moveTo>
                  <a:pt x="10418" y="15652"/>
                </a:moveTo>
                <a:cubicBezTo>
                  <a:pt x="10418" y="15600"/>
                  <a:pt x="10432" y="15599"/>
                  <a:pt x="10443" y="15577"/>
                </a:cubicBezTo>
                <a:cubicBezTo>
                  <a:pt x="10456" y="15551"/>
                  <a:pt x="10475" y="15533"/>
                  <a:pt x="10517" y="15528"/>
                </a:cubicBezTo>
                <a:cubicBezTo>
                  <a:pt x="10541" y="15525"/>
                  <a:pt x="10568" y="15528"/>
                  <a:pt x="10592" y="15528"/>
                </a:cubicBezTo>
                <a:cubicBezTo>
                  <a:pt x="10592" y="15580"/>
                  <a:pt x="10597" y="15580"/>
                  <a:pt x="10567" y="15602"/>
                </a:cubicBezTo>
                <a:cubicBezTo>
                  <a:pt x="10545" y="15619"/>
                  <a:pt x="10526" y="15672"/>
                  <a:pt x="10542" y="15701"/>
                </a:cubicBezTo>
                <a:cubicBezTo>
                  <a:pt x="10562" y="15737"/>
                  <a:pt x="10587" y="15759"/>
                  <a:pt x="10592" y="15801"/>
                </a:cubicBezTo>
                <a:cubicBezTo>
                  <a:pt x="10596" y="15840"/>
                  <a:pt x="10571" y="15825"/>
                  <a:pt x="10542" y="15825"/>
                </a:cubicBezTo>
              </a:path>
              <a:path w="919" h="1638">
                <a:moveTo>
                  <a:pt x="10145" y="16247"/>
                </a:move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  <a:lnTo>
                  <a:pt x="10145" y="16247"/>
                </a:lnTo>
              </a:path>
              <a:path w="919" h="1638">
                <a:moveTo>
                  <a:pt x="10145" y="16421"/>
                </a:moveTo>
                <a:cubicBezTo>
                  <a:pt x="10145" y="16465"/>
                  <a:pt x="10142" y="16479"/>
                  <a:pt x="10170" y="16495"/>
                </a:cubicBezTo>
              </a:path>
              <a:path w="919" h="1638">
                <a:moveTo>
                  <a:pt x="10145" y="16594"/>
                </a:moveTo>
                <a:cubicBezTo>
                  <a:pt x="10145" y="16635"/>
                  <a:pt x="10145" y="16677"/>
                  <a:pt x="10145" y="16718"/>
                </a:cubicBezTo>
              </a:path>
              <a:path w="919" h="1638">
                <a:moveTo>
                  <a:pt x="10145" y="16768"/>
                </a:moveTo>
                <a:cubicBezTo>
                  <a:pt x="10145" y="16801"/>
                  <a:pt x="10145" y="16834"/>
                  <a:pt x="10145" y="16867"/>
                </a:cubicBezTo>
              </a:path>
              <a:path w="919" h="1638">
                <a:moveTo>
                  <a:pt x="10145" y="17041"/>
                </a:moveTo>
                <a:cubicBezTo>
                  <a:pt x="10145" y="17074"/>
                  <a:pt x="10145" y="17107"/>
                  <a:pt x="10145" y="1714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1320" y="6161040"/>
            <a:ext cx="133560" cy="9720"/>
          </a:xfrm>
          <a:custGeom>
            <a:avLst/>
            <a:gdLst/>
            <a:ahLst/>
            <a:rect l="l" t="t" r="r" b="b"/>
            <a:pathLst>
              <a:path w="373" h="26">
                <a:moveTo>
                  <a:pt x="8086" y="17115"/>
                </a:moveTo>
                <a:cubicBezTo>
                  <a:pt x="8086" y="17170"/>
                  <a:pt x="8137" y="17133"/>
                  <a:pt x="8161" y="17115"/>
                </a:cubicBezTo>
              </a:path>
              <a:path w="373" h="26">
                <a:moveTo>
                  <a:pt x="8285" y="17115"/>
                </a:moveTo>
                <a:cubicBezTo>
                  <a:pt x="8350" y="17115"/>
                  <a:pt x="8358" y="17123"/>
                  <a:pt x="8409" y="17140"/>
                </a:cubicBezTo>
                <a:cubicBezTo>
                  <a:pt x="8434" y="17140"/>
                  <a:pt x="8442" y="17140"/>
                  <a:pt x="8458" y="1714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86080" y="5929200"/>
            <a:ext cx="928800" cy="277920"/>
          </a:xfrm>
          <a:custGeom>
            <a:avLst/>
            <a:gdLst/>
            <a:ahLst/>
            <a:rect l="l" t="t" r="r" b="b"/>
            <a:pathLst>
              <a:path w="2581" h="770">
                <a:moveTo>
                  <a:pt x="9128" y="17016"/>
                </a:moveTo>
                <a:cubicBezTo>
                  <a:pt x="9174" y="17016"/>
                  <a:pt x="9187" y="17036"/>
                  <a:pt x="9227" y="17041"/>
                </a:cubicBezTo>
                <a:cubicBezTo>
                  <a:pt x="9347" y="17055"/>
                  <a:pt x="9478" y="17041"/>
                  <a:pt x="9599" y="17041"/>
                </a:cubicBezTo>
              </a:path>
              <a:path w="2581" h="770">
                <a:moveTo>
                  <a:pt x="9699" y="17041"/>
                </a:moveTo>
                <a:cubicBezTo>
                  <a:pt x="9759" y="17041"/>
                  <a:pt x="9773" y="17053"/>
                  <a:pt x="9823" y="17066"/>
                </a:cubicBezTo>
              </a:path>
              <a:path w="2581" h="770">
                <a:moveTo>
                  <a:pt x="9897" y="17041"/>
                </a:moveTo>
                <a:cubicBezTo>
                  <a:pt x="9938" y="17041"/>
                  <a:pt x="9946" y="17041"/>
                  <a:pt x="9971" y="17041"/>
                </a:cubicBezTo>
              </a:path>
              <a:path w="2581" h="770">
                <a:moveTo>
                  <a:pt x="10096" y="17041"/>
                </a:moveTo>
                <a:cubicBezTo>
                  <a:pt x="10145" y="17041"/>
                  <a:pt x="10195" y="17041"/>
                  <a:pt x="10244" y="17041"/>
                </a:cubicBezTo>
              </a:path>
              <a:path w="2581" h="770">
                <a:moveTo>
                  <a:pt x="10468" y="17041"/>
                </a:moveTo>
                <a:cubicBezTo>
                  <a:pt x="10551" y="17041"/>
                  <a:pt x="10633" y="17041"/>
                  <a:pt x="10716" y="17041"/>
                </a:cubicBezTo>
              </a:path>
              <a:path w="2581" h="770">
                <a:moveTo>
                  <a:pt x="10864" y="17041"/>
                </a:moveTo>
                <a:cubicBezTo>
                  <a:pt x="10929" y="17047"/>
                  <a:pt x="10954" y="17066"/>
                  <a:pt x="11013" y="17066"/>
                </a:cubicBezTo>
                <a:cubicBezTo>
                  <a:pt x="11021" y="17066"/>
                  <a:pt x="11030" y="17066"/>
                  <a:pt x="11038" y="17066"/>
                </a:cubicBezTo>
              </a:path>
              <a:path w="2581" h="770">
                <a:moveTo>
                  <a:pt x="11261" y="17115"/>
                </a:moveTo>
                <a:cubicBezTo>
                  <a:pt x="11313" y="17137"/>
                  <a:pt x="11331" y="17140"/>
                  <a:pt x="11385" y="17140"/>
                </a:cubicBezTo>
                <a:cubicBezTo>
                  <a:pt x="11393" y="17163"/>
                  <a:pt x="11428" y="17179"/>
                  <a:pt x="11460" y="17190"/>
                </a:cubicBezTo>
                <a:cubicBezTo>
                  <a:pt x="11499" y="17203"/>
                  <a:pt x="11548" y="17202"/>
                  <a:pt x="11584" y="17214"/>
                </a:cubicBezTo>
                <a:cubicBezTo>
                  <a:pt x="11592" y="17214"/>
                  <a:pt x="11601" y="17214"/>
                  <a:pt x="11609" y="17214"/>
                </a:cubicBezTo>
                <a:cubicBezTo>
                  <a:pt x="11621" y="17252"/>
                  <a:pt x="11638" y="17239"/>
                  <a:pt x="11683" y="17239"/>
                </a:cubicBezTo>
              </a:path>
              <a:path w="2581" h="770">
                <a:moveTo>
                  <a:pt x="11708" y="17239"/>
                </a:moveTo>
                <a:cubicBezTo>
                  <a:pt x="11708" y="17231"/>
                  <a:pt x="11708" y="17222"/>
                  <a:pt x="11708" y="17214"/>
                </a:cubicBezTo>
              </a:path>
              <a:path w="2581" h="770">
                <a:moveTo>
                  <a:pt x="11683" y="17090"/>
                </a:moveTo>
                <a:cubicBezTo>
                  <a:pt x="11683" y="17066"/>
                  <a:pt x="11683" y="17057"/>
                  <a:pt x="11683" y="17041"/>
                </a:cubicBezTo>
              </a:path>
              <a:path w="2581" h="770">
                <a:moveTo>
                  <a:pt x="11683" y="16966"/>
                </a:moveTo>
                <a:cubicBezTo>
                  <a:pt x="11673" y="16927"/>
                  <a:pt x="11658" y="16912"/>
                  <a:pt x="11658" y="16867"/>
                </a:cubicBezTo>
              </a:path>
              <a:path w="2581" h="770">
                <a:moveTo>
                  <a:pt x="11609" y="16694"/>
                </a:moveTo>
                <a:cubicBezTo>
                  <a:pt x="11609" y="16661"/>
                  <a:pt x="11609" y="16627"/>
                  <a:pt x="11609" y="16594"/>
                </a:cubicBezTo>
              </a:path>
              <a:path w="2581" h="770">
                <a:moveTo>
                  <a:pt x="11609" y="16495"/>
                </a:moveTo>
                <a:cubicBezTo>
                  <a:pt x="11609" y="16470"/>
                  <a:pt x="11609" y="16462"/>
                  <a:pt x="11584" y="1647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44960" y="5581800"/>
            <a:ext cx="563400" cy="293400"/>
          </a:xfrm>
          <a:custGeom>
            <a:avLst/>
            <a:gdLst/>
            <a:ahLst/>
            <a:rect l="l" t="t" r="r" b="b"/>
            <a:pathLst>
              <a:path w="1563" h="819">
                <a:moveTo>
                  <a:pt x="11559" y="16321"/>
                </a:moveTo>
                <a:cubicBezTo>
                  <a:pt x="11531" y="16257"/>
                  <a:pt x="11522" y="16271"/>
                  <a:pt x="11559" y="16222"/>
                </a:cubicBezTo>
              </a:path>
              <a:path w="1563" h="819">
                <a:moveTo>
                  <a:pt x="11311" y="15726"/>
                </a:moveTo>
                <a:cubicBezTo>
                  <a:pt x="11258" y="15726"/>
                  <a:pt x="11274" y="15738"/>
                  <a:pt x="11237" y="15751"/>
                </a:cubicBezTo>
                <a:cubicBezTo>
                  <a:pt x="11237" y="15706"/>
                  <a:pt x="11231" y="15687"/>
                  <a:pt x="11261" y="15652"/>
                </a:cubicBezTo>
                <a:cubicBezTo>
                  <a:pt x="11296" y="15612"/>
                  <a:pt x="11356" y="15584"/>
                  <a:pt x="11410" y="15602"/>
                </a:cubicBezTo>
                <a:cubicBezTo>
                  <a:pt x="11496" y="15631"/>
                  <a:pt x="11485" y="15673"/>
                  <a:pt x="11485" y="15751"/>
                </a:cubicBezTo>
                <a:cubicBezTo>
                  <a:pt x="11485" y="15796"/>
                  <a:pt x="11454" y="15885"/>
                  <a:pt x="11435" y="15925"/>
                </a:cubicBezTo>
                <a:cubicBezTo>
                  <a:pt x="11412" y="15947"/>
                  <a:pt x="11404" y="15952"/>
                  <a:pt x="11410" y="15974"/>
                </a:cubicBezTo>
                <a:cubicBezTo>
                  <a:pt x="11484" y="15974"/>
                  <a:pt x="11559" y="15974"/>
                  <a:pt x="11633" y="15974"/>
                </a:cubicBezTo>
              </a:path>
              <a:path w="1563" h="819">
                <a:moveTo>
                  <a:pt x="11708" y="15701"/>
                </a:moveTo>
                <a:cubicBezTo>
                  <a:pt x="11708" y="15677"/>
                  <a:pt x="11708" y="15668"/>
                  <a:pt x="11708" y="15652"/>
                </a:cubicBezTo>
                <a:cubicBezTo>
                  <a:pt x="11749" y="15652"/>
                  <a:pt x="11802" y="15635"/>
                  <a:pt x="11807" y="15677"/>
                </a:cubicBezTo>
                <a:cubicBezTo>
                  <a:pt x="11815" y="15737"/>
                  <a:pt x="11797" y="15756"/>
                  <a:pt x="11782" y="15801"/>
                </a:cubicBezTo>
                <a:cubicBezTo>
                  <a:pt x="11769" y="15838"/>
                  <a:pt x="11757" y="15857"/>
                  <a:pt x="11757" y="15900"/>
                </a:cubicBezTo>
                <a:cubicBezTo>
                  <a:pt x="11815" y="15900"/>
                  <a:pt x="11873" y="15900"/>
                  <a:pt x="11931" y="15900"/>
                </a:cubicBezTo>
              </a:path>
              <a:path w="1563" h="819">
                <a:moveTo>
                  <a:pt x="12179" y="15677"/>
                </a:moveTo>
                <a:cubicBezTo>
                  <a:pt x="12166" y="15637"/>
                  <a:pt x="12131" y="15652"/>
                  <a:pt x="12080" y="15652"/>
                </a:cubicBezTo>
                <a:cubicBezTo>
                  <a:pt x="12026" y="15652"/>
                  <a:pt x="11987" y="15669"/>
                  <a:pt x="11981" y="15726"/>
                </a:cubicBezTo>
                <a:cubicBezTo>
                  <a:pt x="11977" y="15764"/>
                  <a:pt x="12019" y="15796"/>
                  <a:pt x="12055" y="15776"/>
                </a:cubicBezTo>
                <a:cubicBezTo>
                  <a:pt x="12106" y="15748"/>
                  <a:pt x="12058" y="15742"/>
                  <a:pt x="12105" y="15726"/>
                </a:cubicBezTo>
                <a:cubicBezTo>
                  <a:pt x="12127" y="15741"/>
                  <a:pt x="12146" y="15829"/>
                  <a:pt x="12154" y="15875"/>
                </a:cubicBezTo>
                <a:cubicBezTo>
                  <a:pt x="12154" y="15920"/>
                  <a:pt x="12150" y="15933"/>
                  <a:pt x="12179" y="15949"/>
                </a:cubicBezTo>
              </a:path>
              <a:path w="1563" h="819">
                <a:moveTo>
                  <a:pt x="12353" y="15949"/>
                </a:moveTo>
                <a:cubicBezTo>
                  <a:pt x="12394" y="15949"/>
                  <a:pt x="12366" y="15961"/>
                  <a:pt x="12402" y="15974"/>
                </a:cubicBezTo>
              </a:path>
              <a:path w="1563" h="819">
                <a:moveTo>
                  <a:pt x="12700" y="15602"/>
                </a:moveTo>
                <a:cubicBezTo>
                  <a:pt x="12722" y="15544"/>
                  <a:pt x="12755" y="15503"/>
                  <a:pt x="12725" y="15503"/>
                </a:cubicBezTo>
                <a:cubicBezTo>
                  <a:pt x="12662" y="15503"/>
                  <a:pt x="12634" y="15601"/>
                  <a:pt x="12626" y="15652"/>
                </a:cubicBezTo>
                <a:cubicBezTo>
                  <a:pt x="12614" y="15734"/>
                  <a:pt x="12610" y="15884"/>
                  <a:pt x="12675" y="15949"/>
                </a:cubicBezTo>
                <a:cubicBezTo>
                  <a:pt x="12712" y="15985"/>
                  <a:pt x="12783" y="15981"/>
                  <a:pt x="12799" y="15925"/>
                </a:cubicBezTo>
                <a:cubicBezTo>
                  <a:pt x="12817" y="15860"/>
                  <a:pt x="12801" y="15850"/>
                  <a:pt x="12750" y="1585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solve equations of the form si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k. Now we will bring in some identities to solve more complicated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767ff"/>
                </a:solidFill>
                <a:latin typeface="Arial"/>
                <a:ea typeface="Times New Roman"/>
              </a:rPr>
              <a:t>Dividing by cos to get t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sin</a:t>
            </a:r>
            <a:r>
              <a:rPr b="0" lang="en-GB" sz="2400" spc="-1" strike="noStrike" baseline="30000">
                <a:solidFill>
                  <a:srgbClr val="9933ff"/>
                </a:solidFill>
                <a:latin typeface="Arial"/>
                <a:ea typeface="Times New Roman"/>
              </a:rPr>
              <a:t>2</a:t>
            </a:r>
            <a:r>
              <a:rPr b="0" lang="el-GR" sz="2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θ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 + cos</a:t>
            </a:r>
            <a:r>
              <a:rPr b="0" lang="en-GB" sz="2400" spc="-1" strike="noStrike" baseline="30000">
                <a:solidFill>
                  <a:srgbClr val="9933ff"/>
                </a:solidFill>
                <a:latin typeface="Arial"/>
                <a:ea typeface="Times New Roman"/>
              </a:rPr>
              <a:t>2</a:t>
            </a:r>
            <a:r>
              <a:rPr b="0" lang="el-GR" sz="2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θ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Double angle formulae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  <a:ea typeface="Times New Roman"/>
              </a:rPr>
              <a:t>Equating brackets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sin x + 1)(4 sin x – 3) =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si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co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6200" y="4510080"/>
            <a:ext cx="1135080" cy="268200"/>
          </a:xfrm>
          <a:custGeom>
            <a:avLst/>
            <a:gdLst/>
            <a:ahLst/>
            <a:rect l="l" t="t" r="r" b="b"/>
            <a:pathLst>
              <a:path w="3152" h="746">
                <a:moveTo>
                  <a:pt x="13370" y="12774"/>
                </a:moveTo>
                <a:cubicBezTo>
                  <a:pt x="13328" y="12774"/>
                  <a:pt x="13310" y="12769"/>
                  <a:pt x="13295" y="12725"/>
                </a:cubicBezTo>
                <a:cubicBezTo>
                  <a:pt x="13279" y="12678"/>
                  <a:pt x="13316" y="12655"/>
                  <a:pt x="13345" y="12626"/>
                </a:cubicBezTo>
                <a:cubicBezTo>
                  <a:pt x="13382" y="12590"/>
                  <a:pt x="13417" y="12601"/>
                  <a:pt x="13469" y="12601"/>
                </a:cubicBezTo>
                <a:cubicBezTo>
                  <a:pt x="13549" y="12601"/>
                  <a:pt x="13543" y="12636"/>
                  <a:pt x="13543" y="12700"/>
                </a:cubicBezTo>
                <a:cubicBezTo>
                  <a:pt x="13543" y="12766"/>
                  <a:pt x="13534" y="12818"/>
                  <a:pt x="13494" y="12874"/>
                </a:cubicBezTo>
                <a:cubicBezTo>
                  <a:pt x="13465" y="12916"/>
                  <a:pt x="13431" y="12951"/>
                  <a:pt x="13419" y="12998"/>
                </a:cubicBezTo>
                <a:cubicBezTo>
                  <a:pt x="13465" y="12998"/>
                  <a:pt x="13478" y="12976"/>
                  <a:pt x="13519" y="12973"/>
                </a:cubicBezTo>
                <a:cubicBezTo>
                  <a:pt x="13560" y="12970"/>
                  <a:pt x="13602" y="12973"/>
                  <a:pt x="13643" y="12973"/>
                </a:cubicBezTo>
              </a:path>
              <a:path w="3152" h="746">
                <a:moveTo>
                  <a:pt x="14015" y="12551"/>
                </a:moveTo>
                <a:cubicBezTo>
                  <a:pt x="14039" y="12551"/>
                  <a:pt x="14047" y="12551"/>
                  <a:pt x="14039" y="12526"/>
                </a:cubicBezTo>
                <a:cubicBezTo>
                  <a:pt x="13973" y="12543"/>
                  <a:pt x="13980" y="12598"/>
                  <a:pt x="13940" y="12650"/>
                </a:cubicBezTo>
                <a:cubicBezTo>
                  <a:pt x="13882" y="12725"/>
                  <a:pt x="13852" y="12801"/>
                  <a:pt x="13841" y="12898"/>
                </a:cubicBezTo>
                <a:cubicBezTo>
                  <a:pt x="13829" y="13000"/>
                  <a:pt x="13871" y="13054"/>
                  <a:pt x="13891" y="13146"/>
                </a:cubicBezTo>
                <a:cubicBezTo>
                  <a:pt x="13891" y="13198"/>
                  <a:pt x="13892" y="13216"/>
                  <a:pt x="13915" y="13246"/>
                </a:cubicBezTo>
              </a:path>
              <a:path w="3152" h="746">
                <a:moveTo>
                  <a:pt x="14263" y="12774"/>
                </a:moveTo>
                <a:cubicBezTo>
                  <a:pt x="14238" y="12774"/>
                  <a:pt x="14230" y="12774"/>
                  <a:pt x="14238" y="12750"/>
                </a:cubicBezTo>
                <a:cubicBezTo>
                  <a:pt x="14238" y="12882"/>
                  <a:pt x="14238" y="13014"/>
                  <a:pt x="14238" y="13146"/>
                </a:cubicBezTo>
              </a:path>
              <a:path w="3152" h="746">
                <a:moveTo>
                  <a:pt x="14511" y="12973"/>
                </a:moveTo>
                <a:cubicBezTo>
                  <a:pt x="14503" y="12973"/>
                  <a:pt x="14494" y="12973"/>
                  <a:pt x="14486" y="12973"/>
                </a:cubicBezTo>
                <a:cubicBezTo>
                  <a:pt x="14525" y="12963"/>
                  <a:pt x="14541" y="12948"/>
                  <a:pt x="14585" y="12948"/>
                </a:cubicBezTo>
                <a:cubicBezTo>
                  <a:pt x="14610" y="12948"/>
                  <a:pt x="14635" y="12948"/>
                  <a:pt x="14660" y="12948"/>
                </a:cubicBezTo>
              </a:path>
              <a:path w="3152" h="746">
                <a:moveTo>
                  <a:pt x="14932" y="12898"/>
                </a:moveTo>
                <a:cubicBezTo>
                  <a:pt x="14981" y="12898"/>
                  <a:pt x="14900" y="12909"/>
                  <a:pt x="14883" y="12948"/>
                </a:cubicBezTo>
                <a:cubicBezTo>
                  <a:pt x="14869" y="12980"/>
                  <a:pt x="14839" y="13059"/>
                  <a:pt x="14858" y="13097"/>
                </a:cubicBezTo>
                <a:cubicBezTo>
                  <a:pt x="14893" y="13166"/>
                  <a:pt x="14916" y="13131"/>
                  <a:pt x="14957" y="13122"/>
                </a:cubicBezTo>
                <a:cubicBezTo>
                  <a:pt x="14974" y="13122"/>
                  <a:pt x="14990" y="13122"/>
                  <a:pt x="15007" y="13122"/>
                </a:cubicBezTo>
              </a:path>
              <a:path w="3152" h="746">
                <a:moveTo>
                  <a:pt x="15081" y="12998"/>
                </a:moveTo>
                <a:cubicBezTo>
                  <a:pt x="15081" y="12971"/>
                  <a:pt x="15080" y="12900"/>
                  <a:pt x="15131" y="12923"/>
                </a:cubicBezTo>
                <a:cubicBezTo>
                  <a:pt x="15185" y="12947"/>
                  <a:pt x="15180" y="12999"/>
                  <a:pt x="15180" y="13047"/>
                </a:cubicBezTo>
                <a:cubicBezTo>
                  <a:pt x="15180" y="13072"/>
                  <a:pt x="15180" y="13080"/>
                  <a:pt x="15180" y="13097"/>
                </a:cubicBezTo>
                <a:cubicBezTo>
                  <a:pt x="15147" y="13097"/>
                  <a:pt x="15114" y="13097"/>
                  <a:pt x="15081" y="13097"/>
                </a:cubicBezTo>
              </a:path>
              <a:path w="3152" h="746">
                <a:moveTo>
                  <a:pt x="15379" y="12923"/>
                </a:moveTo>
                <a:cubicBezTo>
                  <a:pt x="15387" y="12915"/>
                  <a:pt x="15396" y="12906"/>
                  <a:pt x="15404" y="12898"/>
                </a:cubicBezTo>
                <a:cubicBezTo>
                  <a:pt x="15370" y="12923"/>
                  <a:pt x="15343" y="12930"/>
                  <a:pt x="15329" y="12973"/>
                </a:cubicBezTo>
                <a:cubicBezTo>
                  <a:pt x="15312" y="13024"/>
                  <a:pt x="15349" y="13021"/>
                  <a:pt x="15379" y="13047"/>
                </a:cubicBezTo>
                <a:cubicBezTo>
                  <a:pt x="15423" y="13086"/>
                  <a:pt x="15446" y="13097"/>
                  <a:pt x="15379" y="13097"/>
                </a:cubicBezTo>
              </a:path>
              <a:path w="3152" h="746">
                <a:moveTo>
                  <a:pt x="15553" y="12750"/>
                </a:moveTo>
                <a:cubicBezTo>
                  <a:pt x="15562" y="12721"/>
                  <a:pt x="15586" y="12705"/>
                  <a:pt x="15627" y="12700"/>
                </a:cubicBezTo>
                <a:cubicBezTo>
                  <a:pt x="15652" y="12700"/>
                  <a:pt x="15660" y="12700"/>
                  <a:pt x="15677" y="12700"/>
                </a:cubicBezTo>
                <a:cubicBezTo>
                  <a:pt x="15677" y="12736"/>
                  <a:pt x="15670" y="12772"/>
                  <a:pt x="15652" y="12799"/>
                </a:cubicBezTo>
                <a:cubicBezTo>
                  <a:pt x="15649" y="12803"/>
                  <a:pt x="15591" y="12904"/>
                  <a:pt x="15652" y="12874"/>
                </a:cubicBezTo>
                <a:cubicBezTo>
                  <a:pt x="15674" y="12852"/>
                  <a:pt x="15679" y="12843"/>
                  <a:pt x="15701" y="12849"/>
                </a:cubicBezTo>
              </a:path>
              <a:path w="3152" h="746">
                <a:moveTo>
                  <a:pt x="16024" y="12725"/>
                </a:moveTo>
                <a:cubicBezTo>
                  <a:pt x="16024" y="12673"/>
                  <a:pt x="16021" y="12675"/>
                  <a:pt x="16073" y="12675"/>
                </a:cubicBezTo>
                <a:cubicBezTo>
                  <a:pt x="16108" y="12722"/>
                  <a:pt x="16098" y="12762"/>
                  <a:pt x="16098" y="12824"/>
                </a:cubicBezTo>
                <a:cubicBezTo>
                  <a:pt x="16098" y="12859"/>
                  <a:pt x="16099" y="12950"/>
                  <a:pt x="16073" y="12973"/>
                </a:cubicBezTo>
                <a:cubicBezTo>
                  <a:pt x="16020" y="13019"/>
                  <a:pt x="15948" y="12951"/>
                  <a:pt x="15925" y="12923"/>
                </a:cubicBezTo>
                <a:cubicBezTo>
                  <a:pt x="15884" y="12873"/>
                  <a:pt x="15891" y="12807"/>
                  <a:pt x="15925" y="12750"/>
                </a:cubicBezTo>
                <a:cubicBezTo>
                  <a:pt x="15948" y="12712"/>
                  <a:pt x="16001" y="12659"/>
                  <a:pt x="16049" y="12675"/>
                </a:cubicBezTo>
                <a:cubicBezTo>
                  <a:pt x="16100" y="12692"/>
                  <a:pt x="16134" y="12834"/>
                  <a:pt x="16148" y="12874"/>
                </a:cubicBezTo>
                <a:cubicBezTo>
                  <a:pt x="16183" y="12973"/>
                  <a:pt x="16189" y="13075"/>
                  <a:pt x="16148" y="13171"/>
                </a:cubicBezTo>
                <a:cubicBezTo>
                  <a:pt x="16126" y="13223"/>
                  <a:pt x="16120" y="13234"/>
                  <a:pt x="16073" y="13246"/>
                </a:cubicBezTo>
                <a:cubicBezTo>
                  <a:pt x="16002" y="13201"/>
                  <a:pt x="15950" y="13157"/>
                  <a:pt x="15925" y="13072"/>
                </a:cubicBezTo>
                <a:cubicBezTo>
                  <a:pt x="15912" y="13029"/>
                  <a:pt x="15979" y="12958"/>
                  <a:pt x="15999" y="12923"/>
                </a:cubicBezTo>
              </a:path>
              <a:path w="3152" h="746">
                <a:moveTo>
                  <a:pt x="16297" y="12700"/>
                </a:moveTo>
                <a:cubicBezTo>
                  <a:pt x="16332" y="12685"/>
                  <a:pt x="16389" y="12680"/>
                  <a:pt x="16421" y="12725"/>
                </a:cubicBezTo>
                <a:cubicBezTo>
                  <a:pt x="16468" y="12792"/>
                  <a:pt x="16446" y="12896"/>
                  <a:pt x="16446" y="12973"/>
                </a:cubicBezTo>
                <a:cubicBezTo>
                  <a:pt x="16446" y="13086"/>
                  <a:pt x="16417" y="13168"/>
                  <a:pt x="16371" y="1327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15040" y="4680000"/>
            <a:ext cx="71640" cy="7920"/>
          </a:xfrm>
          <a:custGeom>
            <a:avLst/>
            <a:gdLst/>
            <a:ahLst/>
            <a:rect l="l" t="t" r="r" b="b"/>
            <a:pathLst>
              <a:path w="199" h="25">
                <a:moveTo>
                  <a:pt x="17438" y="12998"/>
                </a:moveTo>
                <a:cubicBezTo>
                  <a:pt x="17446" y="12998"/>
                  <a:pt x="17454" y="12998"/>
                  <a:pt x="17462" y="12998"/>
                </a:cubicBezTo>
                <a:cubicBezTo>
                  <a:pt x="17449" y="13037"/>
                  <a:pt x="17412" y="13022"/>
                  <a:pt x="17363" y="13022"/>
                </a:cubicBezTo>
                <a:cubicBezTo>
                  <a:pt x="17330" y="13022"/>
                  <a:pt x="17297" y="13022"/>
                  <a:pt x="17264" y="1302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2240" y="4589640"/>
            <a:ext cx="108000" cy="196560"/>
          </a:xfrm>
          <a:custGeom>
            <a:avLst/>
            <a:gdLst/>
            <a:ahLst/>
            <a:rect l="l" t="t" r="r" b="b"/>
            <a:pathLst>
              <a:path w="299" h="546">
                <a:moveTo>
                  <a:pt x="17859" y="12849"/>
                </a:moveTo>
                <a:cubicBezTo>
                  <a:pt x="17815" y="12849"/>
                  <a:pt x="17801" y="12852"/>
                  <a:pt x="17785" y="12824"/>
                </a:cubicBezTo>
                <a:cubicBezTo>
                  <a:pt x="17797" y="12777"/>
                  <a:pt x="17839" y="12759"/>
                  <a:pt x="17884" y="12750"/>
                </a:cubicBezTo>
                <a:cubicBezTo>
                  <a:pt x="17938" y="12740"/>
                  <a:pt x="18026" y="12779"/>
                  <a:pt x="18058" y="12824"/>
                </a:cubicBezTo>
                <a:cubicBezTo>
                  <a:pt x="18092" y="12871"/>
                  <a:pt x="18104" y="12977"/>
                  <a:pt x="18058" y="13022"/>
                </a:cubicBezTo>
                <a:cubicBezTo>
                  <a:pt x="18014" y="13066"/>
                  <a:pt x="17960" y="13069"/>
                  <a:pt x="17934" y="13122"/>
                </a:cubicBezTo>
                <a:cubicBezTo>
                  <a:pt x="17974" y="13128"/>
                  <a:pt x="18065" y="13146"/>
                  <a:pt x="18083" y="13196"/>
                </a:cubicBezTo>
                <a:cubicBezTo>
                  <a:pt x="18090" y="13217"/>
                  <a:pt x="18083" y="13269"/>
                  <a:pt x="18083" y="13295"/>
                </a:cubicBezTo>
                <a:cubicBezTo>
                  <a:pt x="18008" y="13295"/>
                  <a:pt x="17954" y="13296"/>
                  <a:pt x="17884" y="1327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34080" y="4589640"/>
            <a:ext cx="358920" cy="206280"/>
          </a:xfrm>
          <a:custGeom>
            <a:avLst/>
            <a:gdLst/>
            <a:ahLst/>
            <a:rect l="l" t="t" r="r" b="b"/>
            <a:pathLst>
              <a:path w="993" h="571">
                <a:moveTo>
                  <a:pt x="18504" y="13072"/>
                </a:moveTo>
                <a:cubicBezTo>
                  <a:pt x="18504" y="13064"/>
                  <a:pt x="18504" y="13055"/>
                  <a:pt x="18504" y="13047"/>
                </a:cubicBezTo>
                <a:cubicBezTo>
                  <a:pt x="18447" y="13061"/>
                  <a:pt x="18434" y="13086"/>
                  <a:pt x="18430" y="13146"/>
                </a:cubicBezTo>
                <a:cubicBezTo>
                  <a:pt x="18428" y="13185"/>
                  <a:pt x="18460" y="13280"/>
                  <a:pt x="18504" y="13295"/>
                </a:cubicBezTo>
                <a:cubicBezTo>
                  <a:pt x="18549" y="13295"/>
                  <a:pt x="18562" y="13299"/>
                  <a:pt x="18579" y="13271"/>
                </a:cubicBezTo>
              </a:path>
              <a:path w="993" h="571">
                <a:moveTo>
                  <a:pt x="18628" y="13122"/>
                </a:moveTo>
                <a:cubicBezTo>
                  <a:pt x="18638" y="13081"/>
                  <a:pt x="18657" y="13052"/>
                  <a:pt x="18703" y="13047"/>
                </a:cubicBezTo>
                <a:cubicBezTo>
                  <a:pt x="18734" y="13044"/>
                  <a:pt x="18789" y="13094"/>
                  <a:pt x="18802" y="13122"/>
                </a:cubicBezTo>
                <a:cubicBezTo>
                  <a:pt x="18814" y="13148"/>
                  <a:pt x="18795" y="13234"/>
                  <a:pt x="18777" y="13246"/>
                </a:cubicBezTo>
                <a:cubicBezTo>
                  <a:pt x="18744" y="13246"/>
                  <a:pt x="18728" y="13246"/>
                  <a:pt x="18703" y="13246"/>
                </a:cubicBezTo>
              </a:path>
              <a:path w="993" h="571">
                <a:moveTo>
                  <a:pt x="19050" y="13022"/>
                </a:moveTo>
                <a:cubicBezTo>
                  <a:pt x="19058" y="13014"/>
                  <a:pt x="19067" y="13006"/>
                  <a:pt x="19075" y="12998"/>
                </a:cubicBezTo>
                <a:cubicBezTo>
                  <a:pt x="19059" y="13062"/>
                  <a:pt x="19022" y="13034"/>
                  <a:pt x="18976" y="13072"/>
                </a:cubicBezTo>
                <a:cubicBezTo>
                  <a:pt x="18918" y="13119"/>
                  <a:pt x="18962" y="13158"/>
                  <a:pt x="19000" y="13196"/>
                </a:cubicBezTo>
                <a:cubicBezTo>
                  <a:pt x="19031" y="13227"/>
                  <a:pt x="19070" y="13251"/>
                  <a:pt x="19075" y="13295"/>
                </a:cubicBezTo>
                <a:cubicBezTo>
                  <a:pt x="19075" y="13303"/>
                  <a:pt x="19075" y="13312"/>
                  <a:pt x="19075" y="13320"/>
                </a:cubicBezTo>
                <a:cubicBezTo>
                  <a:pt x="19020" y="13320"/>
                  <a:pt x="18995" y="13305"/>
                  <a:pt x="18951" y="13271"/>
                </a:cubicBezTo>
              </a:path>
              <a:path w="993" h="571">
                <a:moveTo>
                  <a:pt x="19224" y="12774"/>
                </a:moveTo>
                <a:cubicBezTo>
                  <a:pt x="19236" y="12738"/>
                  <a:pt x="19254" y="12750"/>
                  <a:pt x="19298" y="12750"/>
                </a:cubicBezTo>
                <a:cubicBezTo>
                  <a:pt x="19337" y="12750"/>
                  <a:pt x="19363" y="12755"/>
                  <a:pt x="19372" y="12799"/>
                </a:cubicBezTo>
                <a:cubicBezTo>
                  <a:pt x="19381" y="12844"/>
                  <a:pt x="19365" y="12937"/>
                  <a:pt x="19348" y="12973"/>
                </a:cubicBezTo>
                <a:cubicBezTo>
                  <a:pt x="19332" y="13008"/>
                  <a:pt x="19308" y="13009"/>
                  <a:pt x="19298" y="13047"/>
                </a:cubicBezTo>
                <a:cubicBezTo>
                  <a:pt x="19351" y="13047"/>
                  <a:pt x="19378" y="13048"/>
                  <a:pt x="19422" y="1302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3200" y="4589640"/>
            <a:ext cx="71640" cy="169560"/>
          </a:xfrm>
          <a:custGeom>
            <a:avLst/>
            <a:gdLst/>
            <a:ahLst/>
            <a:rect l="l" t="t" r="r" b="b"/>
            <a:pathLst>
              <a:path w="199" h="472">
                <a:moveTo>
                  <a:pt x="19943" y="12874"/>
                </a:moveTo>
                <a:cubicBezTo>
                  <a:pt x="19943" y="12822"/>
                  <a:pt x="19938" y="12821"/>
                  <a:pt x="19968" y="12799"/>
                </a:cubicBezTo>
                <a:cubicBezTo>
                  <a:pt x="20016" y="12763"/>
                  <a:pt x="19976" y="12750"/>
                  <a:pt x="20042" y="12750"/>
                </a:cubicBezTo>
                <a:cubicBezTo>
                  <a:pt x="20083" y="12763"/>
                  <a:pt x="20067" y="12798"/>
                  <a:pt x="20067" y="12849"/>
                </a:cubicBezTo>
                <a:cubicBezTo>
                  <a:pt x="20067" y="12905"/>
                  <a:pt x="20052" y="12958"/>
                  <a:pt x="20017" y="12998"/>
                </a:cubicBezTo>
                <a:cubicBezTo>
                  <a:pt x="20009" y="13006"/>
                  <a:pt x="20001" y="13014"/>
                  <a:pt x="19993" y="13022"/>
                </a:cubicBezTo>
                <a:cubicBezTo>
                  <a:pt x="19949" y="12991"/>
                  <a:pt x="19924" y="12987"/>
                  <a:pt x="19918" y="12923"/>
                </a:cubicBezTo>
                <a:cubicBezTo>
                  <a:pt x="19912" y="12863"/>
                  <a:pt x="19928" y="12844"/>
                  <a:pt x="19943" y="12799"/>
                </a:cubicBezTo>
                <a:cubicBezTo>
                  <a:pt x="19943" y="12774"/>
                  <a:pt x="19943" y="12766"/>
                  <a:pt x="19968" y="12774"/>
                </a:cubicBezTo>
                <a:cubicBezTo>
                  <a:pt x="20023" y="12811"/>
                  <a:pt x="20057" y="12870"/>
                  <a:pt x="20067" y="12948"/>
                </a:cubicBezTo>
                <a:cubicBezTo>
                  <a:pt x="20079" y="13037"/>
                  <a:pt x="20073" y="13126"/>
                  <a:pt x="20017" y="13196"/>
                </a:cubicBezTo>
                <a:cubicBezTo>
                  <a:pt x="19995" y="13219"/>
                  <a:pt x="19990" y="13227"/>
                  <a:pt x="19968" y="13221"/>
                </a:cubicBezTo>
                <a:cubicBezTo>
                  <a:pt x="19916" y="13208"/>
                  <a:pt x="19881" y="13154"/>
                  <a:pt x="19869" y="13097"/>
                </a:cubicBezTo>
                <a:cubicBezTo>
                  <a:pt x="19857" y="13042"/>
                  <a:pt x="19897" y="12972"/>
                  <a:pt x="19918" y="1292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19960" y="4697280"/>
            <a:ext cx="144360" cy="8892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20638" y="13047"/>
                </a:moveTo>
                <a:cubicBezTo>
                  <a:pt x="20597" y="13047"/>
                  <a:pt x="20671" y="13047"/>
                  <a:pt x="20712" y="13047"/>
                </a:cubicBezTo>
                <a:cubicBezTo>
                  <a:pt x="20774" y="13047"/>
                  <a:pt x="20943" y="13020"/>
                  <a:pt x="20960" y="13072"/>
                </a:cubicBezTo>
              </a:path>
              <a:path w="398" h="249">
                <a:moveTo>
                  <a:pt x="20985" y="13295"/>
                </a:moveTo>
                <a:cubicBezTo>
                  <a:pt x="20993" y="13295"/>
                  <a:pt x="21002" y="13295"/>
                  <a:pt x="21010" y="13295"/>
                </a:cubicBezTo>
                <a:cubicBezTo>
                  <a:pt x="20941" y="13295"/>
                  <a:pt x="20894" y="13290"/>
                  <a:pt x="20836" y="13271"/>
                </a:cubicBezTo>
                <a:cubicBezTo>
                  <a:pt x="20828" y="13271"/>
                  <a:pt x="20819" y="13271"/>
                  <a:pt x="20811" y="1327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15160" y="4670280"/>
            <a:ext cx="187560" cy="169920"/>
          </a:xfrm>
          <a:custGeom>
            <a:avLst/>
            <a:gdLst/>
            <a:ahLst/>
            <a:rect l="l" t="t" r="r" b="b"/>
            <a:pathLst>
              <a:path w="522" h="472">
                <a:moveTo>
                  <a:pt x="21456" y="13097"/>
                </a:moveTo>
                <a:cubicBezTo>
                  <a:pt x="21447" y="13085"/>
                  <a:pt x="21405" y="13018"/>
                  <a:pt x="21431" y="12998"/>
                </a:cubicBezTo>
                <a:cubicBezTo>
                  <a:pt x="21463" y="12973"/>
                  <a:pt x="21511" y="12973"/>
                  <a:pt x="21555" y="12973"/>
                </a:cubicBezTo>
                <a:cubicBezTo>
                  <a:pt x="21619" y="12973"/>
                  <a:pt x="21661" y="12970"/>
                  <a:pt x="21679" y="13047"/>
                </a:cubicBezTo>
                <a:cubicBezTo>
                  <a:pt x="21697" y="13124"/>
                  <a:pt x="21668" y="13228"/>
                  <a:pt x="21630" y="13295"/>
                </a:cubicBezTo>
                <a:cubicBezTo>
                  <a:pt x="21609" y="13333"/>
                  <a:pt x="21576" y="13387"/>
                  <a:pt x="21555" y="13419"/>
                </a:cubicBezTo>
                <a:cubicBezTo>
                  <a:pt x="21547" y="13427"/>
                  <a:pt x="21538" y="13436"/>
                  <a:pt x="21530" y="13444"/>
                </a:cubicBezTo>
                <a:cubicBezTo>
                  <a:pt x="21671" y="13444"/>
                  <a:pt x="21811" y="13444"/>
                  <a:pt x="21952" y="1344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5320" y="4732200"/>
            <a:ext cx="241560" cy="125640"/>
          </a:xfrm>
          <a:custGeom>
            <a:avLst/>
            <a:gdLst/>
            <a:ahLst/>
            <a:rect l="l" t="t" r="r" b="b"/>
            <a:pathLst>
              <a:path w="671" h="349">
                <a:moveTo>
                  <a:pt x="1935" y="13221"/>
                </a:moveTo>
                <a:cubicBezTo>
                  <a:pt x="1960" y="13221"/>
                  <a:pt x="1968" y="13221"/>
                  <a:pt x="1984" y="13221"/>
                </a:cubicBezTo>
                <a:cubicBezTo>
                  <a:pt x="1928" y="13221"/>
                  <a:pt x="1880" y="13211"/>
                  <a:pt x="1836" y="13246"/>
                </a:cubicBezTo>
                <a:cubicBezTo>
                  <a:pt x="1791" y="13283"/>
                  <a:pt x="1770" y="13299"/>
                  <a:pt x="1811" y="13345"/>
                </a:cubicBezTo>
                <a:cubicBezTo>
                  <a:pt x="1854" y="13393"/>
                  <a:pt x="1871" y="13395"/>
                  <a:pt x="1935" y="13395"/>
                </a:cubicBezTo>
                <a:cubicBezTo>
                  <a:pt x="1963" y="13395"/>
                  <a:pt x="1973" y="13397"/>
                  <a:pt x="1984" y="13419"/>
                </a:cubicBezTo>
                <a:cubicBezTo>
                  <a:pt x="1971" y="13459"/>
                  <a:pt x="1937" y="13466"/>
                  <a:pt x="1885" y="13469"/>
                </a:cubicBezTo>
                <a:cubicBezTo>
                  <a:pt x="1822" y="13473"/>
                  <a:pt x="1788" y="13463"/>
                  <a:pt x="1736" y="13494"/>
                </a:cubicBezTo>
              </a:path>
              <a:path w="671" h="349">
                <a:moveTo>
                  <a:pt x="2158" y="13370"/>
                </a:moveTo>
                <a:cubicBezTo>
                  <a:pt x="2150" y="13362"/>
                  <a:pt x="2141" y="13353"/>
                  <a:pt x="2133" y="13345"/>
                </a:cubicBezTo>
                <a:cubicBezTo>
                  <a:pt x="2133" y="13386"/>
                  <a:pt x="2133" y="13428"/>
                  <a:pt x="2133" y="13469"/>
                </a:cubicBezTo>
                <a:cubicBezTo>
                  <a:pt x="2108" y="13469"/>
                  <a:pt x="2100" y="13469"/>
                  <a:pt x="2108" y="13494"/>
                </a:cubicBezTo>
              </a:path>
              <a:path w="671" h="349">
                <a:moveTo>
                  <a:pt x="2158" y="13221"/>
                </a:moveTo>
                <a:cubicBezTo>
                  <a:pt x="2158" y="13196"/>
                  <a:pt x="2158" y="13171"/>
                  <a:pt x="2158" y="13146"/>
                </a:cubicBezTo>
              </a:path>
              <a:path w="671" h="349">
                <a:moveTo>
                  <a:pt x="2158" y="13221"/>
                </a:moveTo>
                <a:cubicBezTo>
                  <a:pt x="2224" y="13325"/>
                  <a:pt x="2232" y="13316"/>
                  <a:pt x="2232" y="13419"/>
                </a:cubicBezTo>
                <a:cubicBezTo>
                  <a:pt x="2232" y="13444"/>
                  <a:pt x="2232" y="13452"/>
                  <a:pt x="2232" y="13469"/>
                </a:cubicBezTo>
                <a:cubicBezTo>
                  <a:pt x="2297" y="13453"/>
                  <a:pt x="2269" y="13417"/>
                  <a:pt x="2307" y="13370"/>
                </a:cubicBezTo>
                <a:cubicBezTo>
                  <a:pt x="2333" y="13338"/>
                  <a:pt x="2344" y="13345"/>
                  <a:pt x="2381" y="13345"/>
                </a:cubicBezTo>
                <a:cubicBezTo>
                  <a:pt x="2381" y="13391"/>
                  <a:pt x="2401" y="13403"/>
                  <a:pt x="2406" y="13444"/>
                </a:cubicBezTo>
                <a:cubicBezTo>
                  <a:pt x="2406" y="13452"/>
                  <a:pt x="2406" y="13461"/>
                  <a:pt x="2406" y="1346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3080" y="4768920"/>
            <a:ext cx="142920" cy="98280"/>
          </a:xfrm>
          <a:custGeom>
            <a:avLst/>
            <a:gdLst/>
            <a:ahLst/>
            <a:rect l="l" t="t" r="r" b="b"/>
            <a:pathLst>
              <a:path w="398" h="274">
                <a:moveTo>
                  <a:pt x="2704" y="13370"/>
                </a:moveTo>
                <a:cubicBezTo>
                  <a:pt x="2713" y="13344"/>
                  <a:pt x="2722" y="13324"/>
                  <a:pt x="2753" y="13320"/>
                </a:cubicBezTo>
                <a:cubicBezTo>
                  <a:pt x="2796" y="13315"/>
                  <a:pt x="2822" y="13317"/>
                  <a:pt x="2853" y="13345"/>
                </a:cubicBezTo>
                <a:cubicBezTo>
                  <a:pt x="2877" y="13367"/>
                  <a:pt x="2895" y="13436"/>
                  <a:pt x="2877" y="13469"/>
                </a:cubicBezTo>
                <a:cubicBezTo>
                  <a:pt x="2861" y="13499"/>
                  <a:pt x="2782" y="13506"/>
                  <a:pt x="2753" y="13519"/>
                </a:cubicBezTo>
              </a:path>
              <a:path w="398" h="274">
                <a:moveTo>
                  <a:pt x="3026" y="13295"/>
                </a:moveTo>
                <a:cubicBezTo>
                  <a:pt x="3034" y="13279"/>
                  <a:pt x="3043" y="13262"/>
                  <a:pt x="3051" y="13246"/>
                </a:cubicBezTo>
                <a:cubicBezTo>
                  <a:pt x="2996" y="13260"/>
                  <a:pt x="2979" y="13293"/>
                  <a:pt x="2952" y="13345"/>
                </a:cubicBezTo>
                <a:cubicBezTo>
                  <a:pt x="2937" y="13374"/>
                  <a:pt x="2894" y="13476"/>
                  <a:pt x="2952" y="13494"/>
                </a:cubicBezTo>
                <a:cubicBezTo>
                  <a:pt x="3012" y="13513"/>
                  <a:pt x="3059" y="13478"/>
                  <a:pt x="3101" y="1344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93920" y="480384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4043" y="13395"/>
                </a:moveTo>
                <a:cubicBezTo>
                  <a:pt x="4066" y="13372"/>
                  <a:pt x="4074" y="13368"/>
                  <a:pt x="4068" y="13345"/>
                </a:cubicBezTo>
                <a:cubicBezTo>
                  <a:pt x="4005" y="13345"/>
                  <a:pt x="3971" y="13353"/>
                  <a:pt x="3919" y="13370"/>
                </a:cubicBezTo>
                <a:cubicBezTo>
                  <a:pt x="3894" y="13370"/>
                  <a:pt x="3886" y="13370"/>
                  <a:pt x="3870" y="13370"/>
                </a:cubicBezTo>
              </a:path>
              <a:path w="249" h="150">
                <a:moveTo>
                  <a:pt x="4118" y="13469"/>
                </a:moveTo>
                <a:cubicBezTo>
                  <a:pt x="4048" y="13469"/>
                  <a:pt x="3973" y="13453"/>
                  <a:pt x="3919" y="1349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8120" y="4813200"/>
            <a:ext cx="88920" cy="17640"/>
          </a:xfrm>
          <a:custGeom>
            <a:avLst/>
            <a:gdLst/>
            <a:ahLst/>
            <a:rect l="l" t="t" r="r" b="b"/>
            <a:pathLst>
              <a:path w="249" h="50">
                <a:moveTo>
                  <a:pt x="4490" y="13395"/>
                </a:moveTo>
                <a:cubicBezTo>
                  <a:pt x="4482" y="13403"/>
                  <a:pt x="4473" y="13411"/>
                  <a:pt x="4465" y="13419"/>
                </a:cubicBezTo>
                <a:cubicBezTo>
                  <a:pt x="4510" y="13408"/>
                  <a:pt x="4536" y="13395"/>
                  <a:pt x="4589" y="13395"/>
                </a:cubicBezTo>
                <a:cubicBezTo>
                  <a:pt x="4628" y="13395"/>
                  <a:pt x="4643" y="13370"/>
                  <a:pt x="4688" y="13370"/>
                </a:cubicBezTo>
                <a:cubicBezTo>
                  <a:pt x="4696" y="13370"/>
                  <a:pt x="4705" y="13370"/>
                  <a:pt x="4713" y="1337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03240" y="4732200"/>
            <a:ext cx="19080" cy="135000"/>
          </a:xfrm>
          <a:custGeom>
            <a:avLst/>
            <a:gdLst/>
            <a:ahLst/>
            <a:rect l="l" t="t" r="r" b="b"/>
            <a:pathLst>
              <a:path w="50" h="374">
                <a:moveTo>
                  <a:pt x="5011" y="13246"/>
                </a:moveTo>
                <a:cubicBezTo>
                  <a:pt x="5038" y="13153"/>
                  <a:pt x="5035" y="13117"/>
                  <a:pt x="5035" y="13221"/>
                </a:cubicBezTo>
                <a:cubicBezTo>
                  <a:pt x="5035" y="13325"/>
                  <a:pt x="5028" y="13422"/>
                  <a:pt x="5060" y="1351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62120" y="4822920"/>
            <a:ext cx="223920" cy="79200"/>
          </a:xfrm>
          <a:custGeom>
            <a:avLst/>
            <a:gdLst/>
            <a:ahLst/>
            <a:rect l="l" t="t" r="r" b="b"/>
            <a:pathLst>
              <a:path w="621" h="224">
                <a:moveTo>
                  <a:pt x="7218" y="13543"/>
                </a:moveTo>
                <a:cubicBezTo>
                  <a:pt x="7191" y="13534"/>
                  <a:pt x="7173" y="13526"/>
                  <a:pt x="7169" y="13494"/>
                </a:cubicBezTo>
                <a:cubicBezTo>
                  <a:pt x="7164" y="13454"/>
                  <a:pt x="7177" y="13413"/>
                  <a:pt x="7218" y="13395"/>
                </a:cubicBezTo>
                <a:cubicBezTo>
                  <a:pt x="7253" y="13380"/>
                  <a:pt x="7294" y="13399"/>
                  <a:pt x="7317" y="13419"/>
                </a:cubicBezTo>
                <a:cubicBezTo>
                  <a:pt x="7345" y="13444"/>
                  <a:pt x="7358" y="13530"/>
                  <a:pt x="7342" y="13568"/>
                </a:cubicBezTo>
                <a:cubicBezTo>
                  <a:pt x="7319" y="13624"/>
                  <a:pt x="7266" y="13618"/>
                  <a:pt x="7218" y="13618"/>
                </a:cubicBezTo>
                <a:cubicBezTo>
                  <a:pt x="7177" y="13618"/>
                  <a:pt x="7124" y="13635"/>
                  <a:pt x="7119" y="13593"/>
                </a:cubicBezTo>
                <a:cubicBezTo>
                  <a:pt x="7119" y="13565"/>
                  <a:pt x="7121" y="13554"/>
                  <a:pt x="7144" y="13543"/>
                </a:cubicBezTo>
              </a:path>
              <a:path w="621" h="224">
                <a:moveTo>
                  <a:pt x="7516" y="13543"/>
                </a:moveTo>
                <a:cubicBezTo>
                  <a:pt x="7524" y="13560"/>
                  <a:pt x="7533" y="13576"/>
                  <a:pt x="7541" y="13593"/>
                </a:cubicBezTo>
                <a:cubicBezTo>
                  <a:pt x="7541" y="13545"/>
                  <a:pt x="7536" y="13513"/>
                  <a:pt x="7565" y="13469"/>
                </a:cubicBezTo>
                <a:cubicBezTo>
                  <a:pt x="7599" y="13417"/>
                  <a:pt x="7632" y="13419"/>
                  <a:pt x="7689" y="13419"/>
                </a:cubicBezTo>
                <a:cubicBezTo>
                  <a:pt x="7706" y="13419"/>
                  <a:pt x="7722" y="13419"/>
                  <a:pt x="7739" y="1341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24160" y="4724280"/>
            <a:ext cx="687600" cy="241560"/>
          </a:xfrm>
          <a:custGeom>
            <a:avLst/>
            <a:gdLst/>
            <a:ahLst/>
            <a:rect l="l" t="t" r="r" b="b"/>
            <a:pathLst>
              <a:path w="1911" h="670">
                <a:moveTo>
                  <a:pt x="9004" y="13171"/>
                </a:moveTo>
                <a:cubicBezTo>
                  <a:pt x="9004" y="13146"/>
                  <a:pt x="9004" y="13138"/>
                  <a:pt x="9004" y="13122"/>
                </a:cubicBezTo>
                <a:cubicBezTo>
                  <a:pt x="9027" y="13144"/>
                  <a:pt x="8998" y="13234"/>
                  <a:pt x="8979" y="13295"/>
                </a:cubicBezTo>
                <a:cubicBezTo>
                  <a:pt x="8952" y="13381"/>
                  <a:pt x="8954" y="13454"/>
                  <a:pt x="8954" y="13543"/>
                </a:cubicBezTo>
                <a:cubicBezTo>
                  <a:pt x="8954" y="13614"/>
                  <a:pt x="9028" y="13593"/>
                  <a:pt x="9079" y="13593"/>
                </a:cubicBezTo>
                <a:cubicBezTo>
                  <a:pt x="9142" y="13593"/>
                  <a:pt x="9182" y="13568"/>
                  <a:pt x="9252" y="13568"/>
                </a:cubicBezTo>
                <a:cubicBezTo>
                  <a:pt x="9320" y="13568"/>
                  <a:pt x="9343" y="13577"/>
                  <a:pt x="9376" y="13593"/>
                </a:cubicBezTo>
                <a:cubicBezTo>
                  <a:pt x="9401" y="13593"/>
                  <a:pt x="9409" y="13593"/>
                  <a:pt x="9401" y="13618"/>
                </a:cubicBezTo>
              </a:path>
              <a:path w="1911" h="670">
                <a:moveTo>
                  <a:pt x="9252" y="13494"/>
                </a:moveTo>
                <a:cubicBezTo>
                  <a:pt x="9244" y="13486"/>
                  <a:pt x="9235" y="13477"/>
                  <a:pt x="9227" y="13469"/>
                </a:cubicBezTo>
                <a:cubicBezTo>
                  <a:pt x="9201" y="13533"/>
                  <a:pt x="9203" y="13573"/>
                  <a:pt x="9203" y="13643"/>
                </a:cubicBezTo>
                <a:cubicBezTo>
                  <a:pt x="9203" y="13684"/>
                  <a:pt x="9203" y="13726"/>
                  <a:pt x="9203" y="13767"/>
                </a:cubicBezTo>
              </a:path>
              <a:path w="1911" h="670">
                <a:moveTo>
                  <a:pt x="9699" y="13469"/>
                </a:moveTo>
                <a:cubicBezTo>
                  <a:pt x="9699" y="13444"/>
                  <a:pt x="9699" y="13436"/>
                  <a:pt x="9723" y="13444"/>
                </a:cubicBezTo>
                <a:cubicBezTo>
                  <a:pt x="9674" y="13444"/>
                  <a:pt x="9643" y="13439"/>
                  <a:pt x="9599" y="13469"/>
                </a:cubicBezTo>
                <a:cubicBezTo>
                  <a:pt x="9573" y="13487"/>
                  <a:pt x="9530" y="13532"/>
                  <a:pt x="9550" y="13568"/>
                </a:cubicBezTo>
                <a:cubicBezTo>
                  <a:pt x="9574" y="13612"/>
                  <a:pt x="9636" y="13632"/>
                  <a:pt x="9674" y="13643"/>
                </a:cubicBezTo>
                <a:cubicBezTo>
                  <a:pt x="9702" y="13643"/>
                  <a:pt x="9712" y="13645"/>
                  <a:pt x="9723" y="13667"/>
                </a:cubicBezTo>
                <a:cubicBezTo>
                  <a:pt x="9715" y="13700"/>
                  <a:pt x="9686" y="13734"/>
                  <a:pt x="9649" y="13742"/>
                </a:cubicBezTo>
                <a:cubicBezTo>
                  <a:pt x="9613" y="13750"/>
                  <a:pt x="9562" y="13742"/>
                  <a:pt x="9525" y="13742"/>
                </a:cubicBezTo>
              </a:path>
              <a:path w="1911" h="670">
                <a:moveTo>
                  <a:pt x="9872" y="13618"/>
                </a:moveTo>
                <a:cubicBezTo>
                  <a:pt x="9901" y="13656"/>
                  <a:pt x="9897" y="13669"/>
                  <a:pt x="9897" y="13717"/>
                </a:cubicBezTo>
              </a:path>
              <a:path w="1911" h="670">
                <a:moveTo>
                  <a:pt x="9872" y="13419"/>
                </a:moveTo>
                <a:cubicBezTo>
                  <a:pt x="9880" y="13403"/>
                  <a:pt x="9889" y="13386"/>
                  <a:pt x="9897" y="13370"/>
                </a:cubicBezTo>
              </a:path>
              <a:path w="1911" h="670">
                <a:moveTo>
                  <a:pt x="10021" y="13618"/>
                </a:moveTo>
                <a:cubicBezTo>
                  <a:pt x="10021" y="13659"/>
                  <a:pt x="10021" y="13701"/>
                  <a:pt x="10021" y="13742"/>
                </a:cubicBezTo>
                <a:cubicBezTo>
                  <a:pt x="10051" y="13732"/>
                  <a:pt x="10063" y="13700"/>
                  <a:pt x="10096" y="13667"/>
                </a:cubicBezTo>
                <a:cubicBezTo>
                  <a:pt x="10109" y="13654"/>
                  <a:pt x="10168" y="13585"/>
                  <a:pt x="10195" y="13618"/>
                </a:cubicBezTo>
                <a:cubicBezTo>
                  <a:pt x="10214" y="13642"/>
                  <a:pt x="10236" y="13713"/>
                  <a:pt x="10244" y="13742"/>
                </a:cubicBezTo>
                <a:cubicBezTo>
                  <a:pt x="10244" y="13750"/>
                  <a:pt x="10244" y="13759"/>
                  <a:pt x="10244" y="13767"/>
                </a:cubicBezTo>
              </a:path>
              <a:path w="1911" h="670">
                <a:moveTo>
                  <a:pt x="10468" y="13643"/>
                </a:moveTo>
                <a:cubicBezTo>
                  <a:pt x="10455" y="13603"/>
                  <a:pt x="10456" y="13633"/>
                  <a:pt x="10443" y="13593"/>
                </a:cubicBezTo>
                <a:cubicBezTo>
                  <a:pt x="10488" y="13559"/>
                  <a:pt x="10519" y="13555"/>
                  <a:pt x="10567" y="13593"/>
                </a:cubicBezTo>
                <a:cubicBezTo>
                  <a:pt x="10598" y="13618"/>
                  <a:pt x="10652" y="13700"/>
                  <a:pt x="10641" y="13742"/>
                </a:cubicBezTo>
                <a:cubicBezTo>
                  <a:pt x="10623" y="13807"/>
                  <a:pt x="10594" y="13791"/>
                  <a:pt x="10542" y="13791"/>
                </a:cubicBezTo>
              </a:path>
              <a:path w="1911" h="670">
                <a:moveTo>
                  <a:pt x="10765" y="13593"/>
                </a:moveTo>
                <a:cubicBezTo>
                  <a:pt x="10773" y="13585"/>
                  <a:pt x="10782" y="13576"/>
                  <a:pt x="10790" y="13568"/>
                </a:cubicBezTo>
                <a:cubicBezTo>
                  <a:pt x="10732" y="13582"/>
                  <a:pt x="10719" y="13606"/>
                  <a:pt x="10716" y="13667"/>
                </a:cubicBezTo>
                <a:cubicBezTo>
                  <a:pt x="10714" y="13708"/>
                  <a:pt x="10711" y="13776"/>
                  <a:pt x="10765" y="13791"/>
                </a:cubicBezTo>
                <a:cubicBezTo>
                  <a:pt x="10817" y="13791"/>
                  <a:pt x="10835" y="13790"/>
                  <a:pt x="10864" y="1376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54320" y="4902120"/>
            <a:ext cx="9864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1509" y="13618"/>
                </a:moveTo>
                <a:cubicBezTo>
                  <a:pt x="11517" y="13618"/>
                  <a:pt x="11526" y="13618"/>
                  <a:pt x="11534" y="13618"/>
                </a:cubicBezTo>
                <a:cubicBezTo>
                  <a:pt x="11443" y="13618"/>
                  <a:pt x="11352" y="13618"/>
                  <a:pt x="11261" y="13618"/>
                </a:cubicBezTo>
              </a:path>
              <a:path w="274" h="150">
                <a:moveTo>
                  <a:pt x="11460" y="13717"/>
                </a:moveTo>
                <a:cubicBezTo>
                  <a:pt x="11482" y="13739"/>
                  <a:pt x="11487" y="13748"/>
                  <a:pt x="11509" y="13742"/>
                </a:cubicBezTo>
                <a:cubicBezTo>
                  <a:pt x="11476" y="13768"/>
                  <a:pt x="11432" y="13783"/>
                  <a:pt x="11385" y="13767"/>
                </a:cubicBezTo>
                <a:cubicBezTo>
                  <a:pt x="11369" y="13759"/>
                  <a:pt x="11352" y="13750"/>
                  <a:pt x="11336" y="1374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03800" y="4803840"/>
            <a:ext cx="117360" cy="223920"/>
          </a:xfrm>
          <a:custGeom>
            <a:avLst/>
            <a:gdLst/>
            <a:ahLst/>
            <a:rect l="l" t="t" r="r" b="b"/>
            <a:pathLst>
              <a:path w="323" h="621">
                <a:moveTo>
                  <a:pt x="12005" y="13419"/>
                </a:moveTo>
                <a:cubicBezTo>
                  <a:pt x="11977" y="13419"/>
                  <a:pt x="11967" y="13417"/>
                  <a:pt x="11956" y="13395"/>
                </a:cubicBezTo>
                <a:cubicBezTo>
                  <a:pt x="11988" y="13384"/>
                  <a:pt x="12009" y="13385"/>
                  <a:pt x="12055" y="13370"/>
                </a:cubicBezTo>
                <a:cubicBezTo>
                  <a:pt x="12135" y="13343"/>
                  <a:pt x="12161" y="13335"/>
                  <a:pt x="12229" y="13395"/>
                </a:cubicBezTo>
                <a:cubicBezTo>
                  <a:pt x="12280" y="13440"/>
                  <a:pt x="12292" y="13485"/>
                  <a:pt x="12254" y="13543"/>
                </a:cubicBezTo>
                <a:cubicBezTo>
                  <a:pt x="12211" y="13607"/>
                  <a:pt x="12203" y="13632"/>
                  <a:pt x="12129" y="13643"/>
                </a:cubicBezTo>
                <a:cubicBezTo>
                  <a:pt x="12129" y="13689"/>
                  <a:pt x="12123" y="13707"/>
                  <a:pt x="12154" y="13742"/>
                </a:cubicBezTo>
                <a:cubicBezTo>
                  <a:pt x="12198" y="13792"/>
                  <a:pt x="12252" y="13802"/>
                  <a:pt x="12278" y="13866"/>
                </a:cubicBezTo>
                <a:cubicBezTo>
                  <a:pt x="12291" y="13897"/>
                  <a:pt x="12262" y="13958"/>
                  <a:pt x="12229" y="13965"/>
                </a:cubicBezTo>
                <a:cubicBezTo>
                  <a:pt x="12159" y="13980"/>
                  <a:pt x="12096" y="13958"/>
                  <a:pt x="12030" y="1394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64040" y="4875120"/>
            <a:ext cx="117720" cy="14292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13791" y="13568"/>
                </a:moveTo>
                <a:cubicBezTo>
                  <a:pt x="13828" y="13552"/>
                  <a:pt x="13896" y="13521"/>
                  <a:pt x="13940" y="13543"/>
                </a:cubicBezTo>
                <a:cubicBezTo>
                  <a:pt x="13973" y="13560"/>
                  <a:pt x="14004" y="13605"/>
                  <a:pt x="13990" y="13643"/>
                </a:cubicBezTo>
                <a:cubicBezTo>
                  <a:pt x="13965" y="13713"/>
                  <a:pt x="13920" y="13727"/>
                  <a:pt x="13866" y="13767"/>
                </a:cubicBezTo>
                <a:cubicBezTo>
                  <a:pt x="13829" y="13794"/>
                  <a:pt x="13801" y="13826"/>
                  <a:pt x="13791" y="13866"/>
                </a:cubicBezTo>
                <a:cubicBezTo>
                  <a:pt x="13831" y="13896"/>
                  <a:pt x="13889" y="13904"/>
                  <a:pt x="13940" y="13915"/>
                </a:cubicBezTo>
                <a:cubicBezTo>
                  <a:pt x="14002" y="13929"/>
                  <a:pt x="14047" y="13940"/>
                  <a:pt x="14114" y="1394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24320" y="4964040"/>
            <a:ext cx="71640" cy="97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14684" y="13816"/>
                </a:moveTo>
                <a:cubicBezTo>
                  <a:pt x="14692" y="13816"/>
                  <a:pt x="14701" y="13816"/>
                  <a:pt x="14709" y="13816"/>
                </a:cubicBezTo>
                <a:cubicBezTo>
                  <a:pt x="14665" y="13790"/>
                  <a:pt x="14638" y="13791"/>
                  <a:pt x="14585" y="13791"/>
                </a:cubicBezTo>
                <a:cubicBezTo>
                  <a:pt x="14544" y="13791"/>
                  <a:pt x="14536" y="13791"/>
                  <a:pt x="14511" y="1379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1880" y="4857840"/>
            <a:ext cx="598320" cy="160200"/>
          </a:xfrm>
          <a:custGeom>
            <a:avLst/>
            <a:gdLst/>
            <a:ahLst/>
            <a:rect l="l" t="t" r="r" b="b"/>
            <a:pathLst>
              <a:path w="1663" h="447">
                <a:moveTo>
                  <a:pt x="15081" y="13667"/>
                </a:moveTo>
                <a:cubicBezTo>
                  <a:pt x="15059" y="13645"/>
                  <a:pt x="15054" y="13637"/>
                  <a:pt x="15032" y="13643"/>
                </a:cubicBezTo>
                <a:cubicBezTo>
                  <a:pt x="15047" y="13582"/>
                  <a:pt x="15070" y="13593"/>
                  <a:pt x="15131" y="13593"/>
                </a:cubicBezTo>
                <a:cubicBezTo>
                  <a:pt x="15184" y="13593"/>
                  <a:pt x="15216" y="13583"/>
                  <a:pt x="15255" y="13618"/>
                </a:cubicBezTo>
                <a:cubicBezTo>
                  <a:pt x="15308" y="13665"/>
                  <a:pt x="15265" y="13721"/>
                  <a:pt x="15230" y="13767"/>
                </a:cubicBezTo>
                <a:cubicBezTo>
                  <a:pt x="15195" y="13813"/>
                  <a:pt x="15145" y="13835"/>
                  <a:pt x="15131" y="13891"/>
                </a:cubicBezTo>
                <a:cubicBezTo>
                  <a:pt x="15213" y="13891"/>
                  <a:pt x="15284" y="13895"/>
                  <a:pt x="15354" y="13915"/>
                </a:cubicBezTo>
                <a:cubicBezTo>
                  <a:pt x="15379" y="13915"/>
                  <a:pt x="15387" y="13915"/>
                  <a:pt x="15404" y="13915"/>
                </a:cubicBezTo>
              </a:path>
              <a:path w="1663" h="447">
                <a:moveTo>
                  <a:pt x="15701" y="13791"/>
                </a:moveTo>
                <a:cubicBezTo>
                  <a:pt x="15724" y="13769"/>
                  <a:pt x="15732" y="13764"/>
                  <a:pt x="15726" y="13742"/>
                </a:cubicBezTo>
                <a:cubicBezTo>
                  <a:pt x="15683" y="13753"/>
                  <a:pt x="15661" y="13782"/>
                  <a:pt x="15627" y="13816"/>
                </a:cubicBezTo>
                <a:cubicBezTo>
                  <a:pt x="15598" y="13845"/>
                  <a:pt x="15579" y="13916"/>
                  <a:pt x="15627" y="13940"/>
                </a:cubicBezTo>
                <a:cubicBezTo>
                  <a:pt x="15635" y="13940"/>
                  <a:pt x="15644" y="13940"/>
                  <a:pt x="15652" y="13940"/>
                </a:cubicBezTo>
              </a:path>
              <a:path w="1663" h="447">
                <a:moveTo>
                  <a:pt x="15825" y="13841"/>
                </a:moveTo>
                <a:cubicBezTo>
                  <a:pt x="15803" y="13818"/>
                  <a:pt x="15795" y="13813"/>
                  <a:pt x="15801" y="13791"/>
                </a:cubicBezTo>
                <a:cubicBezTo>
                  <a:pt x="15846" y="13791"/>
                  <a:pt x="15860" y="13771"/>
                  <a:pt x="15900" y="13767"/>
                </a:cubicBezTo>
                <a:cubicBezTo>
                  <a:pt x="15947" y="13762"/>
                  <a:pt x="15986" y="13828"/>
                  <a:pt x="15999" y="13866"/>
                </a:cubicBezTo>
                <a:cubicBezTo>
                  <a:pt x="16014" y="13910"/>
                  <a:pt x="15989" y="13935"/>
                  <a:pt x="15949" y="13940"/>
                </a:cubicBezTo>
                <a:cubicBezTo>
                  <a:pt x="15887" y="13947"/>
                  <a:pt x="15904" y="13910"/>
                  <a:pt x="15875" y="13891"/>
                </a:cubicBezTo>
                <a:cubicBezTo>
                  <a:pt x="15867" y="13891"/>
                  <a:pt x="15858" y="13891"/>
                  <a:pt x="15850" y="13891"/>
                </a:cubicBezTo>
              </a:path>
              <a:path w="1663" h="447">
                <a:moveTo>
                  <a:pt x="16297" y="13742"/>
                </a:moveTo>
                <a:cubicBezTo>
                  <a:pt x="16345" y="13717"/>
                  <a:pt x="16279" y="13717"/>
                  <a:pt x="16247" y="13717"/>
                </a:cubicBezTo>
                <a:cubicBezTo>
                  <a:pt x="16220" y="13717"/>
                  <a:pt x="16157" y="13754"/>
                  <a:pt x="16173" y="13791"/>
                </a:cubicBezTo>
                <a:cubicBezTo>
                  <a:pt x="16185" y="13818"/>
                  <a:pt x="16233" y="13870"/>
                  <a:pt x="16247" y="13891"/>
                </a:cubicBezTo>
                <a:cubicBezTo>
                  <a:pt x="16279" y="13938"/>
                  <a:pt x="16282" y="13894"/>
                  <a:pt x="16297" y="13940"/>
                </a:cubicBezTo>
                <a:cubicBezTo>
                  <a:pt x="16244" y="13940"/>
                  <a:pt x="16214" y="13947"/>
                  <a:pt x="16173" y="13915"/>
                </a:cubicBezTo>
              </a:path>
              <a:path w="1663" h="447">
                <a:moveTo>
                  <a:pt x="16520" y="13543"/>
                </a:moveTo>
                <a:cubicBezTo>
                  <a:pt x="16520" y="13519"/>
                  <a:pt x="16520" y="13510"/>
                  <a:pt x="16520" y="13494"/>
                </a:cubicBezTo>
                <a:cubicBezTo>
                  <a:pt x="16558" y="13494"/>
                  <a:pt x="16623" y="13478"/>
                  <a:pt x="16644" y="13519"/>
                </a:cubicBezTo>
                <a:cubicBezTo>
                  <a:pt x="16672" y="13574"/>
                  <a:pt x="16605" y="13577"/>
                  <a:pt x="16594" y="13593"/>
                </a:cubicBezTo>
                <a:cubicBezTo>
                  <a:pt x="16594" y="13601"/>
                  <a:pt x="16594" y="13610"/>
                  <a:pt x="16594" y="13618"/>
                </a:cubicBezTo>
                <a:cubicBezTo>
                  <a:pt x="16627" y="13618"/>
                  <a:pt x="16661" y="13618"/>
                  <a:pt x="16694" y="1361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26120" y="4857840"/>
            <a:ext cx="108000" cy="1872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7140" y="13519"/>
                </a:moveTo>
                <a:cubicBezTo>
                  <a:pt x="17140" y="13511"/>
                  <a:pt x="17140" y="13502"/>
                  <a:pt x="17140" y="13494"/>
                </a:cubicBezTo>
                <a:cubicBezTo>
                  <a:pt x="17185" y="13494"/>
                  <a:pt x="17208" y="13492"/>
                  <a:pt x="17214" y="13543"/>
                </a:cubicBezTo>
                <a:cubicBezTo>
                  <a:pt x="17220" y="13599"/>
                  <a:pt x="17219" y="13621"/>
                  <a:pt x="17190" y="13643"/>
                </a:cubicBezTo>
                <a:cubicBezTo>
                  <a:pt x="17168" y="13660"/>
                  <a:pt x="17123" y="13685"/>
                  <a:pt x="17090" y="13667"/>
                </a:cubicBezTo>
                <a:cubicBezTo>
                  <a:pt x="17056" y="13649"/>
                  <a:pt x="17020" y="13603"/>
                  <a:pt x="17016" y="13568"/>
                </a:cubicBezTo>
                <a:cubicBezTo>
                  <a:pt x="17010" y="13512"/>
                  <a:pt x="17051" y="13498"/>
                  <a:pt x="17090" y="13494"/>
                </a:cubicBezTo>
                <a:cubicBezTo>
                  <a:pt x="17140" y="13489"/>
                  <a:pt x="17204" y="13502"/>
                  <a:pt x="17239" y="13543"/>
                </a:cubicBezTo>
                <a:cubicBezTo>
                  <a:pt x="17290" y="13603"/>
                  <a:pt x="17287" y="13745"/>
                  <a:pt x="17289" y="13816"/>
                </a:cubicBezTo>
                <a:cubicBezTo>
                  <a:pt x="17291" y="13883"/>
                  <a:pt x="17306" y="13926"/>
                  <a:pt x="17314" y="13990"/>
                </a:cubicBezTo>
                <a:cubicBezTo>
                  <a:pt x="17261" y="14030"/>
                  <a:pt x="17228" y="14018"/>
                  <a:pt x="17165" y="13990"/>
                </a:cubicBezTo>
                <a:cubicBezTo>
                  <a:pt x="17109" y="13965"/>
                  <a:pt x="17045" y="13885"/>
                  <a:pt x="17066" y="13816"/>
                </a:cubicBezTo>
                <a:cubicBezTo>
                  <a:pt x="17074" y="13808"/>
                  <a:pt x="17082" y="13799"/>
                  <a:pt x="17090" y="1379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10240" y="5010120"/>
            <a:ext cx="71640" cy="79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18256" y="13940"/>
                </a:moveTo>
                <a:cubicBezTo>
                  <a:pt x="18264" y="13932"/>
                  <a:pt x="18273" y="13923"/>
                  <a:pt x="18281" y="13915"/>
                </a:cubicBezTo>
                <a:cubicBezTo>
                  <a:pt x="18215" y="13915"/>
                  <a:pt x="18149" y="13915"/>
                  <a:pt x="18083" y="1391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97800" y="4929120"/>
            <a:ext cx="758520" cy="206280"/>
          </a:xfrm>
          <a:custGeom>
            <a:avLst/>
            <a:gdLst/>
            <a:ahLst/>
            <a:rect l="l" t="t" r="r" b="b"/>
            <a:pathLst>
              <a:path w="2109" h="572">
                <a:moveTo>
                  <a:pt x="18653" y="13791"/>
                </a:moveTo>
                <a:cubicBezTo>
                  <a:pt x="18625" y="13791"/>
                  <a:pt x="18615" y="13789"/>
                  <a:pt x="18604" y="13767"/>
                </a:cubicBezTo>
                <a:cubicBezTo>
                  <a:pt x="18642" y="13738"/>
                  <a:pt x="18700" y="13727"/>
                  <a:pt x="18752" y="13742"/>
                </a:cubicBezTo>
                <a:cubicBezTo>
                  <a:pt x="18782" y="13750"/>
                  <a:pt x="18866" y="13806"/>
                  <a:pt x="18876" y="13841"/>
                </a:cubicBezTo>
                <a:cubicBezTo>
                  <a:pt x="18895" y="13909"/>
                  <a:pt x="18822" y="13931"/>
                  <a:pt x="18777" y="13940"/>
                </a:cubicBezTo>
                <a:cubicBezTo>
                  <a:pt x="18725" y="13950"/>
                  <a:pt x="18693" y="13946"/>
                  <a:pt x="18678" y="13990"/>
                </a:cubicBezTo>
                <a:cubicBezTo>
                  <a:pt x="18732" y="14033"/>
                  <a:pt x="18813" y="14053"/>
                  <a:pt x="18852" y="14114"/>
                </a:cubicBezTo>
                <a:cubicBezTo>
                  <a:pt x="18882" y="14161"/>
                  <a:pt x="18887" y="14211"/>
                  <a:pt x="18827" y="14238"/>
                </a:cubicBezTo>
                <a:cubicBezTo>
                  <a:pt x="18773" y="14262"/>
                  <a:pt x="18720" y="14212"/>
                  <a:pt x="18678" y="14188"/>
                </a:cubicBezTo>
              </a:path>
              <a:path w="2109" h="572">
                <a:moveTo>
                  <a:pt x="19224" y="14015"/>
                </a:moveTo>
                <a:cubicBezTo>
                  <a:pt x="19217" y="14001"/>
                  <a:pt x="19170" y="13997"/>
                  <a:pt x="19149" y="14039"/>
                </a:cubicBezTo>
                <a:cubicBezTo>
                  <a:pt x="19128" y="14081"/>
                  <a:pt x="19102" y="14142"/>
                  <a:pt x="19149" y="14188"/>
                </a:cubicBezTo>
                <a:cubicBezTo>
                  <a:pt x="19195" y="14233"/>
                  <a:pt x="19264" y="14238"/>
                  <a:pt x="19323" y="14238"/>
                </a:cubicBezTo>
              </a:path>
              <a:path w="2109" h="572">
                <a:moveTo>
                  <a:pt x="19397" y="14089"/>
                </a:moveTo>
                <a:cubicBezTo>
                  <a:pt x="19410" y="14049"/>
                  <a:pt x="19444" y="14043"/>
                  <a:pt x="19496" y="14039"/>
                </a:cubicBezTo>
                <a:cubicBezTo>
                  <a:pt x="19575" y="14032"/>
                  <a:pt x="19590" y="14038"/>
                  <a:pt x="19596" y="14114"/>
                </a:cubicBezTo>
                <a:cubicBezTo>
                  <a:pt x="19596" y="14147"/>
                  <a:pt x="19596" y="14163"/>
                  <a:pt x="19596" y="14188"/>
                </a:cubicBezTo>
                <a:cubicBezTo>
                  <a:pt x="19545" y="14188"/>
                  <a:pt x="19537" y="14186"/>
                  <a:pt x="19496" y="14163"/>
                </a:cubicBezTo>
                <a:cubicBezTo>
                  <a:pt x="19437" y="14130"/>
                  <a:pt x="19457" y="14136"/>
                  <a:pt x="19422" y="14089"/>
                </a:cubicBezTo>
              </a:path>
              <a:path w="2109" h="572">
                <a:moveTo>
                  <a:pt x="19844" y="14039"/>
                </a:moveTo>
                <a:cubicBezTo>
                  <a:pt x="19844" y="14015"/>
                  <a:pt x="19844" y="14006"/>
                  <a:pt x="19844" y="13990"/>
                </a:cubicBezTo>
                <a:cubicBezTo>
                  <a:pt x="19809" y="13990"/>
                  <a:pt x="19764" y="13977"/>
                  <a:pt x="19745" y="14015"/>
                </a:cubicBezTo>
                <a:cubicBezTo>
                  <a:pt x="19718" y="14069"/>
                  <a:pt x="19786" y="14096"/>
                  <a:pt x="19819" y="14114"/>
                </a:cubicBezTo>
                <a:cubicBezTo>
                  <a:pt x="19856" y="14133"/>
                  <a:pt x="19924" y="14171"/>
                  <a:pt x="19943" y="14213"/>
                </a:cubicBezTo>
                <a:cubicBezTo>
                  <a:pt x="19967" y="14268"/>
                  <a:pt x="19873" y="14273"/>
                  <a:pt x="19844" y="14263"/>
                </a:cubicBezTo>
                <a:cubicBezTo>
                  <a:pt x="19827" y="14255"/>
                  <a:pt x="19811" y="14246"/>
                  <a:pt x="19794" y="14238"/>
                </a:cubicBezTo>
              </a:path>
              <a:path w="2109" h="572">
                <a:moveTo>
                  <a:pt x="20117" y="13767"/>
                </a:moveTo>
                <a:cubicBezTo>
                  <a:pt x="20092" y="13767"/>
                  <a:pt x="20084" y="13767"/>
                  <a:pt x="20067" y="13767"/>
                </a:cubicBezTo>
                <a:cubicBezTo>
                  <a:pt x="20077" y="13728"/>
                  <a:pt x="20095" y="13695"/>
                  <a:pt x="20141" y="13692"/>
                </a:cubicBezTo>
                <a:cubicBezTo>
                  <a:pt x="20210" y="13687"/>
                  <a:pt x="20216" y="13708"/>
                  <a:pt x="20216" y="13767"/>
                </a:cubicBezTo>
                <a:cubicBezTo>
                  <a:pt x="20216" y="13827"/>
                  <a:pt x="20206" y="13814"/>
                  <a:pt x="20166" y="13841"/>
                </a:cubicBezTo>
                <a:cubicBezTo>
                  <a:pt x="20158" y="13849"/>
                  <a:pt x="20149" y="13858"/>
                  <a:pt x="20141" y="13866"/>
                </a:cubicBezTo>
                <a:cubicBezTo>
                  <a:pt x="20192" y="13904"/>
                  <a:pt x="20202" y="13875"/>
                  <a:pt x="20265" y="13866"/>
                </a:cubicBezTo>
              </a:path>
              <a:path w="2109" h="572">
                <a:moveTo>
                  <a:pt x="20588" y="13767"/>
                </a:moveTo>
                <a:cubicBezTo>
                  <a:pt x="20611" y="13744"/>
                  <a:pt x="20615" y="13736"/>
                  <a:pt x="20638" y="13742"/>
                </a:cubicBezTo>
                <a:cubicBezTo>
                  <a:pt x="20638" y="13802"/>
                  <a:pt x="20663" y="13922"/>
                  <a:pt x="20613" y="13965"/>
                </a:cubicBezTo>
                <a:cubicBezTo>
                  <a:pt x="20587" y="13987"/>
                  <a:pt x="20529" y="13954"/>
                  <a:pt x="20513" y="13940"/>
                </a:cubicBezTo>
                <a:cubicBezTo>
                  <a:pt x="20474" y="13905"/>
                  <a:pt x="20464" y="13892"/>
                  <a:pt x="20464" y="13841"/>
                </a:cubicBezTo>
                <a:cubicBezTo>
                  <a:pt x="20464" y="13788"/>
                  <a:pt x="20516" y="13770"/>
                  <a:pt x="20563" y="13767"/>
                </a:cubicBezTo>
                <a:cubicBezTo>
                  <a:pt x="20635" y="13762"/>
                  <a:pt x="20694" y="13784"/>
                  <a:pt x="20712" y="13866"/>
                </a:cubicBezTo>
                <a:cubicBezTo>
                  <a:pt x="20730" y="13948"/>
                  <a:pt x="20719" y="14065"/>
                  <a:pt x="20687" y="14139"/>
                </a:cubicBezTo>
                <a:cubicBezTo>
                  <a:pt x="20665" y="14190"/>
                  <a:pt x="20629" y="14240"/>
                  <a:pt x="20563" y="14213"/>
                </a:cubicBezTo>
                <a:cubicBezTo>
                  <a:pt x="20506" y="14189"/>
                  <a:pt x="20495" y="14087"/>
                  <a:pt x="20489" y="1403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15160" y="5037120"/>
            <a:ext cx="63720" cy="71280"/>
          </a:xfrm>
          <a:custGeom>
            <a:avLst/>
            <a:gdLst/>
            <a:ahLst/>
            <a:rect l="l" t="t" r="r" b="b"/>
            <a:pathLst>
              <a:path w="175" h="199">
                <a:moveTo>
                  <a:pt x="21580" y="13990"/>
                </a:moveTo>
                <a:cubicBezTo>
                  <a:pt x="21580" y="13998"/>
                  <a:pt x="21580" y="14007"/>
                  <a:pt x="21580" y="14015"/>
                </a:cubicBezTo>
                <a:cubicBezTo>
                  <a:pt x="21530" y="14015"/>
                  <a:pt x="21481" y="14015"/>
                  <a:pt x="21431" y="14015"/>
                </a:cubicBezTo>
              </a:path>
              <a:path w="175" h="199">
                <a:moveTo>
                  <a:pt x="21555" y="14114"/>
                </a:moveTo>
                <a:cubicBezTo>
                  <a:pt x="21595" y="14134"/>
                  <a:pt x="21612" y="14132"/>
                  <a:pt x="21605" y="14163"/>
                </a:cubicBezTo>
                <a:cubicBezTo>
                  <a:pt x="21552" y="14163"/>
                  <a:pt x="21535" y="14183"/>
                  <a:pt x="21481" y="14188"/>
                </a:cubicBezTo>
                <a:cubicBezTo>
                  <a:pt x="21456" y="14188"/>
                  <a:pt x="21448" y="14188"/>
                  <a:pt x="21456" y="1416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02720" y="5027760"/>
            <a:ext cx="161640" cy="142560"/>
          </a:xfrm>
          <a:custGeom>
            <a:avLst/>
            <a:gdLst/>
            <a:ahLst/>
            <a:rect l="l" t="t" r="r" b="b"/>
            <a:pathLst>
              <a:path w="448" h="398">
                <a:moveTo>
                  <a:pt x="21977" y="14039"/>
                </a:moveTo>
                <a:cubicBezTo>
                  <a:pt x="21964" y="14000"/>
                  <a:pt x="21965" y="14029"/>
                  <a:pt x="21952" y="13990"/>
                </a:cubicBezTo>
                <a:cubicBezTo>
                  <a:pt x="22002" y="13977"/>
                  <a:pt x="22016" y="13965"/>
                  <a:pt x="22076" y="13965"/>
                </a:cubicBezTo>
                <a:cubicBezTo>
                  <a:pt x="22134" y="13965"/>
                  <a:pt x="22208" y="14006"/>
                  <a:pt x="22225" y="14064"/>
                </a:cubicBezTo>
                <a:cubicBezTo>
                  <a:pt x="22252" y="14156"/>
                  <a:pt x="22195" y="14197"/>
                  <a:pt x="22151" y="14263"/>
                </a:cubicBezTo>
                <a:cubicBezTo>
                  <a:pt x="22123" y="14305"/>
                  <a:pt x="22094" y="14326"/>
                  <a:pt x="22076" y="14362"/>
                </a:cubicBezTo>
                <a:cubicBezTo>
                  <a:pt x="22131" y="14348"/>
                  <a:pt x="22185" y="14321"/>
                  <a:pt x="22250" y="14312"/>
                </a:cubicBezTo>
                <a:cubicBezTo>
                  <a:pt x="22297" y="14305"/>
                  <a:pt x="22351" y="14312"/>
                  <a:pt x="22399" y="1431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75000" y="5187960"/>
            <a:ext cx="277920" cy="152280"/>
          </a:xfrm>
          <a:custGeom>
            <a:avLst/>
            <a:gdLst/>
            <a:ahLst/>
            <a:rect l="l" t="t" r="r" b="b"/>
            <a:pathLst>
              <a:path w="770" h="422">
                <a:moveTo>
                  <a:pt x="9525" y="14511"/>
                </a:moveTo>
                <a:cubicBezTo>
                  <a:pt x="9550" y="14511"/>
                  <a:pt x="9558" y="14511"/>
                  <a:pt x="9575" y="14511"/>
                </a:cubicBezTo>
                <a:cubicBezTo>
                  <a:pt x="9561" y="14469"/>
                  <a:pt x="9526" y="14486"/>
                  <a:pt x="9475" y="14486"/>
                </a:cubicBezTo>
                <a:cubicBezTo>
                  <a:pt x="9448" y="14486"/>
                  <a:pt x="9352" y="14507"/>
                  <a:pt x="9376" y="14560"/>
                </a:cubicBezTo>
                <a:cubicBezTo>
                  <a:pt x="9401" y="14615"/>
                  <a:pt x="9481" y="14630"/>
                  <a:pt x="9525" y="14660"/>
                </a:cubicBezTo>
                <a:cubicBezTo>
                  <a:pt x="9554" y="14680"/>
                  <a:pt x="9597" y="14746"/>
                  <a:pt x="9575" y="14784"/>
                </a:cubicBezTo>
                <a:cubicBezTo>
                  <a:pt x="9562" y="14807"/>
                  <a:pt x="9474" y="14827"/>
                  <a:pt x="9451" y="14833"/>
                </a:cubicBezTo>
                <a:cubicBezTo>
                  <a:pt x="9413" y="14843"/>
                  <a:pt x="9403" y="14828"/>
                  <a:pt x="9376" y="14808"/>
                </a:cubicBezTo>
              </a:path>
              <a:path w="770" h="422">
                <a:moveTo>
                  <a:pt x="9748" y="14610"/>
                </a:moveTo>
                <a:cubicBezTo>
                  <a:pt x="9756" y="14610"/>
                  <a:pt x="9765" y="14610"/>
                  <a:pt x="9773" y="14610"/>
                </a:cubicBezTo>
                <a:cubicBezTo>
                  <a:pt x="9773" y="14676"/>
                  <a:pt x="9773" y="14742"/>
                  <a:pt x="9773" y="14808"/>
                </a:cubicBezTo>
              </a:path>
              <a:path w="770" h="422">
                <a:moveTo>
                  <a:pt x="9847" y="14436"/>
                </a:moveTo>
                <a:cubicBezTo>
                  <a:pt x="9847" y="14428"/>
                  <a:pt x="9847" y="14420"/>
                  <a:pt x="9847" y="14412"/>
                </a:cubicBezTo>
              </a:path>
              <a:path w="770" h="422">
                <a:moveTo>
                  <a:pt x="9947" y="14635"/>
                </a:moveTo>
                <a:cubicBezTo>
                  <a:pt x="9947" y="14707"/>
                  <a:pt x="9930" y="14777"/>
                  <a:pt x="9971" y="14833"/>
                </a:cubicBezTo>
                <a:cubicBezTo>
                  <a:pt x="10001" y="14783"/>
                  <a:pt x="10001" y="14733"/>
                  <a:pt x="10046" y="14684"/>
                </a:cubicBezTo>
                <a:cubicBezTo>
                  <a:pt x="10054" y="14676"/>
                  <a:pt x="10063" y="14668"/>
                  <a:pt x="10071" y="14660"/>
                </a:cubicBezTo>
                <a:cubicBezTo>
                  <a:pt x="10117" y="14717"/>
                  <a:pt x="10136" y="14762"/>
                  <a:pt x="10145" y="1483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13120" y="5276880"/>
            <a:ext cx="142920" cy="98280"/>
          </a:xfrm>
          <a:custGeom>
            <a:avLst/>
            <a:gdLst/>
            <a:ahLst/>
            <a:rect l="l" t="t" r="r" b="b"/>
            <a:pathLst>
              <a:path w="397" h="273">
                <a:moveTo>
                  <a:pt x="10616" y="14759"/>
                </a:moveTo>
                <a:cubicBezTo>
                  <a:pt x="10595" y="14752"/>
                  <a:pt x="10573" y="14719"/>
                  <a:pt x="10592" y="14684"/>
                </a:cubicBezTo>
                <a:cubicBezTo>
                  <a:pt x="10630" y="14614"/>
                  <a:pt x="10691" y="14681"/>
                  <a:pt x="10716" y="14709"/>
                </a:cubicBezTo>
                <a:cubicBezTo>
                  <a:pt x="10744" y="14740"/>
                  <a:pt x="10761" y="14840"/>
                  <a:pt x="10740" y="14883"/>
                </a:cubicBezTo>
                <a:cubicBezTo>
                  <a:pt x="10714" y="14938"/>
                  <a:pt x="10667" y="14932"/>
                  <a:pt x="10616" y="14932"/>
                </a:cubicBezTo>
              </a:path>
              <a:path w="397" h="273">
                <a:moveTo>
                  <a:pt x="10864" y="14734"/>
                </a:moveTo>
                <a:cubicBezTo>
                  <a:pt x="10872" y="14709"/>
                  <a:pt x="10881" y="14685"/>
                  <a:pt x="10889" y="14660"/>
                </a:cubicBezTo>
                <a:cubicBezTo>
                  <a:pt x="10848" y="14700"/>
                  <a:pt x="10803" y="14750"/>
                  <a:pt x="10790" y="14808"/>
                </a:cubicBezTo>
                <a:cubicBezTo>
                  <a:pt x="10777" y="14867"/>
                  <a:pt x="10829" y="14922"/>
                  <a:pt x="10889" y="14908"/>
                </a:cubicBezTo>
                <a:cubicBezTo>
                  <a:pt x="10939" y="14883"/>
                  <a:pt x="10955" y="14875"/>
                  <a:pt x="10988" y="1485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71960" y="5286240"/>
            <a:ext cx="63360" cy="637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11460" y="14684"/>
                </a:moveTo>
                <a:cubicBezTo>
                  <a:pt x="11468" y="14684"/>
                  <a:pt x="11477" y="14684"/>
                  <a:pt x="11485" y="14684"/>
                </a:cubicBezTo>
                <a:cubicBezTo>
                  <a:pt x="11427" y="14684"/>
                  <a:pt x="11369" y="14684"/>
                  <a:pt x="11311" y="14684"/>
                </a:cubicBezTo>
              </a:path>
              <a:path w="175" h="175">
                <a:moveTo>
                  <a:pt x="11460" y="14784"/>
                </a:moveTo>
                <a:cubicBezTo>
                  <a:pt x="11487" y="14819"/>
                  <a:pt x="11485" y="14814"/>
                  <a:pt x="11485" y="14858"/>
                </a:cubicBezTo>
                <a:cubicBezTo>
                  <a:pt x="11444" y="14858"/>
                  <a:pt x="11402" y="14858"/>
                  <a:pt x="11361" y="1485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03800" y="5180040"/>
            <a:ext cx="196920" cy="384120"/>
          </a:xfrm>
          <a:custGeom>
            <a:avLst/>
            <a:gdLst/>
            <a:ahLst/>
            <a:rect l="l" t="t" r="r" b="b"/>
            <a:pathLst>
              <a:path w="547" h="1067">
                <a:moveTo>
                  <a:pt x="12005" y="14436"/>
                </a:moveTo>
                <a:cubicBezTo>
                  <a:pt x="11981" y="14436"/>
                  <a:pt x="11972" y="14436"/>
                  <a:pt x="11956" y="14436"/>
                </a:cubicBezTo>
                <a:cubicBezTo>
                  <a:pt x="11965" y="14409"/>
                  <a:pt x="11991" y="14390"/>
                  <a:pt x="12030" y="14387"/>
                </a:cubicBezTo>
                <a:cubicBezTo>
                  <a:pt x="12062" y="14385"/>
                  <a:pt x="12096" y="14387"/>
                  <a:pt x="12129" y="14387"/>
                </a:cubicBezTo>
                <a:cubicBezTo>
                  <a:pt x="12129" y="14441"/>
                  <a:pt x="12136" y="14463"/>
                  <a:pt x="12105" y="14486"/>
                </a:cubicBezTo>
                <a:cubicBezTo>
                  <a:pt x="12070" y="14513"/>
                  <a:pt x="12074" y="14511"/>
                  <a:pt x="12030" y="14511"/>
                </a:cubicBezTo>
                <a:cubicBezTo>
                  <a:pt x="12030" y="14550"/>
                  <a:pt x="12015" y="14580"/>
                  <a:pt x="12055" y="14585"/>
                </a:cubicBezTo>
                <a:cubicBezTo>
                  <a:pt x="12087" y="14589"/>
                  <a:pt x="12162" y="14602"/>
                  <a:pt x="12179" y="14635"/>
                </a:cubicBezTo>
                <a:cubicBezTo>
                  <a:pt x="12179" y="14660"/>
                  <a:pt x="12179" y="14668"/>
                  <a:pt x="12179" y="14684"/>
                </a:cubicBezTo>
                <a:cubicBezTo>
                  <a:pt x="12107" y="14684"/>
                  <a:pt x="12039" y="14674"/>
                  <a:pt x="11981" y="14709"/>
                </a:cubicBezTo>
              </a:path>
              <a:path w="547" h="1067">
                <a:moveTo>
                  <a:pt x="12427" y="14883"/>
                </a:moveTo>
                <a:cubicBezTo>
                  <a:pt x="12405" y="14927"/>
                  <a:pt x="12398" y="14868"/>
                  <a:pt x="12353" y="14858"/>
                </a:cubicBezTo>
                <a:cubicBezTo>
                  <a:pt x="12248" y="14835"/>
                  <a:pt x="12114" y="14858"/>
                  <a:pt x="12005" y="14858"/>
                </a:cubicBezTo>
              </a:path>
              <a:path w="547" h="1067">
                <a:moveTo>
                  <a:pt x="12179" y="15007"/>
                </a:moveTo>
                <a:cubicBezTo>
                  <a:pt x="12171" y="15007"/>
                  <a:pt x="12162" y="15007"/>
                  <a:pt x="12154" y="15007"/>
                </a:cubicBezTo>
                <a:cubicBezTo>
                  <a:pt x="12154" y="15057"/>
                  <a:pt x="12143" y="15065"/>
                  <a:pt x="12129" y="15106"/>
                </a:cubicBezTo>
                <a:cubicBezTo>
                  <a:pt x="12119" y="15135"/>
                  <a:pt x="12124" y="15190"/>
                  <a:pt x="12154" y="15205"/>
                </a:cubicBezTo>
                <a:cubicBezTo>
                  <a:pt x="12174" y="15215"/>
                  <a:pt x="12233" y="15228"/>
                  <a:pt x="12254" y="15230"/>
                </a:cubicBezTo>
                <a:cubicBezTo>
                  <a:pt x="12336" y="15236"/>
                  <a:pt x="12420" y="15230"/>
                  <a:pt x="12502" y="15230"/>
                </a:cubicBezTo>
              </a:path>
              <a:path w="547" h="1067">
                <a:moveTo>
                  <a:pt x="12402" y="15131"/>
                </a:moveTo>
                <a:cubicBezTo>
                  <a:pt x="12378" y="15131"/>
                  <a:pt x="12369" y="15131"/>
                  <a:pt x="12353" y="15131"/>
                </a:cubicBezTo>
                <a:cubicBezTo>
                  <a:pt x="12341" y="15192"/>
                  <a:pt x="12328" y="15238"/>
                  <a:pt x="12328" y="15304"/>
                </a:cubicBezTo>
                <a:cubicBezTo>
                  <a:pt x="12328" y="15354"/>
                  <a:pt x="12328" y="15403"/>
                  <a:pt x="12328" y="1545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62760" y="5322960"/>
            <a:ext cx="108000" cy="7920"/>
          </a:xfrm>
          <a:custGeom>
            <a:avLst/>
            <a:gdLst/>
            <a:ahLst/>
            <a:rect l="l" t="t" r="r" b="b"/>
            <a:pathLst>
              <a:path w="299" h="25">
                <a:moveTo>
                  <a:pt x="17140" y="14808"/>
                </a:moveTo>
                <a:cubicBezTo>
                  <a:pt x="17083" y="14808"/>
                  <a:pt x="17037" y="14793"/>
                  <a:pt x="16991" y="14784"/>
                </a:cubicBezTo>
                <a:cubicBezTo>
                  <a:pt x="16945" y="14775"/>
                  <a:pt x="16889" y="14784"/>
                  <a:pt x="16842" y="1478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76960" y="5232240"/>
            <a:ext cx="696960" cy="169920"/>
          </a:xfrm>
          <a:custGeom>
            <a:avLst/>
            <a:gdLst/>
            <a:ahLst/>
            <a:rect l="l" t="t" r="r" b="b"/>
            <a:pathLst>
              <a:path w="1935" h="472">
                <a:moveTo>
                  <a:pt x="17487" y="14585"/>
                </a:moveTo>
                <a:cubicBezTo>
                  <a:pt x="17510" y="14562"/>
                  <a:pt x="17514" y="14554"/>
                  <a:pt x="17537" y="14560"/>
                </a:cubicBezTo>
                <a:cubicBezTo>
                  <a:pt x="17505" y="14568"/>
                  <a:pt x="17454" y="14598"/>
                  <a:pt x="17438" y="14635"/>
                </a:cubicBezTo>
                <a:cubicBezTo>
                  <a:pt x="17413" y="14693"/>
                  <a:pt x="17456" y="14746"/>
                  <a:pt x="17512" y="14759"/>
                </a:cubicBezTo>
                <a:cubicBezTo>
                  <a:pt x="17564" y="14771"/>
                  <a:pt x="17648" y="14784"/>
                  <a:pt x="17686" y="14833"/>
                </a:cubicBezTo>
                <a:cubicBezTo>
                  <a:pt x="17696" y="14846"/>
                  <a:pt x="17725" y="14908"/>
                  <a:pt x="17711" y="14932"/>
                </a:cubicBezTo>
                <a:cubicBezTo>
                  <a:pt x="17681" y="14985"/>
                  <a:pt x="17640" y="14982"/>
                  <a:pt x="17587" y="14982"/>
                </a:cubicBezTo>
                <a:cubicBezTo>
                  <a:pt x="17529" y="14982"/>
                  <a:pt x="17508" y="14985"/>
                  <a:pt x="17462" y="14957"/>
                </a:cubicBezTo>
              </a:path>
              <a:path w="1935" h="472">
                <a:moveTo>
                  <a:pt x="17909" y="14585"/>
                </a:moveTo>
                <a:cubicBezTo>
                  <a:pt x="17909" y="14577"/>
                  <a:pt x="17909" y="14568"/>
                  <a:pt x="17909" y="14560"/>
                </a:cubicBezTo>
                <a:cubicBezTo>
                  <a:pt x="17826" y="14560"/>
                  <a:pt x="17744" y="14560"/>
                  <a:pt x="17661" y="14560"/>
                </a:cubicBezTo>
              </a:path>
              <a:path w="1935" h="472">
                <a:moveTo>
                  <a:pt x="18157" y="14784"/>
                </a:moveTo>
                <a:cubicBezTo>
                  <a:pt x="18146" y="14750"/>
                  <a:pt x="18112" y="14743"/>
                  <a:pt x="18083" y="14784"/>
                </a:cubicBezTo>
                <a:cubicBezTo>
                  <a:pt x="18045" y="14839"/>
                  <a:pt x="18048" y="14903"/>
                  <a:pt x="18083" y="14957"/>
                </a:cubicBezTo>
                <a:cubicBezTo>
                  <a:pt x="18115" y="15005"/>
                  <a:pt x="18158" y="15001"/>
                  <a:pt x="18207" y="15007"/>
                </a:cubicBezTo>
              </a:path>
              <a:path w="1935" h="472">
                <a:moveTo>
                  <a:pt x="18306" y="14883"/>
                </a:moveTo>
                <a:cubicBezTo>
                  <a:pt x="18344" y="14854"/>
                  <a:pt x="18357" y="14858"/>
                  <a:pt x="18405" y="14858"/>
                </a:cubicBezTo>
                <a:cubicBezTo>
                  <a:pt x="18431" y="14858"/>
                  <a:pt x="18492" y="14865"/>
                  <a:pt x="18504" y="14883"/>
                </a:cubicBezTo>
                <a:cubicBezTo>
                  <a:pt x="18519" y="14905"/>
                  <a:pt x="18504" y="14977"/>
                  <a:pt x="18504" y="15007"/>
                </a:cubicBezTo>
                <a:cubicBezTo>
                  <a:pt x="18440" y="15007"/>
                  <a:pt x="18407" y="14997"/>
                  <a:pt x="18355" y="14957"/>
                </a:cubicBezTo>
                <a:cubicBezTo>
                  <a:pt x="18331" y="14932"/>
                  <a:pt x="18323" y="14924"/>
                  <a:pt x="18306" y="14908"/>
                </a:cubicBezTo>
              </a:path>
              <a:path w="1935" h="472">
                <a:moveTo>
                  <a:pt x="18752" y="14784"/>
                </a:moveTo>
                <a:cubicBezTo>
                  <a:pt x="18791" y="14745"/>
                  <a:pt x="18793" y="14728"/>
                  <a:pt x="18827" y="14734"/>
                </a:cubicBezTo>
                <a:cubicBezTo>
                  <a:pt x="18774" y="14742"/>
                  <a:pt x="18735" y="14746"/>
                  <a:pt x="18728" y="14808"/>
                </a:cubicBezTo>
                <a:cubicBezTo>
                  <a:pt x="18721" y="14876"/>
                  <a:pt x="18809" y="14856"/>
                  <a:pt x="18852" y="14883"/>
                </a:cubicBezTo>
                <a:cubicBezTo>
                  <a:pt x="18883" y="14903"/>
                  <a:pt x="18893" y="14927"/>
                  <a:pt x="18901" y="14957"/>
                </a:cubicBezTo>
                <a:cubicBezTo>
                  <a:pt x="18860" y="14957"/>
                  <a:pt x="18818" y="14957"/>
                  <a:pt x="18777" y="14957"/>
                </a:cubicBezTo>
              </a:path>
              <a:path w="1935" h="472">
                <a:moveTo>
                  <a:pt x="19149" y="14560"/>
                </a:moveTo>
                <a:cubicBezTo>
                  <a:pt x="19098" y="14535"/>
                  <a:pt x="19168" y="14536"/>
                  <a:pt x="19199" y="14536"/>
                </a:cubicBezTo>
                <a:cubicBezTo>
                  <a:pt x="19248" y="14536"/>
                  <a:pt x="19284" y="14567"/>
                  <a:pt x="19298" y="14610"/>
                </a:cubicBezTo>
                <a:cubicBezTo>
                  <a:pt x="19310" y="14646"/>
                  <a:pt x="19258" y="14680"/>
                  <a:pt x="19248" y="14709"/>
                </a:cubicBezTo>
                <a:cubicBezTo>
                  <a:pt x="19248" y="14717"/>
                  <a:pt x="19248" y="14726"/>
                  <a:pt x="19248" y="14734"/>
                </a:cubicBezTo>
                <a:cubicBezTo>
                  <a:pt x="19295" y="14734"/>
                  <a:pt x="19328" y="14718"/>
                  <a:pt x="19372" y="1470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99200" y="5259240"/>
            <a:ext cx="13500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9869" y="14635"/>
                </a:moveTo>
                <a:cubicBezTo>
                  <a:pt x="19869" y="14714"/>
                  <a:pt x="19890" y="14649"/>
                  <a:pt x="19918" y="14684"/>
                </a:cubicBezTo>
                <a:cubicBezTo>
                  <a:pt x="19926" y="14694"/>
                  <a:pt x="19942" y="14771"/>
                  <a:pt x="19943" y="14784"/>
                </a:cubicBezTo>
                <a:cubicBezTo>
                  <a:pt x="19947" y="14817"/>
                  <a:pt x="19944" y="14837"/>
                  <a:pt x="19918" y="14858"/>
                </a:cubicBezTo>
                <a:cubicBezTo>
                  <a:pt x="19893" y="14858"/>
                  <a:pt x="19885" y="14858"/>
                  <a:pt x="19893" y="14883"/>
                </a:cubicBezTo>
                <a:cubicBezTo>
                  <a:pt x="19857" y="14883"/>
                  <a:pt x="19820" y="14876"/>
                  <a:pt x="19794" y="14858"/>
                </a:cubicBezTo>
                <a:cubicBezTo>
                  <a:pt x="19770" y="14842"/>
                  <a:pt x="19711" y="14791"/>
                  <a:pt x="19720" y="14759"/>
                </a:cubicBezTo>
                <a:cubicBezTo>
                  <a:pt x="19733" y="14714"/>
                  <a:pt x="19753" y="14662"/>
                  <a:pt x="19794" y="14635"/>
                </a:cubicBezTo>
                <a:cubicBezTo>
                  <a:pt x="19868" y="14588"/>
                  <a:pt x="19880" y="14623"/>
                  <a:pt x="19943" y="14660"/>
                </a:cubicBezTo>
                <a:cubicBezTo>
                  <a:pt x="20008" y="14698"/>
                  <a:pt x="20073" y="14804"/>
                  <a:pt x="20092" y="14883"/>
                </a:cubicBezTo>
                <a:cubicBezTo>
                  <a:pt x="20110" y="14959"/>
                  <a:pt x="20086" y="15043"/>
                  <a:pt x="20042" y="15106"/>
                </a:cubicBezTo>
                <a:cubicBezTo>
                  <a:pt x="19997" y="15171"/>
                  <a:pt x="19959" y="15161"/>
                  <a:pt x="19893" y="15131"/>
                </a:cubicBezTo>
                <a:cubicBezTo>
                  <a:pt x="19841" y="15108"/>
                  <a:pt x="19777" y="15064"/>
                  <a:pt x="19769" y="15007"/>
                </a:cubicBezTo>
                <a:cubicBezTo>
                  <a:pt x="19763" y="14960"/>
                  <a:pt x="19769" y="14906"/>
                  <a:pt x="19769" y="1485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58040" y="5392800"/>
            <a:ext cx="810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20638" y="15007"/>
                </a:moveTo>
                <a:cubicBezTo>
                  <a:pt x="20646" y="15007"/>
                  <a:pt x="20654" y="15007"/>
                  <a:pt x="20662" y="15007"/>
                </a:cubicBezTo>
                <a:cubicBezTo>
                  <a:pt x="20627" y="14995"/>
                  <a:pt x="20622" y="14982"/>
                  <a:pt x="20563" y="14982"/>
                </a:cubicBezTo>
                <a:cubicBezTo>
                  <a:pt x="20538" y="14982"/>
                  <a:pt x="20514" y="14982"/>
                  <a:pt x="20489" y="14982"/>
                </a:cubicBezTo>
              </a:path>
              <a:path w="224" h="175">
                <a:moveTo>
                  <a:pt x="20638" y="15106"/>
                </a:moveTo>
                <a:cubicBezTo>
                  <a:pt x="20638" y="15114"/>
                  <a:pt x="20638" y="15123"/>
                  <a:pt x="20638" y="15131"/>
                </a:cubicBezTo>
                <a:cubicBezTo>
                  <a:pt x="20600" y="15140"/>
                  <a:pt x="20561" y="15176"/>
                  <a:pt x="20513" y="15156"/>
                </a:cubicBezTo>
                <a:cubicBezTo>
                  <a:pt x="20485" y="15127"/>
                  <a:pt x="20472" y="15119"/>
                  <a:pt x="20439" y="1513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4960" y="5357880"/>
            <a:ext cx="160200" cy="152280"/>
          </a:xfrm>
          <a:custGeom>
            <a:avLst/>
            <a:gdLst/>
            <a:ahLst/>
            <a:rect l="l" t="t" r="r" b="b"/>
            <a:pathLst>
              <a:path w="447" h="422">
                <a:moveTo>
                  <a:pt x="21084" y="15007"/>
                </a:moveTo>
                <a:cubicBezTo>
                  <a:pt x="21084" y="14955"/>
                  <a:pt x="21079" y="14954"/>
                  <a:pt x="21109" y="14932"/>
                </a:cubicBezTo>
                <a:cubicBezTo>
                  <a:pt x="21152" y="14901"/>
                  <a:pt x="21177" y="14886"/>
                  <a:pt x="21233" y="14883"/>
                </a:cubicBezTo>
                <a:cubicBezTo>
                  <a:pt x="21288" y="14880"/>
                  <a:pt x="21346" y="14882"/>
                  <a:pt x="21382" y="14932"/>
                </a:cubicBezTo>
                <a:cubicBezTo>
                  <a:pt x="21441" y="15016"/>
                  <a:pt x="21435" y="15092"/>
                  <a:pt x="21406" y="15180"/>
                </a:cubicBezTo>
                <a:cubicBezTo>
                  <a:pt x="21383" y="15251"/>
                  <a:pt x="21352" y="15324"/>
                  <a:pt x="21258" y="15304"/>
                </a:cubicBezTo>
                <a:cubicBezTo>
                  <a:pt x="21167" y="15284"/>
                  <a:pt x="21081" y="15234"/>
                  <a:pt x="21034" y="15156"/>
                </a:cubicBezTo>
                <a:cubicBezTo>
                  <a:pt x="20997" y="15094"/>
                  <a:pt x="20964" y="15041"/>
                  <a:pt x="21010" y="14982"/>
                </a:cubicBezTo>
                <a:cubicBezTo>
                  <a:pt x="21039" y="14952"/>
                  <a:pt x="21053" y="14940"/>
                  <a:pt x="21084" y="1493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53160" y="5616720"/>
            <a:ext cx="714600" cy="206280"/>
          </a:xfrm>
          <a:custGeom>
            <a:avLst/>
            <a:gdLst/>
            <a:ahLst/>
            <a:rect l="l" t="t" r="r" b="b"/>
            <a:pathLst>
              <a:path w="1986" h="572">
                <a:moveTo>
                  <a:pt x="18628" y="15801"/>
                </a:moveTo>
                <a:cubicBezTo>
                  <a:pt x="18662" y="15756"/>
                  <a:pt x="18662" y="15746"/>
                  <a:pt x="18628" y="15701"/>
                </a:cubicBezTo>
                <a:cubicBezTo>
                  <a:pt x="18574" y="15715"/>
                  <a:pt x="18529" y="15745"/>
                  <a:pt x="18504" y="15801"/>
                </a:cubicBezTo>
                <a:cubicBezTo>
                  <a:pt x="18472" y="15871"/>
                  <a:pt x="18459" y="15969"/>
                  <a:pt x="18529" y="16024"/>
                </a:cubicBezTo>
                <a:cubicBezTo>
                  <a:pt x="18575" y="16060"/>
                  <a:pt x="18624" y="16049"/>
                  <a:pt x="18678" y="16049"/>
                </a:cubicBezTo>
              </a:path>
              <a:path w="1986" h="572">
                <a:moveTo>
                  <a:pt x="18852" y="15925"/>
                </a:moveTo>
                <a:cubicBezTo>
                  <a:pt x="18852" y="15887"/>
                  <a:pt x="18857" y="15859"/>
                  <a:pt x="18901" y="15850"/>
                </a:cubicBezTo>
                <a:cubicBezTo>
                  <a:pt x="18955" y="15838"/>
                  <a:pt x="19036" y="15841"/>
                  <a:pt x="19075" y="15875"/>
                </a:cubicBezTo>
                <a:cubicBezTo>
                  <a:pt x="19124" y="15918"/>
                  <a:pt x="19149" y="16006"/>
                  <a:pt x="19124" y="16073"/>
                </a:cubicBezTo>
                <a:cubicBezTo>
                  <a:pt x="19101" y="16135"/>
                  <a:pt x="19000" y="16077"/>
                  <a:pt x="18976" y="16049"/>
                </a:cubicBezTo>
                <a:cubicBezTo>
                  <a:pt x="18954" y="16005"/>
                  <a:pt x="18951" y="15993"/>
                  <a:pt x="18926" y="15974"/>
                </a:cubicBezTo>
              </a:path>
              <a:path w="1986" h="572">
                <a:moveTo>
                  <a:pt x="19273" y="15825"/>
                </a:moveTo>
                <a:cubicBezTo>
                  <a:pt x="19321" y="15806"/>
                  <a:pt x="19355" y="15787"/>
                  <a:pt x="19397" y="15776"/>
                </a:cubicBezTo>
                <a:cubicBezTo>
                  <a:pt x="19347" y="15738"/>
                  <a:pt x="19326" y="15747"/>
                  <a:pt x="19273" y="15776"/>
                </a:cubicBezTo>
                <a:cubicBezTo>
                  <a:pt x="19213" y="15808"/>
                  <a:pt x="19206" y="15836"/>
                  <a:pt x="19248" y="15900"/>
                </a:cubicBezTo>
                <a:cubicBezTo>
                  <a:pt x="19281" y="15951"/>
                  <a:pt x="19376" y="15922"/>
                  <a:pt x="19422" y="15974"/>
                </a:cubicBezTo>
                <a:cubicBezTo>
                  <a:pt x="19457" y="16014"/>
                  <a:pt x="19397" y="16064"/>
                  <a:pt x="19372" y="16073"/>
                </a:cubicBezTo>
                <a:cubicBezTo>
                  <a:pt x="19340" y="16084"/>
                  <a:pt x="19281" y="16073"/>
                  <a:pt x="19248" y="16073"/>
                </a:cubicBezTo>
              </a:path>
              <a:path w="1986" h="572">
                <a:moveTo>
                  <a:pt x="19695" y="15677"/>
                </a:moveTo>
                <a:cubicBezTo>
                  <a:pt x="19670" y="15677"/>
                  <a:pt x="19662" y="15677"/>
                  <a:pt x="19670" y="15652"/>
                </a:cubicBezTo>
                <a:cubicBezTo>
                  <a:pt x="19684" y="15611"/>
                  <a:pt x="19691" y="15607"/>
                  <a:pt x="19745" y="15602"/>
                </a:cubicBezTo>
                <a:cubicBezTo>
                  <a:pt x="19782" y="15599"/>
                  <a:pt x="19849" y="15586"/>
                  <a:pt x="19869" y="15627"/>
                </a:cubicBezTo>
                <a:cubicBezTo>
                  <a:pt x="19889" y="15666"/>
                  <a:pt x="19869" y="15723"/>
                  <a:pt x="19844" y="15751"/>
                </a:cubicBezTo>
                <a:cubicBezTo>
                  <a:pt x="19820" y="15778"/>
                  <a:pt x="19736" y="15785"/>
                  <a:pt x="19769" y="15801"/>
                </a:cubicBezTo>
                <a:cubicBezTo>
                  <a:pt x="19811" y="15822"/>
                  <a:pt x="19920" y="15801"/>
                  <a:pt x="19968" y="15801"/>
                </a:cubicBezTo>
              </a:path>
              <a:path w="1986" h="572">
                <a:moveTo>
                  <a:pt x="20290" y="15677"/>
                </a:moveTo>
                <a:cubicBezTo>
                  <a:pt x="20329" y="15651"/>
                  <a:pt x="20331" y="15681"/>
                  <a:pt x="20315" y="15726"/>
                </a:cubicBezTo>
                <a:cubicBezTo>
                  <a:pt x="20302" y="15761"/>
                  <a:pt x="20254" y="15833"/>
                  <a:pt x="20216" y="15850"/>
                </a:cubicBezTo>
                <a:cubicBezTo>
                  <a:pt x="20191" y="15850"/>
                  <a:pt x="20183" y="15850"/>
                  <a:pt x="20166" y="15850"/>
                </a:cubicBezTo>
                <a:cubicBezTo>
                  <a:pt x="20133" y="15806"/>
                  <a:pt x="20141" y="15784"/>
                  <a:pt x="20141" y="15726"/>
                </a:cubicBezTo>
                <a:cubicBezTo>
                  <a:pt x="20141" y="15660"/>
                  <a:pt x="20214" y="15655"/>
                  <a:pt x="20265" y="15652"/>
                </a:cubicBezTo>
                <a:cubicBezTo>
                  <a:pt x="20358" y="15647"/>
                  <a:pt x="20399" y="15660"/>
                  <a:pt x="20439" y="15751"/>
                </a:cubicBezTo>
                <a:cubicBezTo>
                  <a:pt x="20476" y="15836"/>
                  <a:pt x="20484" y="15983"/>
                  <a:pt x="20464" y="16073"/>
                </a:cubicBezTo>
                <a:cubicBezTo>
                  <a:pt x="20446" y="16153"/>
                  <a:pt x="20397" y="16196"/>
                  <a:pt x="20315" y="16173"/>
                </a:cubicBezTo>
                <a:cubicBezTo>
                  <a:pt x="20232" y="16150"/>
                  <a:pt x="20160" y="16052"/>
                  <a:pt x="20141" y="15974"/>
                </a:cubicBezTo>
                <a:cubicBezTo>
                  <a:pt x="20141" y="15925"/>
                  <a:pt x="20141" y="15908"/>
                  <a:pt x="20141" y="1587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91240" y="5705640"/>
            <a:ext cx="81000" cy="9036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21034" y="15875"/>
                </a:moveTo>
                <a:cubicBezTo>
                  <a:pt x="20976" y="15875"/>
                  <a:pt x="20940" y="15863"/>
                  <a:pt x="20886" y="15850"/>
                </a:cubicBezTo>
                <a:cubicBezTo>
                  <a:pt x="20848" y="15841"/>
                  <a:pt x="20839" y="15854"/>
                  <a:pt x="20811" y="15875"/>
                </a:cubicBezTo>
              </a:path>
              <a:path w="224" h="249">
                <a:moveTo>
                  <a:pt x="20960" y="15999"/>
                </a:moveTo>
                <a:cubicBezTo>
                  <a:pt x="21001" y="16040"/>
                  <a:pt x="21022" y="16050"/>
                  <a:pt x="21034" y="16098"/>
                </a:cubicBezTo>
                <a:cubicBezTo>
                  <a:pt x="20997" y="16098"/>
                  <a:pt x="20940" y="16088"/>
                  <a:pt x="20910" y="16073"/>
                </a:cubicBezTo>
                <a:cubicBezTo>
                  <a:pt x="20872" y="16054"/>
                  <a:pt x="20881" y="16049"/>
                  <a:pt x="20836" y="1604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7880" y="565308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21431" y="15949"/>
                </a:moveTo>
                <a:cubicBezTo>
                  <a:pt x="21443" y="15902"/>
                  <a:pt x="21487" y="15892"/>
                  <a:pt x="21506" y="15850"/>
                </a:cubicBezTo>
                <a:cubicBezTo>
                  <a:pt x="21524" y="15810"/>
                  <a:pt x="21565" y="15799"/>
                  <a:pt x="21605" y="15776"/>
                </a:cubicBezTo>
                <a:cubicBezTo>
                  <a:pt x="21665" y="15741"/>
                  <a:pt x="21687" y="15707"/>
                  <a:pt x="21754" y="15701"/>
                </a:cubicBezTo>
                <a:cubicBezTo>
                  <a:pt x="21809" y="15696"/>
                  <a:pt x="21810" y="15708"/>
                  <a:pt x="21828" y="15751"/>
                </a:cubicBezTo>
                <a:cubicBezTo>
                  <a:pt x="21859" y="15823"/>
                  <a:pt x="21868" y="15919"/>
                  <a:pt x="21853" y="15999"/>
                </a:cubicBezTo>
                <a:cubicBezTo>
                  <a:pt x="21836" y="16091"/>
                  <a:pt x="21795" y="16175"/>
                  <a:pt x="21754" y="16247"/>
                </a:cubicBezTo>
                <a:cubicBezTo>
                  <a:pt x="21712" y="16320"/>
                  <a:pt x="21691" y="16339"/>
                  <a:pt x="21605" y="16346"/>
                </a:cubicBezTo>
                <a:cubicBezTo>
                  <a:pt x="21551" y="16350"/>
                  <a:pt x="21471" y="16340"/>
                  <a:pt x="21431" y="16297"/>
                </a:cubicBezTo>
                <a:cubicBezTo>
                  <a:pt x="21397" y="16260"/>
                  <a:pt x="21384" y="16169"/>
                  <a:pt x="21382" y="16123"/>
                </a:cubicBezTo>
                <a:cubicBezTo>
                  <a:pt x="21379" y="16060"/>
                  <a:pt x="21395" y="15979"/>
                  <a:pt x="21431" y="15925"/>
                </a:cubicBezTo>
                <a:cubicBezTo>
                  <a:pt x="21455" y="15889"/>
                  <a:pt x="21493" y="15860"/>
                  <a:pt x="21530" y="1585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60800" y="5653080"/>
            <a:ext cx="152280" cy="106200"/>
          </a:xfrm>
          <a:custGeom>
            <a:avLst/>
            <a:gdLst/>
            <a:ahLst/>
            <a:rect l="l" t="t" r="r" b="b"/>
            <a:pathLst>
              <a:path w="423" h="299">
                <a:moveTo>
                  <a:pt x="8880" y="15751"/>
                </a:moveTo>
                <a:cubicBezTo>
                  <a:pt x="8831" y="15784"/>
                  <a:pt x="8841" y="15789"/>
                  <a:pt x="8806" y="15801"/>
                </a:cubicBezTo>
                <a:cubicBezTo>
                  <a:pt x="8764" y="15787"/>
                  <a:pt x="8776" y="15761"/>
                  <a:pt x="8806" y="15726"/>
                </a:cubicBezTo>
                <a:cubicBezTo>
                  <a:pt x="8828" y="15700"/>
                  <a:pt x="8948" y="15677"/>
                  <a:pt x="8979" y="15701"/>
                </a:cubicBezTo>
                <a:cubicBezTo>
                  <a:pt x="9016" y="15729"/>
                  <a:pt x="9044" y="15830"/>
                  <a:pt x="9029" y="15875"/>
                </a:cubicBezTo>
                <a:cubicBezTo>
                  <a:pt x="9006" y="15943"/>
                  <a:pt x="8969" y="15969"/>
                  <a:pt x="8905" y="15974"/>
                </a:cubicBezTo>
                <a:cubicBezTo>
                  <a:pt x="8880" y="15976"/>
                  <a:pt x="8855" y="15974"/>
                  <a:pt x="8830" y="15974"/>
                </a:cubicBezTo>
              </a:path>
              <a:path w="423" h="299">
                <a:moveTo>
                  <a:pt x="9103" y="15726"/>
                </a:moveTo>
                <a:cubicBezTo>
                  <a:pt x="9120" y="15718"/>
                  <a:pt x="9136" y="15709"/>
                  <a:pt x="9153" y="15701"/>
                </a:cubicBezTo>
                <a:cubicBezTo>
                  <a:pt x="9103" y="15751"/>
                  <a:pt x="9062" y="15778"/>
                  <a:pt x="9054" y="15850"/>
                </a:cubicBezTo>
                <a:cubicBezTo>
                  <a:pt x="9046" y="15919"/>
                  <a:pt x="9047" y="15980"/>
                  <a:pt x="9128" y="15999"/>
                </a:cubicBezTo>
                <a:cubicBezTo>
                  <a:pt x="9170" y="15999"/>
                  <a:pt x="9178" y="15999"/>
                  <a:pt x="9203" y="1599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46640" y="5661000"/>
            <a:ext cx="71280" cy="46080"/>
          </a:xfrm>
          <a:custGeom>
            <a:avLst/>
            <a:gdLst/>
            <a:ahLst/>
            <a:rect l="l" t="t" r="r" b="b"/>
            <a:pathLst>
              <a:path w="199" h="125">
                <a:moveTo>
                  <a:pt x="9699" y="15776"/>
                </a:moveTo>
                <a:cubicBezTo>
                  <a:pt x="9750" y="15754"/>
                  <a:pt x="9761" y="15762"/>
                  <a:pt x="9773" y="15726"/>
                </a:cubicBezTo>
                <a:cubicBezTo>
                  <a:pt x="9715" y="15726"/>
                  <a:pt x="9657" y="15726"/>
                  <a:pt x="9599" y="15726"/>
                </a:cubicBezTo>
              </a:path>
              <a:path w="199" h="125">
                <a:moveTo>
                  <a:pt x="9748" y="15825"/>
                </a:moveTo>
                <a:cubicBezTo>
                  <a:pt x="9756" y="15825"/>
                  <a:pt x="9765" y="15825"/>
                  <a:pt x="9773" y="15825"/>
                </a:cubicBezTo>
                <a:cubicBezTo>
                  <a:pt x="9728" y="15836"/>
                  <a:pt x="9703" y="15850"/>
                  <a:pt x="9649" y="15850"/>
                </a:cubicBezTo>
                <a:cubicBezTo>
                  <a:pt x="9608" y="15850"/>
                  <a:pt x="9600" y="15850"/>
                  <a:pt x="9575" y="1585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97200" y="5589720"/>
            <a:ext cx="598680" cy="260280"/>
          </a:xfrm>
          <a:custGeom>
            <a:avLst/>
            <a:gdLst/>
            <a:ahLst/>
            <a:rect l="l" t="t" r="r" b="b"/>
            <a:pathLst>
              <a:path w="1663" h="720">
                <a:moveTo>
                  <a:pt x="10294" y="15602"/>
                </a:moveTo>
                <a:cubicBezTo>
                  <a:pt x="10314" y="15575"/>
                  <a:pt x="10319" y="15508"/>
                  <a:pt x="10319" y="15553"/>
                </a:cubicBezTo>
                <a:cubicBezTo>
                  <a:pt x="10319" y="15608"/>
                  <a:pt x="10297" y="15646"/>
                  <a:pt x="10294" y="15701"/>
                </a:cubicBezTo>
                <a:cubicBezTo>
                  <a:pt x="10290" y="15766"/>
                  <a:pt x="10249" y="15800"/>
                  <a:pt x="10294" y="15850"/>
                </a:cubicBezTo>
                <a:cubicBezTo>
                  <a:pt x="10334" y="15895"/>
                  <a:pt x="10412" y="15875"/>
                  <a:pt x="10468" y="15875"/>
                </a:cubicBezTo>
                <a:cubicBezTo>
                  <a:pt x="10530" y="15875"/>
                  <a:pt x="10565" y="15885"/>
                  <a:pt x="10616" y="15900"/>
                </a:cubicBezTo>
                <a:cubicBezTo>
                  <a:pt x="10655" y="15912"/>
                  <a:pt x="10680" y="15917"/>
                  <a:pt x="10691" y="15949"/>
                </a:cubicBezTo>
              </a:path>
              <a:path w="1663" h="720">
                <a:moveTo>
                  <a:pt x="10567" y="15801"/>
                </a:moveTo>
                <a:cubicBezTo>
                  <a:pt x="10555" y="15848"/>
                  <a:pt x="10526" y="15896"/>
                  <a:pt x="10517" y="15949"/>
                </a:cubicBezTo>
                <a:cubicBezTo>
                  <a:pt x="10508" y="16003"/>
                  <a:pt x="10517" y="16068"/>
                  <a:pt x="10517" y="16123"/>
                </a:cubicBezTo>
              </a:path>
              <a:path w="1663" h="720">
                <a:moveTo>
                  <a:pt x="11063" y="15677"/>
                </a:moveTo>
                <a:cubicBezTo>
                  <a:pt x="11092" y="15633"/>
                  <a:pt x="11047" y="15632"/>
                  <a:pt x="10988" y="15627"/>
                </a:cubicBezTo>
                <a:cubicBezTo>
                  <a:pt x="10928" y="15622"/>
                  <a:pt x="10882" y="15674"/>
                  <a:pt x="10864" y="15726"/>
                </a:cubicBezTo>
                <a:cubicBezTo>
                  <a:pt x="10848" y="15774"/>
                  <a:pt x="10885" y="15818"/>
                  <a:pt x="10914" y="15850"/>
                </a:cubicBezTo>
                <a:cubicBezTo>
                  <a:pt x="10971" y="15914"/>
                  <a:pt x="11058" y="15908"/>
                  <a:pt x="11088" y="15999"/>
                </a:cubicBezTo>
                <a:cubicBezTo>
                  <a:pt x="11104" y="16048"/>
                  <a:pt x="11090" y="16094"/>
                  <a:pt x="11038" y="16098"/>
                </a:cubicBezTo>
                <a:cubicBezTo>
                  <a:pt x="10974" y="16103"/>
                  <a:pt x="10968" y="16062"/>
                  <a:pt x="10914" y="16049"/>
                </a:cubicBezTo>
                <a:cubicBezTo>
                  <a:pt x="10925" y="16007"/>
                  <a:pt x="10959" y="15938"/>
                  <a:pt x="10988" y="15900"/>
                </a:cubicBezTo>
                <a:cubicBezTo>
                  <a:pt x="11027" y="15850"/>
                  <a:pt x="11076" y="15763"/>
                  <a:pt x="11137" y="15751"/>
                </a:cubicBezTo>
                <a:cubicBezTo>
                  <a:pt x="11179" y="15742"/>
                  <a:pt x="11180" y="15772"/>
                  <a:pt x="11187" y="15801"/>
                </a:cubicBezTo>
              </a:path>
              <a:path w="1663" h="720">
                <a:moveTo>
                  <a:pt x="11385" y="16222"/>
                </a:moveTo>
                <a:lnTo>
                  <a:pt x="11385" y="16222"/>
                </a:lnTo>
                <a:lnTo>
                  <a:pt x="11385" y="16222"/>
                </a:lnTo>
                <a:lnTo>
                  <a:pt x="11385" y="16222"/>
                </a:lnTo>
                <a:lnTo>
                  <a:pt x="11385" y="16222"/>
                </a:lnTo>
                <a:lnTo>
                  <a:pt x="11385" y="16222"/>
                </a:lnTo>
              </a:path>
              <a:path w="1663" h="720">
                <a:moveTo>
                  <a:pt x="11782" y="15726"/>
                </a:moveTo>
                <a:cubicBezTo>
                  <a:pt x="11804" y="15688"/>
                  <a:pt x="11823" y="15664"/>
                  <a:pt x="11832" y="15627"/>
                </a:cubicBezTo>
                <a:cubicBezTo>
                  <a:pt x="11774" y="15641"/>
                  <a:pt x="11755" y="15694"/>
                  <a:pt x="11733" y="15751"/>
                </a:cubicBezTo>
                <a:cubicBezTo>
                  <a:pt x="11691" y="15857"/>
                  <a:pt x="11664" y="15983"/>
                  <a:pt x="11683" y="16098"/>
                </a:cubicBezTo>
                <a:cubicBezTo>
                  <a:pt x="11700" y="16199"/>
                  <a:pt x="11764" y="16242"/>
                  <a:pt x="11857" y="16247"/>
                </a:cubicBezTo>
                <a:cubicBezTo>
                  <a:pt x="11942" y="16252"/>
                  <a:pt x="11931" y="16188"/>
                  <a:pt x="11931" y="16123"/>
                </a:cubicBezTo>
                <a:cubicBezTo>
                  <a:pt x="11931" y="16042"/>
                  <a:pt x="11890" y="15992"/>
                  <a:pt x="11807" y="15974"/>
                </a:cubicBezTo>
                <a:cubicBezTo>
                  <a:pt x="11755" y="15974"/>
                  <a:pt x="11737" y="15975"/>
                  <a:pt x="11708" y="1599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6720" y="5848200"/>
            <a:ext cx="27000" cy="73080"/>
          </a:xfrm>
          <a:custGeom>
            <a:avLst/>
            <a:gdLst/>
            <a:ahLst/>
            <a:rect l="l" t="t" r="r" b="b"/>
            <a:pathLst>
              <a:path w="75" h="200">
                <a:moveTo>
                  <a:pt x="12427" y="16247"/>
                </a:moveTo>
                <a:cubicBezTo>
                  <a:pt x="12419" y="16288"/>
                  <a:pt x="12395" y="16362"/>
                  <a:pt x="12378" y="16396"/>
                </a:cubicBezTo>
                <a:cubicBezTo>
                  <a:pt x="12355" y="16419"/>
                  <a:pt x="12347" y="16423"/>
                  <a:pt x="12353" y="1644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5715000"/>
            <a:ext cx="563760" cy="206280"/>
          </a:xfrm>
          <a:custGeom>
            <a:avLst/>
            <a:gdLst/>
            <a:ahLst/>
            <a:rect l="l" t="t" r="r" b="b"/>
            <a:pathLst>
              <a:path w="1564" h="572">
                <a:moveTo>
                  <a:pt x="12898" y="15875"/>
                </a:moveTo>
                <a:cubicBezTo>
                  <a:pt x="12898" y="16007"/>
                  <a:pt x="12898" y="16140"/>
                  <a:pt x="12898" y="16272"/>
                </a:cubicBezTo>
              </a:path>
              <a:path w="1564" h="572">
                <a:moveTo>
                  <a:pt x="13047" y="15949"/>
                </a:moveTo>
                <a:cubicBezTo>
                  <a:pt x="13081" y="15924"/>
                  <a:pt x="13110" y="15916"/>
                  <a:pt x="13146" y="15900"/>
                </a:cubicBezTo>
                <a:cubicBezTo>
                  <a:pt x="13215" y="15870"/>
                  <a:pt x="13270" y="15875"/>
                  <a:pt x="13345" y="15875"/>
                </a:cubicBezTo>
                <a:cubicBezTo>
                  <a:pt x="13353" y="15875"/>
                  <a:pt x="13362" y="15875"/>
                  <a:pt x="13370" y="15875"/>
                </a:cubicBezTo>
                <a:cubicBezTo>
                  <a:pt x="13370" y="15933"/>
                  <a:pt x="13348" y="15952"/>
                  <a:pt x="13320" y="15999"/>
                </a:cubicBezTo>
                <a:cubicBezTo>
                  <a:pt x="13290" y="16049"/>
                  <a:pt x="13227" y="16067"/>
                  <a:pt x="13221" y="16123"/>
                </a:cubicBezTo>
                <a:cubicBezTo>
                  <a:pt x="13214" y="16190"/>
                  <a:pt x="13303" y="16171"/>
                  <a:pt x="13345" y="16197"/>
                </a:cubicBezTo>
                <a:cubicBezTo>
                  <a:pt x="13377" y="16217"/>
                  <a:pt x="13410" y="16257"/>
                  <a:pt x="13395" y="16297"/>
                </a:cubicBezTo>
                <a:cubicBezTo>
                  <a:pt x="13368" y="16371"/>
                  <a:pt x="13315" y="16380"/>
                  <a:pt x="13246" y="16396"/>
                </a:cubicBezTo>
                <a:cubicBezTo>
                  <a:pt x="13215" y="16403"/>
                  <a:pt x="13178" y="16396"/>
                  <a:pt x="13146" y="16396"/>
                </a:cubicBezTo>
              </a:path>
              <a:path w="1564" h="572">
                <a:moveTo>
                  <a:pt x="13568" y="15974"/>
                </a:moveTo>
                <a:cubicBezTo>
                  <a:pt x="13590" y="15952"/>
                  <a:pt x="13599" y="15947"/>
                  <a:pt x="13593" y="15925"/>
                </a:cubicBezTo>
                <a:cubicBezTo>
                  <a:pt x="13593" y="15986"/>
                  <a:pt x="13571" y="16037"/>
                  <a:pt x="13568" y="16098"/>
                </a:cubicBezTo>
                <a:cubicBezTo>
                  <a:pt x="13565" y="16176"/>
                  <a:pt x="13569" y="16226"/>
                  <a:pt x="13593" y="16297"/>
                </a:cubicBezTo>
              </a:path>
              <a:path w="1564" h="572">
                <a:moveTo>
                  <a:pt x="13816" y="16297"/>
                </a:moveTo>
                <a:cubicBezTo>
                  <a:pt x="13841" y="16297"/>
                  <a:pt x="13849" y="16297"/>
                  <a:pt x="13866" y="16297"/>
                </a:cubicBezTo>
              </a:path>
              <a:path w="1564" h="572">
                <a:moveTo>
                  <a:pt x="14039" y="15925"/>
                </a:moveTo>
                <a:cubicBezTo>
                  <a:pt x="14077" y="15867"/>
                  <a:pt x="14054" y="15875"/>
                  <a:pt x="14114" y="15875"/>
                </a:cubicBezTo>
                <a:cubicBezTo>
                  <a:pt x="14102" y="15933"/>
                  <a:pt x="14074" y="15991"/>
                  <a:pt x="14064" y="16049"/>
                </a:cubicBezTo>
                <a:cubicBezTo>
                  <a:pt x="14057" y="16090"/>
                  <a:pt x="14017" y="16183"/>
                  <a:pt x="14039" y="16222"/>
                </a:cubicBezTo>
                <a:cubicBezTo>
                  <a:pt x="14064" y="16266"/>
                  <a:pt x="14145" y="16247"/>
                  <a:pt x="14188" y="16247"/>
                </a:cubicBezTo>
                <a:cubicBezTo>
                  <a:pt x="14279" y="16247"/>
                  <a:pt x="14370" y="16247"/>
                  <a:pt x="14461" y="16247"/>
                </a:cubicBezTo>
              </a:path>
              <a:path w="1564" h="572">
                <a:moveTo>
                  <a:pt x="14288" y="16073"/>
                </a:moveTo>
                <a:cubicBezTo>
                  <a:pt x="14265" y="16135"/>
                  <a:pt x="14242" y="16184"/>
                  <a:pt x="14238" y="16247"/>
                </a:cubicBezTo>
                <a:cubicBezTo>
                  <a:pt x="14234" y="16320"/>
                  <a:pt x="14228" y="16388"/>
                  <a:pt x="14263" y="1644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8640" y="5938920"/>
            <a:ext cx="250560" cy="115920"/>
          </a:xfrm>
          <a:custGeom>
            <a:avLst/>
            <a:gdLst/>
            <a:ahLst/>
            <a:rect l="l" t="t" r="r" b="b"/>
            <a:pathLst>
              <a:path w="696" h="324">
                <a:moveTo>
                  <a:pt x="19149" y="16545"/>
                </a:moveTo>
                <a:cubicBezTo>
                  <a:pt x="19190" y="16535"/>
                  <a:pt x="19189" y="16536"/>
                  <a:pt x="19199" y="16495"/>
                </a:cubicBezTo>
                <a:cubicBezTo>
                  <a:pt x="19138" y="16510"/>
                  <a:pt x="19115" y="16546"/>
                  <a:pt x="19075" y="16594"/>
                </a:cubicBezTo>
                <a:cubicBezTo>
                  <a:pt x="19025" y="16653"/>
                  <a:pt x="19006" y="16696"/>
                  <a:pt x="19050" y="16768"/>
                </a:cubicBezTo>
                <a:cubicBezTo>
                  <a:pt x="19079" y="16816"/>
                  <a:pt x="19176" y="16793"/>
                  <a:pt x="19224" y="16793"/>
                </a:cubicBezTo>
              </a:path>
              <a:path w="696" h="324">
                <a:moveTo>
                  <a:pt x="19348" y="16644"/>
                </a:moveTo>
                <a:cubicBezTo>
                  <a:pt x="19348" y="16636"/>
                  <a:pt x="19348" y="16627"/>
                  <a:pt x="19348" y="16619"/>
                </a:cubicBezTo>
                <a:cubicBezTo>
                  <a:pt x="19382" y="16628"/>
                  <a:pt x="19452" y="16636"/>
                  <a:pt x="19472" y="16669"/>
                </a:cubicBezTo>
                <a:cubicBezTo>
                  <a:pt x="19488" y="16695"/>
                  <a:pt x="19473" y="16780"/>
                  <a:pt x="19447" y="16793"/>
                </a:cubicBezTo>
                <a:cubicBezTo>
                  <a:pt x="19422" y="16793"/>
                  <a:pt x="19414" y="16793"/>
                  <a:pt x="19397" y="16793"/>
                </a:cubicBezTo>
              </a:path>
              <a:path w="696" h="324">
                <a:moveTo>
                  <a:pt x="19571" y="16669"/>
                </a:moveTo>
                <a:cubicBezTo>
                  <a:pt x="19646" y="16651"/>
                  <a:pt x="19680" y="16665"/>
                  <a:pt x="19695" y="16619"/>
                </a:cubicBezTo>
                <a:cubicBezTo>
                  <a:pt x="19643" y="16619"/>
                  <a:pt x="19645" y="16617"/>
                  <a:pt x="19645" y="16669"/>
                </a:cubicBezTo>
                <a:cubicBezTo>
                  <a:pt x="19645" y="16736"/>
                  <a:pt x="19698" y="16743"/>
                  <a:pt x="19720" y="16793"/>
                </a:cubicBezTo>
                <a:cubicBezTo>
                  <a:pt x="19720" y="16801"/>
                  <a:pt x="19720" y="16810"/>
                  <a:pt x="19720" y="16818"/>
                </a:cubicBezTo>
                <a:cubicBezTo>
                  <a:pt x="19679" y="16818"/>
                  <a:pt x="19637" y="16818"/>
                  <a:pt x="19596" y="1681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24840" y="5902200"/>
            <a:ext cx="106200" cy="1620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20191" y="16470"/>
                </a:moveTo>
                <a:cubicBezTo>
                  <a:pt x="20201" y="16430"/>
                  <a:pt x="20201" y="16431"/>
                  <a:pt x="20241" y="16421"/>
                </a:cubicBezTo>
                <a:cubicBezTo>
                  <a:pt x="20272" y="16463"/>
                  <a:pt x="20265" y="16490"/>
                  <a:pt x="20265" y="16545"/>
                </a:cubicBezTo>
                <a:cubicBezTo>
                  <a:pt x="20265" y="16607"/>
                  <a:pt x="20245" y="16619"/>
                  <a:pt x="20191" y="16619"/>
                </a:cubicBezTo>
                <a:cubicBezTo>
                  <a:pt x="20146" y="16619"/>
                  <a:pt x="20119" y="16612"/>
                  <a:pt x="20092" y="16570"/>
                </a:cubicBezTo>
                <a:cubicBezTo>
                  <a:pt x="20085" y="16559"/>
                  <a:pt x="20044" y="16466"/>
                  <a:pt x="20067" y="16446"/>
                </a:cubicBezTo>
                <a:cubicBezTo>
                  <a:pt x="20103" y="16414"/>
                  <a:pt x="20191" y="16368"/>
                  <a:pt x="20241" y="16396"/>
                </a:cubicBezTo>
                <a:cubicBezTo>
                  <a:pt x="20313" y="16436"/>
                  <a:pt x="20355" y="16572"/>
                  <a:pt x="20365" y="16644"/>
                </a:cubicBezTo>
                <a:cubicBezTo>
                  <a:pt x="20372" y="16692"/>
                  <a:pt x="20349" y="16821"/>
                  <a:pt x="20290" y="16842"/>
                </a:cubicBezTo>
                <a:cubicBezTo>
                  <a:pt x="20211" y="16870"/>
                  <a:pt x="20152" y="16829"/>
                  <a:pt x="20117" y="16768"/>
                </a:cubicBezTo>
                <a:cubicBezTo>
                  <a:pt x="20109" y="16751"/>
                  <a:pt x="20100" y="16735"/>
                  <a:pt x="20092" y="1671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66040" y="5991120"/>
            <a:ext cx="79200" cy="6372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20910" y="16644"/>
                </a:moveTo>
                <a:cubicBezTo>
                  <a:pt x="20918" y="16644"/>
                  <a:pt x="20927" y="16644"/>
                  <a:pt x="20935" y="16644"/>
                </a:cubicBezTo>
                <a:cubicBezTo>
                  <a:pt x="20869" y="16644"/>
                  <a:pt x="20803" y="16644"/>
                  <a:pt x="20737" y="16644"/>
                </a:cubicBezTo>
              </a:path>
              <a:path w="224" h="175">
                <a:moveTo>
                  <a:pt x="20910" y="16768"/>
                </a:moveTo>
                <a:cubicBezTo>
                  <a:pt x="20951" y="16788"/>
                  <a:pt x="20967" y="16786"/>
                  <a:pt x="20960" y="16818"/>
                </a:cubicBezTo>
                <a:cubicBezTo>
                  <a:pt x="20900" y="16818"/>
                  <a:pt x="20861" y="16808"/>
                  <a:pt x="20811" y="16793"/>
                </a:cubicBezTo>
                <a:cubicBezTo>
                  <a:pt x="20786" y="16793"/>
                  <a:pt x="20778" y="16793"/>
                  <a:pt x="20762" y="1679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78800" y="5983200"/>
            <a:ext cx="144360" cy="115920"/>
          </a:xfrm>
          <a:custGeom>
            <a:avLst/>
            <a:gdLst/>
            <a:ahLst/>
            <a:rect l="l" t="t" r="r" b="b"/>
            <a:pathLst>
              <a:path w="398" h="324">
                <a:moveTo>
                  <a:pt x="21357" y="16818"/>
                </a:moveTo>
                <a:cubicBezTo>
                  <a:pt x="21338" y="16762"/>
                  <a:pt x="21335" y="16810"/>
                  <a:pt x="21357" y="16743"/>
                </a:cubicBezTo>
                <a:cubicBezTo>
                  <a:pt x="21367" y="16712"/>
                  <a:pt x="21394" y="16661"/>
                  <a:pt x="21431" y="16644"/>
                </a:cubicBezTo>
                <a:cubicBezTo>
                  <a:pt x="21472" y="16626"/>
                  <a:pt x="21504" y="16619"/>
                  <a:pt x="21555" y="16619"/>
                </a:cubicBezTo>
                <a:cubicBezTo>
                  <a:pt x="21657" y="16619"/>
                  <a:pt x="21646" y="16619"/>
                  <a:pt x="21704" y="16694"/>
                </a:cubicBezTo>
                <a:cubicBezTo>
                  <a:pt x="21731" y="16730"/>
                  <a:pt x="21748" y="16818"/>
                  <a:pt x="21729" y="16867"/>
                </a:cubicBezTo>
                <a:cubicBezTo>
                  <a:pt x="21707" y="16924"/>
                  <a:pt x="21630" y="16939"/>
                  <a:pt x="21580" y="16942"/>
                </a:cubicBezTo>
                <a:cubicBezTo>
                  <a:pt x="21499" y="16946"/>
                  <a:pt x="21444" y="16907"/>
                  <a:pt x="21406" y="16842"/>
                </a:cubicBezTo>
                <a:cubicBezTo>
                  <a:pt x="21373" y="16786"/>
                  <a:pt x="21337" y="16745"/>
                  <a:pt x="21382" y="16694"/>
                </a:cubicBezTo>
                <a:cubicBezTo>
                  <a:pt x="21406" y="16669"/>
                  <a:pt x="21414" y="16660"/>
                  <a:pt x="21431" y="1664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0040" y="5857920"/>
            <a:ext cx="438120" cy="169920"/>
          </a:xfrm>
          <a:custGeom>
            <a:avLst/>
            <a:gdLst/>
            <a:ahLst/>
            <a:rect l="l" t="t" r="r" b="b"/>
            <a:pathLst>
              <a:path w="1216" h="472">
                <a:moveTo>
                  <a:pt x="8086" y="16297"/>
                </a:moveTo>
                <a:cubicBezTo>
                  <a:pt x="8131" y="16297"/>
                  <a:pt x="8144" y="16300"/>
                  <a:pt x="8161" y="16272"/>
                </a:cubicBezTo>
                <a:cubicBezTo>
                  <a:pt x="8102" y="16272"/>
                  <a:pt x="8065" y="16295"/>
                  <a:pt x="8012" y="16321"/>
                </a:cubicBezTo>
                <a:cubicBezTo>
                  <a:pt x="7964" y="16345"/>
                  <a:pt x="7905" y="16380"/>
                  <a:pt x="7938" y="16446"/>
                </a:cubicBezTo>
                <a:cubicBezTo>
                  <a:pt x="7961" y="16494"/>
                  <a:pt x="8024" y="16563"/>
                  <a:pt x="8062" y="16594"/>
                </a:cubicBezTo>
                <a:cubicBezTo>
                  <a:pt x="8073" y="16603"/>
                  <a:pt x="8154" y="16656"/>
                  <a:pt x="8111" y="16694"/>
                </a:cubicBezTo>
                <a:cubicBezTo>
                  <a:pt x="8067" y="16734"/>
                  <a:pt x="7991" y="16718"/>
                  <a:pt x="7938" y="16718"/>
                </a:cubicBezTo>
                <a:cubicBezTo>
                  <a:pt x="7913" y="16718"/>
                  <a:pt x="7905" y="16718"/>
                  <a:pt x="7888" y="16718"/>
                </a:cubicBezTo>
              </a:path>
              <a:path w="1216" h="472">
                <a:moveTo>
                  <a:pt x="8334" y="16644"/>
                </a:moveTo>
                <a:cubicBezTo>
                  <a:pt x="8303" y="16633"/>
                  <a:pt x="8295" y="16625"/>
                  <a:pt x="8285" y="16594"/>
                </a:cubicBezTo>
                <a:cubicBezTo>
                  <a:pt x="8342" y="16538"/>
                  <a:pt x="8357" y="16536"/>
                  <a:pt x="8434" y="16570"/>
                </a:cubicBezTo>
                <a:cubicBezTo>
                  <a:pt x="8499" y="16598"/>
                  <a:pt x="8547" y="16680"/>
                  <a:pt x="8483" y="16743"/>
                </a:cubicBezTo>
                <a:cubicBezTo>
                  <a:pt x="8453" y="16773"/>
                  <a:pt x="8310" y="16738"/>
                  <a:pt x="8285" y="16718"/>
                </a:cubicBezTo>
                <a:cubicBezTo>
                  <a:pt x="8277" y="16710"/>
                  <a:pt x="8268" y="16702"/>
                  <a:pt x="8260" y="16694"/>
                </a:cubicBezTo>
              </a:path>
              <a:path w="1216" h="472">
                <a:moveTo>
                  <a:pt x="8830" y="16520"/>
                </a:moveTo>
                <a:cubicBezTo>
                  <a:pt x="8790" y="16500"/>
                  <a:pt x="8774" y="16501"/>
                  <a:pt x="8781" y="16470"/>
                </a:cubicBezTo>
                <a:cubicBezTo>
                  <a:pt x="8854" y="16470"/>
                  <a:pt x="8883" y="16479"/>
                  <a:pt x="8930" y="16545"/>
                </a:cubicBezTo>
                <a:cubicBezTo>
                  <a:pt x="8983" y="16621"/>
                  <a:pt x="8958" y="16652"/>
                  <a:pt x="8905" y="16694"/>
                </a:cubicBezTo>
                <a:cubicBezTo>
                  <a:pt x="8861" y="16730"/>
                  <a:pt x="8813" y="16718"/>
                  <a:pt x="8756" y="16718"/>
                </a:cubicBezTo>
                <a:cubicBezTo>
                  <a:pt x="8739" y="16718"/>
                  <a:pt x="8723" y="16718"/>
                  <a:pt x="8706" y="16718"/>
                </a:cubicBezTo>
              </a:path>
              <a:path w="1216" h="472">
                <a:moveTo>
                  <a:pt x="9054" y="16570"/>
                </a:moveTo>
                <a:cubicBezTo>
                  <a:pt x="9092" y="16531"/>
                  <a:pt x="9109" y="16529"/>
                  <a:pt x="9103" y="16495"/>
                </a:cubicBezTo>
                <a:cubicBezTo>
                  <a:pt x="9083" y="16500"/>
                  <a:pt x="8988" y="16551"/>
                  <a:pt x="8979" y="16570"/>
                </a:cubicBezTo>
                <a:cubicBezTo>
                  <a:pt x="8958" y="16611"/>
                  <a:pt x="8983" y="16683"/>
                  <a:pt x="9004" y="16694"/>
                </a:cubicBezTo>
                <a:cubicBezTo>
                  <a:pt x="9021" y="16702"/>
                  <a:pt x="9037" y="16710"/>
                  <a:pt x="9054" y="1671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5892840"/>
            <a:ext cx="590400" cy="260280"/>
          </a:xfrm>
          <a:custGeom>
            <a:avLst/>
            <a:gdLst/>
            <a:ahLst/>
            <a:rect l="l" t="t" r="r" b="b"/>
            <a:pathLst>
              <a:path w="1638" h="720">
                <a:moveTo>
                  <a:pt x="9575" y="16570"/>
                </a:moveTo>
                <a:cubicBezTo>
                  <a:pt x="9644" y="16540"/>
                  <a:pt x="9671" y="16544"/>
                  <a:pt x="9575" y="16520"/>
                </a:cubicBezTo>
                <a:cubicBezTo>
                  <a:pt x="9554" y="16515"/>
                  <a:pt x="9522" y="16520"/>
                  <a:pt x="9500" y="16520"/>
                </a:cubicBezTo>
              </a:path>
              <a:path w="1638" h="720">
                <a:moveTo>
                  <a:pt x="9525" y="16644"/>
                </a:moveTo>
                <a:cubicBezTo>
                  <a:pt x="9548" y="16667"/>
                  <a:pt x="9552" y="16675"/>
                  <a:pt x="9575" y="16669"/>
                </a:cubicBezTo>
                <a:cubicBezTo>
                  <a:pt x="9550" y="16669"/>
                  <a:pt x="9525" y="16669"/>
                  <a:pt x="9500" y="16669"/>
                </a:cubicBezTo>
              </a:path>
              <a:path w="1638" h="720">
                <a:moveTo>
                  <a:pt x="9922" y="16495"/>
                </a:moveTo>
                <a:cubicBezTo>
                  <a:pt x="9876" y="16457"/>
                  <a:pt x="9859" y="16456"/>
                  <a:pt x="9847" y="16421"/>
                </a:cubicBezTo>
                <a:cubicBezTo>
                  <a:pt x="9911" y="16412"/>
                  <a:pt x="9950" y="16396"/>
                  <a:pt x="10021" y="16396"/>
                </a:cubicBezTo>
                <a:cubicBezTo>
                  <a:pt x="10096" y="16396"/>
                  <a:pt x="10114" y="16425"/>
                  <a:pt x="10120" y="16495"/>
                </a:cubicBezTo>
                <a:cubicBezTo>
                  <a:pt x="10125" y="16562"/>
                  <a:pt x="10063" y="16602"/>
                  <a:pt x="10021" y="16644"/>
                </a:cubicBezTo>
                <a:cubicBezTo>
                  <a:pt x="10009" y="16656"/>
                  <a:pt x="9938" y="16717"/>
                  <a:pt x="9971" y="16743"/>
                </a:cubicBezTo>
                <a:cubicBezTo>
                  <a:pt x="10004" y="16769"/>
                  <a:pt x="10077" y="16768"/>
                  <a:pt x="10120" y="16768"/>
                </a:cubicBezTo>
                <a:cubicBezTo>
                  <a:pt x="10153" y="16768"/>
                  <a:pt x="10187" y="16768"/>
                  <a:pt x="10220" y="16768"/>
                </a:cubicBezTo>
              </a:path>
              <a:path w="1638" h="720">
                <a:moveTo>
                  <a:pt x="10344" y="16470"/>
                </a:moveTo>
                <a:cubicBezTo>
                  <a:pt x="10376" y="16427"/>
                  <a:pt x="10362" y="16421"/>
                  <a:pt x="10418" y="16421"/>
                </a:cubicBezTo>
                <a:cubicBezTo>
                  <a:pt x="10459" y="16421"/>
                  <a:pt x="10545" y="16403"/>
                  <a:pt x="10567" y="16446"/>
                </a:cubicBezTo>
                <a:cubicBezTo>
                  <a:pt x="10591" y="16493"/>
                  <a:pt x="10558" y="16603"/>
                  <a:pt x="10542" y="16644"/>
                </a:cubicBezTo>
                <a:cubicBezTo>
                  <a:pt x="10523" y="16694"/>
                  <a:pt x="10497" y="16745"/>
                  <a:pt x="10492" y="16793"/>
                </a:cubicBezTo>
                <a:cubicBezTo>
                  <a:pt x="10492" y="16818"/>
                  <a:pt x="10492" y="16826"/>
                  <a:pt x="10492" y="16842"/>
                </a:cubicBezTo>
              </a:path>
              <a:path w="1638" h="720">
                <a:moveTo>
                  <a:pt x="10716" y="16718"/>
                </a:moveTo>
                <a:cubicBezTo>
                  <a:pt x="10716" y="16658"/>
                  <a:pt x="10705" y="16597"/>
                  <a:pt x="10740" y="16545"/>
                </a:cubicBezTo>
                <a:cubicBezTo>
                  <a:pt x="10751" y="16528"/>
                  <a:pt x="10813" y="16465"/>
                  <a:pt x="10840" y="16495"/>
                </a:cubicBezTo>
                <a:cubicBezTo>
                  <a:pt x="10877" y="16537"/>
                  <a:pt x="10911" y="16639"/>
                  <a:pt x="10889" y="16694"/>
                </a:cubicBezTo>
                <a:cubicBezTo>
                  <a:pt x="10877" y="16726"/>
                  <a:pt x="10820" y="16766"/>
                  <a:pt x="10790" y="16768"/>
                </a:cubicBezTo>
                <a:cubicBezTo>
                  <a:pt x="10749" y="16771"/>
                  <a:pt x="10707" y="16768"/>
                  <a:pt x="10666" y="16768"/>
                </a:cubicBezTo>
              </a:path>
              <a:path w="1638" h="720">
                <a:moveTo>
                  <a:pt x="10964" y="16892"/>
                </a:moveTo>
                <a:cubicBezTo>
                  <a:pt x="11004" y="16940"/>
                  <a:pt x="11041" y="16994"/>
                  <a:pt x="11013" y="17066"/>
                </a:cubicBezTo>
                <a:cubicBezTo>
                  <a:pt x="11005" y="17074"/>
                  <a:pt x="10996" y="17082"/>
                  <a:pt x="10988" y="17090"/>
                </a:cubicBezTo>
              </a:path>
              <a:path w="1638" h="720">
                <a:moveTo>
                  <a:pt x="11013" y="16396"/>
                </a:moveTo>
                <a:cubicBezTo>
                  <a:pt x="11013" y="16437"/>
                  <a:pt x="11012" y="16377"/>
                  <a:pt x="11063" y="16371"/>
                </a:cubicBezTo>
                <a:cubicBezTo>
                  <a:pt x="11109" y="16366"/>
                  <a:pt x="11132" y="16374"/>
                  <a:pt x="11137" y="16421"/>
                </a:cubicBezTo>
                <a:cubicBezTo>
                  <a:pt x="11143" y="16473"/>
                  <a:pt x="11122" y="16476"/>
                  <a:pt x="11112" y="16495"/>
                </a:cubicBezTo>
                <a:cubicBezTo>
                  <a:pt x="11095" y="16530"/>
                  <a:pt x="11087" y="16520"/>
                  <a:pt x="11038" y="16520"/>
                </a:cubicBezTo>
                <a:cubicBezTo>
                  <a:pt x="11006" y="16520"/>
                  <a:pt x="10972" y="16512"/>
                  <a:pt x="10964" y="16495"/>
                </a:cubicBezTo>
                <a:cubicBezTo>
                  <a:pt x="10957" y="16480"/>
                  <a:pt x="10964" y="16438"/>
                  <a:pt x="10964" y="1642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25960" y="5991120"/>
            <a:ext cx="588960" cy="287280"/>
          </a:xfrm>
          <a:custGeom>
            <a:avLst/>
            <a:gdLst/>
            <a:ahLst/>
            <a:rect l="l" t="t" r="r" b="b"/>
            <a:pathLst>
              <a:path w="1638" h="795">
                <a:moveTo>
                  <a:pt x="11485" y="16694"/>
                </a:moveTo>
                <a:cubicBezTo>
                  <a:pt x="11501" y="16677"/>
                  <a:pt x="11518" y="16661"/>
                  <a:pt x="11534" y="16644"/>
                </a:cubicBezTo>
                <a:cubicBezTo>
                  <a:pt x="11525" y="16689"/>
                  <a:pt x="11511" y="16753"/>
                  <a:pt x="11485" y="16793"/>
                </a:cubicBezTo>
                <a:cubicBezTo>
                  <a:pt x="11464" y="16825"/>
                  <a:pt x="11432" y="16890"/>
                  <a:pt x="11485" y="16917"/>
                </a:cubicBezTo>
                <a:cubicBezTo>
                  <a:pt x="11529" y="16940"/>
                  <a:pt x="11582" y="16942"/>
                  <a:pt x="11633" y="16942"/>
                </a:cubicBezTo>
                <a:cubicBezTo>
                  <a:pt x="11694" y="16942"/>
                  <a:pt x="11730" y="16975"/>
                  <a:pt x="11782" y="16991"/>
                </a:cubicBezTo>
                <a:cubicBezTo>
                  <a:pt x="11790" y="16991"/>
                  <a:pt x="11799" y="16991"/>
                  <a:pt x="11807" y="16991"/>
                </a:cubicBezTo>
              </a:path>
              <a:path w="1638" h="795">
                <a:moveTo>
                  <a:pt x="11733" y="16917"/>
                </a:moveTo>
                <a:cubicBezTo>
                  <a:pt x="11706" y="16881"/>
                  <a:pt x="11716" y="16878"/>
                  <a:pt x="11683" y="16867"/>
                </a:cubicBezTo>
                <a:cubicBezTo>
                  <a:pt x="11653" y="16917"/>
                  <a:pt x="11658" y="16954"/>
                  <a:pt x="11658" y="17016"/>
                </a:cubicBezTo>
                <a:cubicBezTo>
                  <a:pt x="11658" y="17033"/>
                  <a:pt x="11658" y="17049"/>
                  <a:pt x="11658" y="17066"/>
                </a:cubicBezTo>
              </a:path>
              <a:path w="1638" h="795">
                <a:moveTo>
                  <a:pt x="12154" y="16867"/>
                </a:moveTo>
                <a:cubicBezTo>
                  <a:pt x="12179" y="16867"/>
                  <a:pt x="12187" y="16867"/>
                  <a:pt x="12204" y="16867"/>
                </a:cubicBezTo>
                <a:cubicBezTo>
                  <a:pt x="12160" y="16834"/>
                  <a:pt x="12133" y="16831"/>
                  <a:pt x="12080" y="16867"/>
                </a:cubicBezTo>
                <a:cubicBezTo>
                  <a:pt x="12048" y="16888"/>
                  <a:pt x="12036" y="16894"/>
                  <a:pt x="12005" y="16917"/>
                </a:cubicBezTo>
                <a:cubicBezTo>
                  <a:pt x="12016" y="16960"/>
                  <a:pt x="12046" y="16982"/>
                  <a:pt x="12080" y="17016"/>
                </a:cubicBezTo>
                <a:cubicBezTo>
                  <a:pt x="12111" y="17047"/>
                  <a:pt x="12149" y="17072"/>
                  <a:pt x="12154" y="17115"/>
                </a:cubicBezTo>
                <a:cubicBezTo>
                  <a:pt x="12154" y="17123"/>
                  <a:pt x="12154" y="17132"/>
                  <a:pt x="12154" y="17140"/>
                </a:cubicBezTo>
                <a:cubicBezTo>
                  <a:pt x="12104" y="17140"/>
                  <a:pt x="12096" y="17129"/>
                  <a:pt x="12055" y="17115"/>
                </a:cubicBezTo>
                <a:cubicBezTo>
                  <a:pt x="12033" y="17108"/>
                  <a:pt x="12010" y="17077"/>
                  <a:pt x="12030" y="17041"/>
                </a:cubicBezTo>
                <a:cubicBezTo>
                  <a:pt x="12060" y="16987"/>
                  <a:pt x="12137" y="16959"/>
                  <a:pt x="12179" y="16942"/>
                </a:cubicBezTo>
                <a:cubicBezTo>
                  <a:pt x="12240" y="16917"/>
                  <a:pt x="12238" y="16917"/>
                  <a:pt x="12303" y="16917"/>
                </a:cubicBezTo>
              </a:path>
              <a:path w="1638" h="795">
                <a:moveTo>
                  <a:pt x="12427" y="17190"/>
                </a:moveTo>
                <a:cubicBezTo>
                  <a:pt x="12427" y="17182"/>
                  <a:pt x="12427" y="17173"/>
                  <a:pt x="12427" y="17165"/>
                </a:cubicBezTo>
              </a:path>
              <a:path w="1638" h="795">
                <a:moveTo>
                  <a:pt x="12849" y="16842"/>
                </a:moveTo>
                <a:cubicBezTo>
                  <a:pt x="12908" y="16786"/>
                  <a:pt x="12810" y="16873"/>
                  <a:pt x="12799" y="16892"/>
                </a:cubicBezTo>
                <a:cubicBezTo>
                  <a:pt x="12752" y="16975"/>
                  <a:pt x="12705" y="17014"/>
                  <a:pt x="12700" y="17115"/>
                </a:cubicBezTo>
                <a:cubicBezTo>
                  <a:pt x="12696" y="17188"/>
                  <a:pt x="12723" y="17234"/>
                  <a:pt x="12799" y="17239"/>
                </a:cubicBezTo>
                <a:cubicBezTo>
                  <a:pt x="12816" y="17239"/>
                  <a:pt x="12832" y="17239"/>
                  <a:pt x="12849" y="17239"/>
                </a:cubicBezTo>
                <a:cubicBezTo>
                  <a:pt x="12849" y="17196"/>
                  <a:pt x="12870" y="17113"/>
                  <a:pt x="12824" y="17090"/>
                </a:cubicBezTo>
                <a:cubicBezTo>
                  <a:pt x="12809" y="17083"/>
                  <a:pt x="12767" y="17090"/>
                  <a:pt x="12750" y="17090"/>
                </a:cubicBezTo>
              </a:path>
              <a:path w="1638" h="795">
                <a:moveTo>
                  <a:pt x="13072" y="17239"/>
                </a:moveTo>
                <a:cubicBezTo>
                  <a:pt x="13110" y="17327"/>
                  <a:pt x="13091" y="17295"/>
                  <a:pt x="13047" y="17363"/>
                </a:cubicBezTo>
                <a:cubicBezTo>
                  <a:pt x="13025" y="17407"/>
                  <a:pt x="13022" y="17418"/>
                  <a:pt x="12998" y="17438"/>
                </a:cubicBezTo>
              </a:path>
              <a:path w="1638" h="795">
                <a:moveTo>
                  <a:pt x="12973" y="16694"/>
                </a:moveTo>
                <a:cubicBezTo>
                  <a:pt x="12985" y="16645"/>
                  <a:pt x="12997" y="16644"/>
                  <a:pt x="13047" y="16644"/>
                </a:cubicBezTo>
                <a:cubicBezTo>
                  <a:pt x="13083" y="16644"/>
                  <a:pt x="13094" y="16704"/>
                  <a:pt x="13097" y="16743"/>
                </a:cubicBezTo>
                <a:cubicBezTo>
                  <a:pt x="13102" y="16812"/>
                  <a:pt x="13081" y="16818"/>
                  <a:pt x="13022" y="16818"/>
                </a:cubicBezTo>
                <a:cubicBezTo>
                  <a:pt x="12979" y="16818"/>
                  <a:pt x="12957" y="16753"/>
                  <a:pt x="12948" y="1671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48120" y="6089760"/>
            <a:ext cx="625680" cy="223560"/>
          </a:xfrm>
          <a:custGeom>
            <a:avLst/>
            <a:gdLst/>
            <a:ahLst/>
            <a:rect l="l" t="t" r="r" b="b"/>
            <a:pathLst>
              <a:path w="1737" h="621">
                <a:moveTo>
                  <a:pt x="13494" y="16966"/>
                </a:moveTo>
                <a:cubicBezTo>
                  <a:pt x="13494" y="16942"/>
                  <a:pt x="13494" y="16934"/>
                  <a:pt x="13519" y="16942"/>
                </a:cubicBezTo>
                <a:cubicBezTo>
                  <a:pt x="13506" y="16993"/>
                  <a:pt x="13478" y="17029"/>
                  <a:pt x="13469" y="17090"/>
                </a:cubicBezTo>
                <a:cubicBezTo>
                  <a:pt x="13461" y="17145"/>
                  <a:pt x="13469" y="17208"/>
                  <a:pt x="13469" y="17264"/>
                </a:cubicBezTo>
              </a:path>
              <a:path w="1737" h="621">
                <a:moveTo>
                  <a:pt x="13667" y="16991"/>
                </a:moveTo>
                <a:cubicBezTo>
                  <a:pt x="13675" y="16943"/>
                  <a:pt x="13682" y="16921"/>
                  <a:pt x="13742" y="16917"/>
                </a:cubicBezTo>
                <a:cubicBezTo>
                  <a:pt x="13802" y="16913"/>
                  <a:pt x="13863" y="16908"/>
                  <a:pt x="13915" y="16942"/>
                </a:cubicBezTo>
                <a:cubicBezTo>
                  <a:pt x="13960" y="16971"/>
                  <a:pt x="13942" y="17010"/>
                  <a:pt x="13915" y="17041"/>
                </a:cubicBezTo>
                <a:cubicBezTo>
                  <a:pt x="13883" y="17078"/>
                  <a:pt x="13848" y="17093"/>
                  <a:pt x="13816" y="17115"/>
                </a:cubicBezTo>
                <a:cubicBezTo>
                  <a:pt x="13808" y="17123"/>
                  <a:pt x="13799" y="17132"/>
                  <a:pt x="13791" y="17140"/>
                </a:cubicBezTo>
                <a:cubicBezTo>
                  <a:pt x="13806" y="17201"/>
                  <a:pt x="13842" y="17202"/>
                  <a:pt x="13891" y="17239"/>
                </a:cubicBezTo>
                <a:cubicBezTo>
                  <a:pt x="13926" y="17265"/>
                  <a:pt x="13915" y="17299"/>
                  <a:pt x="13915" y="17338"/>
                </a:cubicBezTo>
                <a:cubicBezTo>
                  <a:pt x="13915" y="17346"/>
                  <a:pt x="13915" y="17355"/>
                  <a:pt x="13915" y="17363"/>
                </a:cubicBezTo>
                <a:cubicBezTo>
                  <a:pt x="13850" y="17363"/>
                  <a:pt x="13826" y="17353"/>
                  <a:pt x="13767" y="17338"/>
                </a:cubicBezTo>
                <a:cubicBezTo>
                  <a:pt x="13739" y="17338"/>
                  <a:pt x="13728" y="17336"/>
                  <a:pt x="13717" y="17314"/>
                </a:cubicBezTo>
              </a:path>
              <a:path w="1737" h="621">
                <a:moveTo>
                  <a:pt x="14139" y="17090"/>
                </a:moveTo>
                <a:cubicBezTo>
                  <a:pt x="14179" y="17070"/>
                  <a:pt x="14186" y="17062"/>
                  <a:pt x="14213" y="17066"/>
                </a:cubicBezTo>
                <a:cubicBezTo>
                  <a:pt x="14213" y="17121"/>
                  <a:pt x="14191" y="17159"/>
                  <a:pt x="14188" y="17214"/>
                </a:cubicBezTo>
                <a:cubicBezTo>
                  <a:pt x="14184" y="17280"/>
                  <a:pt x="14188" y="17347"/>
                  <a:pt x="14188" y="17413"/>
                </a:cubicBezTo>
              </a:path>
              <a:path w="1737" h="621">
                <a:moveTo>
                  <a:pt x="14436" y="17438"/>
                </a:moveTo>
                <a:cubicBezTo>
                  <a:pt x="14436" y="17446"/>
                  <a:pt x="14436" y="17454"/>
                  <a:pt x="14436" y="17462"/>
                </a:cubicBezTo>
              </a:path>
              <a:path w="1737" h="621">
                <a:moveTo>
                  <a:pt x="14610" y="17140"/>
                </a:moveTo>
                <a:cubicBezTo>
                  <a:pt x="14629" y="17083"/>
                  <a:pt x="14638" y="17040"/>
                  <a:pt x="14635" y="17090"/>
                </a:cubicBezTo>
                <a:cubicBezTo>
                  <a:pt x="14625" y="17140"/>
                  <a:pt x="14601" y="17194"/>
                  <a:pt x="14585" y="17239"/>
                </a:cubicBezTo>
                <a:cubicBezTo>
                  <a:pt x="14571" y="17278"/>
                  <a:pt x="14527" y="17359"/>
                  <a:pt x="14585" y="17388"/>
                </a:cubicBezTo>
                <a:cubicBezTo>
                  <a:pt x="14622" y="17406"/>
                  <a:pt x="14692" y="17396"/>
                  <a:pt x="14734" y="17413"/>
                </a:cubicBezTo>
                <a:cubicBezTo>
                  <a:pt x="14796" y="17438"/>
                  <a:pt x="14816" y="17438"/>
                  <a:pt x="14883" y="17438"/>
                </a:cubicBezTo>
                <a:cubicBezTo>
                  <a:pt x="14891" y="17438"/>
                  <a:pt x="14900" y="17438"/>
                  <a:pt x="14908" y="17438"/>
                </a:cubicBezTo>
              </a:path>
              <a:path w="1737" h="621">
                <a:moveTo>
                  <a:pt x="14833" y="17338"/>
                </a:moveTo>
                <a:cubicBezTo>
                  <a:pt x="14817" y="17322"/>
                  <a:pt x="14800" y="17305"/>
                  <a:pt x="14784" y="17289"/>
                </a:cubicBezTo>
                <a:cubicBezTo>
                  <a:pt x="14748" y="17349"/>
                  <a:pt x="14774" y="17394"/>
                  <a:pt x="14759" y="17462"/>
                </a:cubicBezTo>
                <a:cubicBezTo>
                  <a:pt x="14751" y="17487"/>
                  <a:pt x="14742" y="17512"/>
                  <a:pt x="14734" y="17537"/>
                </a:cubicBezTo>
              </a:path>
              <a:path w="1737" h="621">
                <a:moveTo>
                  <a:pt x="15156" y="17016"/>
                </a:moveTo>
                <a:cubicBezTo>
                  <a:pt x="15133" y="16993"/>
                  <a:pt x="15129" y="16985"/>
                  <a:pt x="15106" y="16991"/>
                </a:cubicBezTo>
                <a:cubicBezTo>
                  <a:pt x="15146" y="16978"/>
                  <a:pt x="15131" y="16947"/>
                  <a:pt x="15180" y="16991"/>
                </a:cubicBezTo>
                <a:cubicBezTo>
                  <a:pt x="15213" y="17020"/>
                  <a:pt x="15219" y="17097"/>
                  <a:pt x="15205" y="17140"/>
                </a:cubicBezTo>
                <a:cubicBezTo>
                  <a:pt x="15181" y="17212"/>
                  <a:pt x="15146" y="17233"/>
                  <a:pt x="15081" y="17190"/>
                </a:cubicBezTo>
                <a:cubicBezTo>
                  <a:pt x="15037" y="17161"/>
                  <a:pt x="15032" y="17113"/>
                  <a:pt x="15032" y="1706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16800" y="6107040"/>
            <a:ext cx="322200" cy="23328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8579" y="16966"/>
                </a:moveTo>
                <a:cubicBezTo>
                  <a:pt x="18633" y="16966"/>
                  <a:pt x="18637" y="16979"/>
                  <a:pt x="18653" y="17041"/>
                </a:cubicBezTo>
                <a:cubicBezTo>
                  <a:pt x="18669" y="17103"/>
                  <a:pt x="18657" y="17191"/>
                  <a:pt x="18628" y="17239"/>
                </a:cubicBezTo>
                <a:cubicBezTo>
                  <a:pt x="18571" y="17239"/>
                  <a:pt x="18529" y="17247"/>
                  <a:pt x="18479" y="17214"/>
                </a:cubicBezTo>
                <a:cubicBezTo>
                  <a:pt x="18425" y="17179"/>
                  <a:pt x="18430" y="17121"/>
                  <a:pt x="18430" y="17066"/>
                </a:cubicBezTo>
                <a:cubicBezTo>
                  <a:pt x="18430" y="17011"/>
                  <a:pt x="18441" y="16974"/>
                  <a:pt x="18504" y="16966"/>
                </a:cubicBezTo>
                <a:cubicBezTo>
                  <a:pt x="18614" y="16951"/>
                  <a:pt x="18678" y="17029"/>
                  <a:pt x="18728" y="17115"/>
                </a:cubicBezTo>
                <a:cubicBezTo>
                  <a:pt x="18784" y="17211"/>
                  <a:pt x="18814" y="17402"/>
                  <a:pt x="18777" y="17512"/>
                </a:cubicBezTo>
                <a:cubicBezTo>
                  <a:pt x="18736" y="17634"/>
                  <a:pt x="18638" y="17630"/>
                  <a:pt x="18554" y="17562"/>
                </a:cubicBezTo>
                <a:cubicBezTo>
                  <a:pt x="18456" y="17483"/>
                  <a:pt x="18391" y="17357"/>
                  <a:pt x="18380" y="17239"/>
                </a:cubicBezTo>
                <a:cubicBezTo>
                  <a:pt x="18373" y="17162"/>
                  <a:pt x="18401" y="17154"/>
                  <a:pt x="18455" y="17115"/>
                </a:cubicBezTo>
              </a:path>
              <a:path w="894" h="646">
                <a:moveTo>
                  <a:pt x="19224" y="17314"/>
                </a:moveTo>
                <a:cubicBezTo>
                  <a:pt x="19240" y="17314"/>
                  <a:pt x="19257" y="17314"/>
                  <a:pt x="19273" y="17314"/>
                </a:cubicBezTo>
                <a:cubicBezTo>
                  <a:pt x="19199" y="17314"/>
                  <a:pt x="19124" y="17314"/>
                  <a:pt x="19050" y="17314"/>
                </a:cubicBezTo>
              </a:path>
              <a:path w="894" h="646">
                <a:moveTo>
                  <a:pt x="19149" y="17388"/>
                </a:moveTo>
                <a:cubicBezTo>
                  <a:pt x="19176" y="17403"/>
                  <a:pt x="19276" y="17449"/>
                  <a:pt x="19199" y="17487"/>
                </a:cubicBezTo>
                <a:cubicBezTo>
                  <a:pt x="19167" y="17503"/>
                  <a:pt x="19145" y="17477"/>
                  <a:pt x="19124" y="1746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54920" y="6170760"/>
            <a:ext cx="384120" cy="285480"/>
          </a:xfrm>
          <a:custGeom>
            <a:avLst/>
            <a:gdLst/>
            <a:ahLst/>
            <a:rect l="l" t="t" r="r" b="b"/>
            <a:pathLst>
              <a:path w="1067" h="795">
                <a:moveTo>
                  <a:pt x="19769" y="17264"/>
                </a:moveTo>
                <a:cubicBezTo>
                  <a:pt x="19810" y="17264"/>
                  <a:pt x="19852" y="17264"/>
                  <a:pt x="19893" y="17264"/>
                </a:cubicBezTo>
                <a:cubicBezTo>
                  <a:pt x="19882" y="17218"/>
                  <a:pt x="19847" y="17177"/>
                  <a:pt x="19794" y="17165"/>
                </a:cubicBezTo>
                <a:cubicBezTo>
                  <a:pt x="19727" y="17149"/>
                  <a:pt x="19612" y="17192"/>
                  <a:pt x="19596" y="17264"/>
                </a:cubicBezTo>
                <a:cubicBezTo>
                  <a:pt x="19582" y="17324"/>
                  <a:pt x="19594" y="17368"/>
                  <a:pt x="19621" y="17413"/>
                </a:cubicBezTo>
                <a:cubicBezTo>
                  <a:pt x="19696" y="17402"/>
                  <a:pt x="19712" y="17371"/>
                  <a:pt x="19769" y="17314"/>
                </a:cubicBezTo>
                <a:cubicBezTo>
                  <a:pt x="19794" y="17289"/>
                  <a:pt x="19802" y="17281"/>
                  <a:pt x="19819" y="17264"/>
                </a:cubicBezTo>
                <a:cubicBezTo>
                  <a:pt x="19857" y="17327"/>
                  <a:pt x="19867" y="17408"/>
                  <a:pt x="19869" y="17487"/>
                </a:cubicBezTo>
                <a:cubicBezTo>
                  <a:pt x="19872" y="17577"/>
                  <a:pt x="19865" y="17608"/>
                  <a:pt x="19893" y="17686"/>
                </a:cubicBezTo>
              </a:path>
              <a:path w="1067" h="795">
                <a:moveTo>
                  <a:pt x="20117" y="17487"/>
                </a:moveTo>
                <a:cubicBezTo>
                  <a:pt x="20088" y="17449"/>
                  <a:pt x="20092" y="17436"/>
                  <a:pt x="20092" y="17388"/>
                </a:cubicBezTo>
                <a:cubicBezTo>
                  <a:pt x="20092" y="17365"/>
                  <a:pt x="20131" y="17292"/>
                  <a:pt x="20166" y="17314"/>
                </a:cubicBezTo>
                <a:cubicBezTo>
                  <a:pt x="20254" y="17370"/>
                  <a:pt x="20256" y="17496"/>
                  <a:pt x="20265" y="17587"/>
                </a:cubicBezTo>
                <a:cubicBezTo>
                  <a:pt x="20273" y="17661"/>
                  <a:pt x="20258" y="17683"/>
                  <a:pt x="20216" y="17735"/>
                </a:cubicBezTo>
                <a:cubicBezTo>
                  <a:pt x="20173" y="17683"/>
                  <a:pt x="20119" y="17625"/>
                  <a:pt x="20092" y="17562"/>
                </a:cubicBezTo>
                <a:cubicBezTo>
                  <a:pt x="20070" y="17495"/>
                  <a:pt x="20065" y="17477"/>
                  <a:pt x="20042" y="17438"/>
                </a:cubicBezTo>
              </a:path>
              <a:path w="1067" h="795">
                <a:moveTo>
                  <a:pt x="20414" y="17214"/>
                </a:moveTo>
                <a:cubicBezTo>
                  <a:pt x="20423" y="17178"/>
                  <a:pt x="20431" y="17144"/>
                  <a:pt x="20464" y="17140"/>
                </a:cubicBezTo>
                <a:cubicBezTo>
                  <a:pt x="20535" y="17131"/>
                  <a:pt x="20535" y="17179"/>
                  <a:pt x="20538" y="17239"/>
                </a:cubicBezTo>
                <a:cubicBezTo>
                  <a:pt x="20541" y="17299"/>
                  <a:pt x="20564" y="17380"/>
                  <a:pt x="20489" y="17388"/>
                </a:cubicBezTo>
                <a:cubicBezTo>
                  <a:pt x="20437" y="17394"/>
                  <a:pt x="20415" y="17277"/>
                  <a:pt x="20389" y="17239"/>
                </a:cubicBezTo>
                <a:cubicBezTo>
                  <a:pt x="20381" y="17231"/>
                  <a:pt x="20373" y="17222"/>
                  <a:pt x="20365" y="17214"/>
                </a:cubicBezTo>
              </a:path>
              <a:path w="1067" h="795">
                <a:moveTo>
                  <a:pt x="20662" y="17735"/>
                </a:moveTo>
                <a:cubicBezTo>
                  <a:pt x="20636" y="17803"/>
                  <a:pt x="20612" y="17854"/>
                  <a:pt x="20563" y="17909"/>
                </a:cubicBezTo>
                <a:cubicBezTo>
                  <a:pt x="20555" y="17917"/>
                  <a:pt x="20546" y="17926"/>
                  <a:pt x="20538" y="1793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6240" y="6269040"/>
            <a:ext cx="588960" cy="223920"/>
          </a:xfrm>
          <a:custGeom>
            <a:avLst/>
            <a:gdLst/>
            <a:ahLst/>
            <a:rect l="l" t="t" r="r" b="b"/>
            <a:pathLst>
              <a:path w="1638" h="621">
                <a:moveTo>
                  <a:pt x="21233" y="17537"/>
                </a:moveTo>
                <a:cubicBezTo>
                  <a:pt x="21210" y="17514"/>
                  <a:pt x="21206" y="17506"/>
                  <a:pt x="21183" y="17512"/>
                </a:cubicBezTo>
                <a:cubicBezTo>
                  <a:pt x="21233" y="17462"/>
                  <a:pt x="21260" y="17442"/>
                  <a:pt x="21332" y="17438"/>
                </a:cubicBezTo>
                <a:cubicBezTo>
                  <a:pt x="21405" y="17434"/>
                  <a:pt x="21450" y="17520"/>
                  <a:pt x="21456" y="17587"/>
                </a:cubicBezTo>
                <a:cubicBezTo>
                  <a:pt x="21461" y="17648"/>
                  <a:pt x="21431" y="17765"/>
                  <a:pt x="21382" y="17810"/>
                </a:cubicBezTo>
                <a:cubicBezTo>
                  <a:pt x="21355" y="17836"/>
                  <a:pt x="21285" y="17859"/>
                  <a:pt x="21332" y="17859"/>
                </a:cubicBezTo>
                <a:cubicBezTo>
                  <a:pt x="21439" y="17859"/>
                  <a:pt x="21547" y="17859"/>
                  <a:pt x="21654" y="17859"/>
                </a:cubicBezTo>
              </a:path>
              <a:path w="1638" h="621">
                <a:moveTo>
                  <a:pt x="21729" y="17611"/>
                </a:moveTo>
                <a:cubicBezTo>
                  <a:pt x="21769" y="17552"/>
                  <a:pt x="21761" y="17562"/>
                  <a:pt x="21828" y="17562"/>
                </a:cubicBezTo>
                <a:cubicBezTo>
                  <a:pt x="21864" y="17562"/>
                  <a:pt x="21978" y="17543"/>
                  <a:pt x="22002" y="17587"/>
                </a:cubicBezTo>
                <a:cubicBezTo>
                  <a:pt x="22041" y="17659"/>
                  <a:pt x="22025" y="17759"/>
                  <a:pt x="22002" y="17835"/>
                </a:cubicBezTo>
                <a:cubicBezTo>
                  <a:pt x="21985" y="17890"/>
                  <a:pt x="21986" y="18000"/>
                  <a:pt x="21927" y="18033"/>
                </a:cubicBezTo>
                <a:cubicBezTo>
                  <a:pt x="21919" y="18033"/>
                  <a:pt x="21911" y="18033"/>
                  <a:pt x="21903" y="18033"/>
                </a:cubicBezTo>
              </a:path>
              <a:path w="1638" h="621">
                <a:moveTo>
                  <a:pt x="22225" y="17859"/>
                </a:moveTo>
                <a:cubicBezTo>
                  <a:pt x="22225" y="17806"/>
                  <a:pt x="22203" y="17719"/>
                  <a:pt x="22250" y="17686"/>
                </a:cubicBezTo>
                <a:cubicBezTo>
                  <a:pt x="22309" y="17645"/>
                  <a:pt x="22385" y="17644"/>
                  <a:pt x="22423" y="17711"/>
                </a:cubicBezTo>
                <a:cubicBezTo>
                  <a:pt x="22452" y="17761"/>
                  <a:pt x="22471" y="17901"/>
                  <a:pt x="22448" y="17959"/>
                </a:cubicBezTo>
                <a:cubicBezTo>
                  <a:pt x="22440" y="17967"/>
                  <a:pt x="22431" y="17975"/>
                  <a:pt x="22423" y="17983"/>
                </a:cubicBezTo>
                <a:cubicBezTo>
                  <a:pt x="22366" y="17976"/>
                  <a:pt x="22268" y="17956"/>
                  <a:pt x="22225" y="17909"/>
                </a:cubicBezTo>
                <a:cubicBezTo>
                  <a:pt x="22217" y="17892"/>
                  <a:pt x="22208" y="17876"/>
                  <a:pt x="22200" y="17859"/>
                </a:cubicBezTo>
              </a:path>
              <a:path w="1638" h="621">
                <a:moveTo>
                  <a:pt x="22721" y="17661"/>
                </a:moveTo>
                <a:cubicBezTo>
                  <a:pt x="22672" y="17612"/>
                  <a:pt x="22671" y="17607"/>
                  <a:pt x="22671" y="17537"/>
                </a:cubicBezTo>
                <a:cubicBezTo>
                  <a:pt x="22671" y="17481"/>
                  <a:pt x="22664" y="17455"/>
                  <a:pt x="22696" y="17413"/>
                </a:cubicBezTo>
                <a:cubicBezTo>
                  <a:pt x="22779" y="17430"/>
                  <a:pt x="22804" y="17475"/>
                  <a:pt x="22820" y="17562"/>
                </a:cubicBezTo>
                <a:cubicBezTo>
                  <a:pt x="22830" y="17615"/>
                  <a:pt x="22819" y="17646"/>
                  <a:pt x="22796" y="17686"/>
                </a:cubicBezTo>
                <a:cubicBezTo>
                  <a:pt x="22725" y="17672"/>
                  <a:pt x="22699" y="17639"/>
                  <a:pt x="22647" y="1758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31920" y="3875040"/>
            <a:ext cx="15228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3572" y="11013"/>
                </a:moveTo>
                <a:cubicBezTo>
                  <a:pt x="3508" y="11024"/>
                  <a:pt x="3535" y="11038"/>
                  <a:pt x="3473" y="11038"/>
                </a:cubicBezTo>
                <a:cubicBezTo>
                  <a:pt x="3444" y="11038"/>
                  <a:pt x="3425" y="10997"/>
                  <a:pt x="3423" y="10964"/>
                </a:cubicBezTo>
                <a:cubicBezTo>
                  <a:pt x="3417" y="10876"/>
                  <a:pt x="3489" y="10863"/>
                  <a:pt x="3547" y="10815"/>
                </a:cubicBezTo>
                <a:cubicBezTo>
                  <a:pt x="3632" y="10744"/>
                  <a:pt x="3696" y="10749"/>
                  <a:pt x="3770" y="10840"/>
                </a:cubicBezTo>
                <a:cubicBezTo>
                  <a:pt x="3836" y="10920"/>
                  <a:pt x="3869" y="11033"/>
                  <a:pt x="3845" y="11137"/>
                </a:cubicBezTo>
                <a:cubicBezTo>
                  <a:pt x="3825" y="11225"/>
                  <a:pt x="3730" y="11277"/>
                  <a:pt x="3646" y="11261"/>
                </a:cubicBezTo>
                <a:cubicBezTo>
                  <a:pt x="3571" y="11247"/>
                  <a:pt x="3526" y="11206"/>
                  <a:pt x="3522" y="11137"/>
                </a:cubicBezTo>
                <a:cubicBezTo>
                  <a:pt x="3522" y="11088"/>
                  <a:pt x="3522" y="11071"/>
                  <a:pt x="3522" y="1103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8120" y="3911760"/>
            <a:ext cx="123840" cy="19656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4589" y="10889"/>
                </a:moveTo>
                <a:cubicBezTo>
                  <a:pt x="4611" y="10867"/>
                  <a:pt x="4616" y="10858"/>
                  <a:pt x="4638" y="10864"/>
                </a:cubicBezTo>
                <a:cubicBezTo>
                  <a:pt x="4621" y="10899"/>
                  <a:pt x="4570" y="10947"/>
                  <a:pt x="4539" y="10988"/>
                </a:cubicBezTo>
                <a:cubicBezTo>
                  <a:pt x="4516" y="11019"/>
                  <a:pt x="4447" y="11093"/>
                  <a:pt x="4465" y="11137"/>
                </a:cubicBezTo>
                <a:cubicBezTo>
                  <a:pt x="4478" y="11170"/>
                  <a:pt x="4533" y="11210"/>
                  <a:pt x="4564" y="11212"/>
                </a:cubicBezTo>
                <a:cubicBezTo>
                  <a:pt x="4629" y="11217"/>
                  <a:pt x="4666" y="11237"/>
                  <a:pt x="4738" y="11237"/>
                </a:cubicBezTo>
                <a:cubicBezTo>
                  <a:pt x="4769" y="11237"/>
                  <a:pt x="4783" y="11254"/>
                  <a:pt x="4812" y="11261"/>
                </a:cubicBezTo>
              </a:path>
              <a:path w="348" h="547">
                <a:moveTo>
                  <a:pt x="4787" y="11410"/>
                </a:moveTo>
                <a:cubicBezTo>
                  <a:pt x="4742" y="11410"/>
                  <a:pt x="4729" y="11390"/>
                  <a:pt x="4688" y="11385"/>
                </a:cubicBezTo>
                <a:cubicBezTo>
                  <a:pt x="4628" y="11378"/>
                  <a:pt x="4588" y="11396"/>
                  <a:pt x="4539" y="1136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84240" y="3990960"/>
            <a:ext cx="204840" cy="100080"/>
          </a:xfrm>
          <a:custGeom>
            <a:avLst/>
            <a:gdLst/>
            <a:ahLst/>
            <a:rect l="l" t="t" r="r" b="b"/>
            <a:pathLst>
              <a:path w="571" h="274">
                <a:moveTo>
                  <a:pt x="5308" y="11162"/>
                </a:moveTo>
                <a:cubicBezTo>
                  <a:pt x="5273" y="11135"/>
                  <a:pt x="5278" y="11137"/>
                  <a:pt x="5234" y="11137"/>
                </a:cubicBezTo>
                <a:cubicBezTo>
                  <a:pt x="5249" y="11077"/>
                  <a:pt x="5272" y="11088"/>
                  <a:pt x="5333" y="11088"/>
                </a:cubicBezTo>
                <a:cubicBezTo>
                  <a:pt x="5403" y="11088"/>
                  <a:pt x="5431" y="11085"/>
                  <a:pt x="5457" y="11162"/>
                </a:cubicBezTo>
                <a:cubicBezTo>
                  <a:pt x="5472" y="11207"/>
                  <a:pt x="5452" y="11266"/>
                  <a:pt x="5407" y="11286"/>
                </a:cubicBezTo>
                <a:cubicBezTo>
                  <a:pt x="5366" y="11304"/>
                  <a:pt x="5334" y="11311"/>
                  <a:pt x="5283" y="11311"/>
                </a:cubicBezTo>
              </a:path>
              <a:path w="571" h="274">
                <a:moveTo>
                  <a:pt x="5581" y="11187"/>
                </a:moveTo>
                <a:cubicBezTo>
                  <a:pt x="5581" y="11170"/>
                  <a:pt x="5581" y="11154"/>
                  <a:pt x="5581" y="11137"/>
                </a:cubicBezTo>
                <a:cubicBezTo>
                  <a:pt x="5535" y="11183"/>
                  <a:pt x="5511" y="11195"/>
                  <a:pt x="5507" y="11261"/>
                </a:cubicBezTo>
                <a:cubicBezTo>
                  <a:pt x="5503" y="11336"/>
                  <a:pt x="5539" y="11357"/>
                  <a:pt x="5606" y="11361"/>
                </a:cubicBezTo>
                <a:cubicBezTo>
                  <a:pt x="5677" y="11365"/>
                  <a:pt x="5734" y="11320"/>
                  <a:pt x="5804" y="1131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76640" y="3938760"/>
            <a:ext cx="144360" cy="2221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6375" y="11038"/>
                </a:moveTo>
                <a:cubicBezTo>
                  <a:pt x="6410" y="11003"/>
                  <a:pt x="6443" y="10949"/>
                  <a:pt x="6474" y="10939"/>
                </a:cubicBezTo>
                <a:cubicBezTo>
                  <a:pt x="6461" y="10989"/>
                  <a:pt x="6421" y="11035"/>
                  <a:pt x="6400" y="11088"/>
                </a:cubicBezTo>
                <a:cubicBezTo>
                  <a:pt x="6371" y="11163"/>
                  <a:pt x="6331" y="11233"/>
                  <a:pt x="6325" y="11311"/>
                </a:cubicBezTo>
                <a:cubicBezTo>
                  <a:pt x="6322" y="11344"/>
                  <a:pt x="6314" y="11392"/>
                  <a:pt x="6350" y="11410"/>
                </a:cubicBezTo>
                <a:cubicBezTo>
                  <a:pt x="6400" y="11435"/>
                  <a:pt x="6463" y="11392"/>
                  <a:pt x="6499" y="11385"/>
                </a:cubicBezTo>
                <a:cubicBezTo>
                  <a:pt x="6541" y="11376"/>
                  <a:pt x="6585" y="11365"/>
                  <a:pt x="6623" y="11361"/>
                </a:cubicBezTo>
                <a:cubicBezTo>
                  <a:pt x="6631" y="11361"/>
                  <a:pt x="6640" y="11361"/>
                  <a:pt x="6648" y="11361"/>
                </a:cubicBezTo>
              </a:path>
              <a:path w="398" h="621">
                <a:moveTo>
                  <a:pt x="6648" y="11485"/>
                </a:moveTo>
                <a:cubicBezTo>
                  <a:pt x="6673" y="11485"/>
                  <a:pt x="6697" y="11485"/>
                  <a:pt x="6722" y="11485"/>
                </a:cubicBezTo>
                <a:cubicBezTo>
                  <a:pt x="6673" y="11485"/>
                  <a:pt x="6663" y="11496"/>
                  <a:pt x="6623" y="11509"/>
                </a:cubicBezTo>
                <a:cubicBezTo>
                  <a:pt x="6579" y="11523"/>
                  <a:pt x="6552" y="11534"/>
                  <a:pt x="6499" y="11534"/>
                </a:cubicBezTo>
                <a:cubicBezTo>
                  <a:pt x="6499" y="11559"/>
                  <a:pt x="6499" y="11567"/>
                  <a:pt x="6474" y="1155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98840" y="3919680"/>
            <a:ext cx="374400" cy="241200"/>
          </a:xfrm>
          <a:custGeom>
            <a:avLst/>
            <a:gdLst/>
            <a:ahLst/>
            <a:rect l="l" t="t" r="r" b="b"/>
            <a:pathLst>
              <a:path w="1043" h="671">
                <a:moveTo>
                  <a:pt x="7218" y="11063"/>
                </a:moveTo>
                <a:cubicBezTo>
                  <a:pt x="7218" y="11012"/>
                  <a:pt x="7224" y="11013"/>
                  <a:pt x="7268" y="10988"/>
                </a:cubicBezTo>
                <a:cubicBezTo>
                  <a:pt x="7328" y="10954"/>
                  <a:pt x="7347" y="10939"/>
                  <a:pt x="7417" y="10939"/>
                </a:cubicBezTo>
                <a:cubicBezTo>
                  <a:pt x="7417" y="10991"/>
                  <a:pt x="7428" y="11025"/>
                  <a:pt x="7392" y="11063"/>
                </a:cubicBezTo>
                <a:cubicBezTo>
                  <a:pt x="7364" y="11093"/>
                  <a:pt x="7286" y="11147"/>
                  <a:pt x="7268" y="11187"/>
                </a:cubicBezTo>
                <a:cubicBezTo>
                  <a:pt x="7268" y="11195"/>
                  <a:pt x="7268" y="11204"/>
                  <a:pt x="7268" y="11212"/>
                </a:cubicBezTo>
                <a:cubicBezTo>
                  <a:pt x="7327" y="11246"/>
                  <a:pt x="7361" y="11298"/>
                  <a:pt x="7417" y="11336"/>
                </a:cubicBezTo>
                <a:cubicBezTo>
                  <a:pt x="7446" y="11356"/>
                  <a:pt x="7543" y="11434"/>
                  <a:pt x="7491" y="11485"/>
                </a:cubicBezTo>
                <a:cubicBezTo>
                  <a:pt x="7453" y="11522"/>
                  <a:pt x="7370" y="11555"/>
                  <a:pt x="7317" y="11534"/>
                </a:cubicBezTo>
                <a:cubicBezTo>
                  <a:pt x="7266" y="11514"/>
                  <a:pt x="7247" y="11502"/>
                  <a:pt x="7268" y="11460"/>
                </a:cubicBezTo>
              </a:path>
              <a:path w="1043" h="671">
                <a:moveTo>
                  <a:pt x="7689" y="11088"/>
                </a:moveTo>
                <a:cubicBezTo>
                  <a:pt x="7741" y="11058"/>
                  <a:pt x="7771" y="11030"/>
                  <a:pt x="7813" y="10988"/>
                </a:cubicBezTo>
                <a:cubicBezTo>
                  <a:pt x="7828" y="10973"/>
                  <a:pt x="7883" y="10921"/>
                  <a:pt x="7888" y="10914"/>
                </a:cubicBezTo>
                <a:cubicBezTo>
                  <a:pt x="7888" y="10906"/>
                  <a:pt x="7888" y="10897"/>
                  <a:pt x="7888" y="10889"/>
                </a:cubicBezTo>
                <a:cubicBezTo>
                  <a:pt x="7938" y="10906"/>
                  <a:pt x="7888" y="10993"/>
                  <a:pt x="7863" y="11038"/>
                </a:cubicBezTo>
                <a:cubicBezTo>
                  <a:pt x="7799" y="11155"/>
                  <a:pt x="7763" y="11272"/>
                  <a:pt x="7789" y="11410"/>
                </a:cubicBezTo>
                <a:cubicBezTo>
                  <a:pt x="7798" y="11459"/>
                  <a:pt x="7829" y="11493"/>
                  <a:pt x="7863" y="11509"/>
                </a:cubicBezTo>
                <a:cubicBezTo>
                  <a:pt x="7941" y="11455"/>
                  <a:pt x="7938" y="11431"/>
                  <a:pt x="7938" y="11336"/>
                </a:cubicBezTo>
                <a:cubicBezTo>
                  <a:pt x="7938" y="11319"/>
                  <a:pt x="7938" y="11303"/>
                  <a:pt x="7938" y="11286"/>
                </a:cubicBezTo>
                <a:cubicBezTo>
                  <a:pt x="7871" y="11286"/>
                  <a:pt x="7859" y="11290"/>
                  <a:pt x="7813" y="11336"/>
                </a:cubicBezTo>
              </a:path>
              <a:path w="1043" h="671">
                <a:moveTo>
                  <a:pt x="8037" y="11237"/>
                </a:moveTo>
                <a:cubicBezTo>
                  <a:pt x="8044" y="11184"/>
                  <a:pt x="8059" y="11129"/>
                  <a:pt x="8086" y="11088"/>
                </a:cubicBezTo>
                <a:cubicBezTo>
                  <a:pt x="8110" y="11052"/>
                  <a:pt x="8208" y="11047"/>
                  <a:pt x="8235" y="11088"/>
                </a:cubicBezTo>
                <a:cubicBezTo>
                  <a:pt x="8281" y="11157"/>
                  <a:pt x="8277" y="11333"/>
                  <a:pt x="8260" y="11410"/>
                </a:cubicBezTo>
                <a:cubicBezTo>
                  <a:pt x="8247" y="11471"/>
                  <a:pt x="8192" y="11537"/>
                  <a:pt x="8136" y="11559"/>
                </a:cubicBezTo>
                <a:cubicBezTo>
                  <a:pt x="8128" y="11559"/>
                  <a:pt x="8119" y="11559"/>
                  <a:pt x="8111" y="11559"/>
                </a:cubicBezTo>
                <a:cubicBezTo>
                  <a:pt x="8076" y="11512"/>
                  <a:pt x="8086" y="11472"/>
                  <a:pt x="8086" y="1141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81240" y="3902040"/>
            <a:ext cx="34920" cy="81000"/>
          </a:xfrm>
          <a:custGeom>
            <a:avLst/>
            <a:gdLst/>
            <a:ahLst/>
            <a:rect l="l" t="t" r="r" b="b"/>
            <a:pathLst>
              <a:path w="100" h="224">
                <a:moveTo>
                  <a:pt x="8558" y="10964"/>
                </a:moveTo>
                <a:cubicBezTo>
                  <a:pt x="8558" y="10919"/>
                  <a:pt x="8551" y="10898"/>
                  <a:pt x="8582" y="10864"/>
                </a:cubicBezTo>
                <a:cubicBezTo>
                  <a:pt x="8609" y="10834"/>
                  <a:pt x="8620" y="10840"/>
                  <a:pt x="8657" y="10840"/>
                </a:cubicBezTo>
                <a:cubicBezTo>
                  <a:pt x="8657" y="10916"/>
                  <a:pt x="8651" y="10974"/>
                  <a:pt x="8632" y="11038"/>
                </a:cubicBezTo>
                <a:cubicBezTo>
                  <a:pt x="8617" y="11087"/>
                  <a:pt x="8599" y="11061"/>
                  <a:pt x="8582" y="11038"/>
                </a:cubicBezTo>
                <a:cubicBezTo>
                  <a:pt x="8574" y="11030"/>
                  <a:pt x="8566" y="11021"/>
                  <a:pt x="8558" y="1101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3080" y="5419800"/>
            <a:ext cx="384120" cy="108000"/>
          </a:xfrm>
          <a:custGeom>
            <a:avLst/>
            <a:gdLst/>
            <a:ahLst/>
            <a:rect l="l" t="t" r="r" b="b"/>
            <a:pathLst>
              <a:path w="1067" h="299">
                <a:moveTo>
                  <a:pt x="2753" y="15180"/>
                </a:moveTo>
                <a:cubicBezTo>
                  <a:pt x="2729" y="15162"/>
                  <a:pt x="2680" y="15149"/>
                  <a:pt x="2704" y="15106"/>
                </a:cubicBezTo>
                <a:cubicBezTo>
                  <a:pt x="2725" y="15068"/>
                  <a:pt x="2792" y="15059"/>
                  <a:pt x="2828" y="15056"/>
                </a:cubicBezTo>
                <a:cubicBezTo>
                  <a:pt x="2897" y="15050"/>
                  <a:pt x="2925" y="15106"/>
                  <a:pt x="2952" y="15156"/>
                </a:cubicBezTo>
                <a:cubicBezTo>
                  <a:pt x="2991" y="15229"/>
                  <a:pt x="2981" y="15269"/>
                  <a:pt x="2927" y="15329"/>
                </a:cubicBezTo>
                <a:cubicBezTo>
                  <a:pt x="2893" y="15367"/>
                  <a:pt x="2852" y="15354"/>
                  <a:pt x="2803" y="15354"/>
                </a:cubicBezTo>
                <a:cubicBezTo>
                  <a:pt x="2760" y="15354"/>
                  <a:pt x="2765" y="15364"/>
                  <a:pt x="2753" y="15329"/>
                </a:cubicBezTo>
              </a:path>
              <a:path w="1067" h="299">
                <a:moveTo>
                  <a:pt x="3076" y="15131"/>
                </a:moveTo>
                <a:cubicBezTo>
                  <a:pt x="3084" y="15123"/>
                  <a:pt x="3093" y="15114"/>
                  <a:pt x="3101" y="15106"/>
                </a:cubicBezTo>
                <a:cubicBezTo>
                  <a:pt x="3042" y="15121"/>
                  <a:pt x="3031" y="15144"/>
                  <a:pt x="3026" y="15205"/>
                </a:cubicBezTo>
                <a:cubicBezTo>
                  <a:pt x="3023" y="15241"/>
                  <a:pt x="3063" y="15340"/>
                  <a:pt x="3101" y="15354"/>
                </a:cubicBezTo>
                <a:cubicBezTo>
                  <a:pt x="3159" y="15375"/>
                  <a:pt x="3209" y="15337"/>
                  <a:pt x="3249" y="15304"/>
                </a:cubicBezTo>
              </a:path>
              <a:path w="1067" h="299">
                <a:moveTo>
                  <a:pt x="3721" y="15131"/>
                </a:moveTo>
                <a:cubicBezTo>
                  <a:pt x="3786" y="15082"/>
                  <a:pt x="3733" y="15091"/>
                  <a:pt x="3721" y="15106"/>
                </a:cubicBezTo>
                <a:cubicBezTo>
                  <a:pt x="3683" y="15154"/>
                  <a:pt x="3658" y="15105"/>
                  <a:pt x="3597" y="15131"/>
                </a:cubicBezTo>
                <a:cubicBezTo>
                  <a:pt x="3574" y="15154"/>
                  <a:pt x="3570" y="15162"/>
                  <a:pt x="3547" y="15156"/>
                </a:cubicBezTo>
              </a:path>
              <a:path w="1067" h="299">
                <a:moveTo>
                  <a:pt x="3770" y="15280"/>
                </a:moveTo>
                <a:cubicBezTo>
                  <a:pt x="3770" y="15288"/>
                  <a:pt x="3770" y="15296"/>
                  <a:pt x="3770" y="15304"/>
                </a:cubicBezTo>
                <a:cubicBezTo>
                  <a:pt x="3726" y="15313"/>
                  <a:pt x="3693" y="15329"/>
                  <a:pt x="3646" y="1532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82840" y="5375160"/>
            <a:ext cx="633240" cy="179640"/>
          </a:xfrm>
          <a:custGeom>
            <a:avLst/>
            <a:gdLst/>
            <a:ahLst/>
            <a:rect l="l" t="t" r="r" b="b"/>
            <a:pathLst>
              <a:path w="1762" h="498">
                <a:moveTo>
                  <a:pt x="4167" y="15106"/>
                </a:moveTo>
                <a:cubicBezTo>
                  <a:pt x="4115" y="15093"/>
                  <a:pt x="4104" y="15075"/>
                  <a:pt x="4142" y="15032"/>
                </a:cubicBezTo>
                <a:cubicBezTo>
                  <a:pt x="4191" y="14977"/>
                  <a:pt x="4218" y="14982"/>
                  <a:pt x="4291" y="14982"/>
                </a:cubicBezTo>
                <a:cubicBezTo>
                  <a:pt x="4360" y="14982"/>
                  <a:pt x="4407" y="15028"/>
                  <a:pt x="4390" y="15106"/>
                </a:cubicBezTo>
                <a:cubicBezTo>
                  <a:pt x="4381" y="15149"/>
                  <a:pt x="4339" y="15243"/>
                  <a:pt x="4316" y="15280"/>
                </a:cubicBezTo>
                <a:cubicBezTo>
                  <a:pt x="4308" y="15288"/>
                  <a:pt x="4299" y="15296"/>
                  <a:pt x="4291" y="15304"/>
                </a:cubicBezTo>
                <a:cubicBezTo>
                  <a:pt x="4301" y="15333"/>
                  <a:pt x="4325" y="15349"/>
                  <a:pt x="4366" y="15354"/>
                </a:cubicBezTo>
                <a:cubicBezTo>
                  <a:pt x="4408" y="15359"/>
                  <a:pt x="4444" y="15329"/>
                  <a:pt x="4490" y="15329"/>
                </a:cubicBezTo>
                <a:cubicBezTo>
                  <a:pt x="4523" y="15329"/>
                  <a:pt x="4556" y="15329"/>
                  <a:pt x="4589" y="15329"/>
                </a:cubicBezTo>
              </a:path>
              <a:path w="1762" h="498">
                <a:moveTo>
                  <a:pt x="4738" y="15032"/>
                </a:moveTo>
                <a:cubicBezTo>
                  <a:pt x="4692" y="14998"/>
                  <a:pt x="4676" y="15007"/>
                  <a:pt x="4738" y="15007"/>
                </a:cubicBezTo>
                <a:cubicBezTo>
                  <a:pt x="4816" y="15007"/>
                  <a:pt x="4926" y="14985"/>
                  <a:pt x="4986" y="15032"/>
                </a:cubicBezTo>
                <a:cubicBezTo>
                  <a:pt x="5024" y="15061"/>
                  <a:pt x="5021" y="15136"/>
                  <a:pt x="5011" y="15180"/>
                </a:cubicBezTo>
                <a:cubicBezTo>
                  <a:pt x="4993" y="15263"/>
                  <a:pt x="4942" y="15320"/>
                  <a:pt x="4936" y="15404"/>
                </a:cubicBezTo>
                <a:cubicBezTo>
                  <a:pt x="4936" y="15429"/>
                  <a:pt x="4936" y="15437"/>
                  <a:pt x="4911" y="15429"/>
                </a:cubicBezTo>
              </a:path>
              <a:path w="1762" h="498">
                <a:moveTo>
                  <a:pt x="5234" y="15205"/>
                </a:moveTo>
                <a:cubicBezTo>
                  <a:pt x="5234" y="15147"/>
                  <a:pt x="5242" y="15168"/>
                  <a:pt x="5283" y="15131"/>
                </a:cubicBezTo>
                <a:cubicBezTo>
                  <a:pt x="5327" y="15091"/>
                  <a:pt x="5372" y="15045"/>
                  <a:pt x="5432" y="15106"/>
                </a:cubicBezTo>
                <a:cubicBezTo>
                  <a:pt x="5473" y="15147"/>
                  <a:pt x="5504" y="15272"/>
                  <a:pt x="5482" y="15329"/>
                </a:cubicBezTo>
                <a:cubicBezTo>
                  <a:pt x="5457" y="15392"/>
                  <a:pt x="5356" y="15379"/>
                  <a:pt x="5308" y="15379"/>
                </a:cubicBezTo>
                <a:cubicBezTo>
                  <a:pt x="5282" y="15379"/>
                  <a:pt x="5193" y="15361"/>
                  <a:pt x="5209" y="15329"/>
                </a:cubicBezTo>
                <a:cubicBezTo>
                  <a:pt x="5217" y="15321"/>
                  <a:pt x="5226" y="15312"/>
                  <a:pt x="5234" y="15304"/>
                </a:cubicBezTo>
              </a:path>
              <a:path w="1762" h="498">
                <a:moveTo>
                  <a:pt x="5705" y="15032"/>
                </a:moveTo>
                <a:cubicBezTo>
                  <a:pt x="5705" y="14971"/>
                  <a:pt x="5715" y="14984"/>
                  <a:pt x="5755" y="14957"/>
                </a:cubicBezTo>
                <a:cubicBezTo>
                  <a:pt x="5811" y="14919"/>
                  <a:pt x="5860" y="14927"/>
                  <a:pt x="5879" y="15007"/>
                </a:cubicBezTo>
                <a:cubicBezTo>
                  <a:pt x="5897" y="15083"/>
                  <a:pt x="5870" y="15120"/>
                  <a:pt x="5804" y="15131"/>
                </a:cubicBezTo>
                <a:cubicBezTo>
                  <a:pt x="5754" y="15139"/>
                  <a:pt x="5741" y="15124"/>
                  <a:pt x="5730" y="1508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41280" y="5769000"/>
            <a:ext cx="1982880" cy="946080"/>
          </a:xfrm>
          <a:custGeom>
            <a:avLst/>
            <a:gdLst/>
            <a:ahLst/>
            <a:rect l="l" t="t" r="r" b="b"/>
            <a:pathLst>
              <a:path w="5507" h="2630">
                <a:moveTo>
                  <a:pt x="4068" y="16098"/>
                </a:moveTo>
                <a:cubicBezTo>
                  <a:pt x="4086" y="16058"/>
                  <a:pt x="4087" y="16069"/>
                  <a:pt x="4093" y="16024"/>
                </a:cubicBezTo>
                <a:cubicBezTo>
                  <a:pt x="4111" y="16089"/>
                  <a:pt x="4118" y="16143"/>
                  <a:pt x="4118" y="16222"/>
                </a:cubicBezTo>
                <a:cubicBezTo>
                  <a:pt x="4118" y="16366"/>
                  <a:pt x="4131" y="16503"/>
                  <a:pt x="4142" y="16644"/>
                </a:cubicBezTo>
                <a:cubicBezTo>
                  <a:pt x="4153" y="16782"/>
                  <a:pt x="4149" y="16928"/>
                  <a:pt x="4167" y="17066"/>
                </a:cubicBezTo>
                <a:cubicBezTo>
                  <a:pt x="4184" y="17196"/>
                  <a:pt x="4195" y="17333"/>
                  <a:pt x="4217" y="17462"/>
                </a:cubicBezTo>
                <a:cubicBezTo>
                  <a:pt x="4241" y="17602"/>
                  <a:pt x="4300" y="17743"/>
                  <a:pt x="4316" y="17884"/>
                </a:cubicBezTo>
                <a:cubicBezTo>
                  <a:pt x="4330" y="18005"/>
                  <a:pt x="4374" y="18111"/>
                  <a:pt x="4390" y="18231"/>
                </a:cubicBezTo>
                <a:cubicBezTo>
                  <a:pt x="4402" y="18326"/>
                  <a:pt x="4436" y="18407"/>
                  <a:pt x="4440" y="18504"/>
                </a:cubicBezTo>
                <a:cubicBezTo>
                  <a:pt x="4442" y="18566"/>
                  <a:pt x="4451" y="18597"/>
                  <a:pt x="4465" y="18653"/>
                </a:cubicBezTo>
              </a:path>
              <a:path w="5507" h="2630">
                <a:moveTo>
                  <a:pt x="4242" y="17438"/>
                </a:moveTo>
                <a:cubicBezTo>
                  <a:pt x="4312" y="17438"/>
                  <a:pt x="4357" y="17430"/>
                  <a:pt x="4415" y="17413"/>
                </a:cubicBezTo>
                <a:cubicBezTo>
                  <a:pt x="4452" y="17402"/>
                  <a:pt x="4473" y="17394"/>
                  <a:pt x="4514" y="17388"/>
                </a:cubicBezTo>
                <a:cubicBezTo>
                  <a:pt x="4565" y="17380"/>
                  <a:pt x="4614" y="17368"/>
                  <a:pt x="4663" y="17363"/>
                </a:cubicBezTo>
                <a:cubicBezTo>
                  <a:pt x="4723" y="17356"/>
                  <a:pt x="4755" y="17344"/>
                  <a:pt x="4812" y="17338"/>
                </a:cubicBezTo>
                <a:cubicBezTo>
                  <a:pt x="4891" y="17329"/>
                  <a:pt x="4993" y="17320"/>
                  <a:pt x="5060" y="17314"/>
                </a:cubicBezTo>
                <a:cubicBezTo>
                  <a:pt x="5274" y="17295"/>
                  <a:pt x="5497" y="17320"/>
                  <a:pt x="5705" y="17338"/>
                </a:cubicBezTo>
                <a:cubicBezTo>
                  <a:pt x="5776" y="17344"/>
                  <a:pt x="5835" y="17357"/>
                  <a:pt x="5904" y="17363"/>
                </a:cubicBezTo>
                <a:cubicBezTo>
                  <a:pt x="6056" y="17376"/>
                  <a:pt x="6207" y="17351"/>
                  <a:pt x="6350" y="17338"/>
                </a:cubicBezTo>
                <a:cubicBezTo>
                  <a:pt x="6494" y="17325"/>
                  <a:pt x="6637" y="17351"/>
                  <a:pt x="6772" y="17363"/>
                </a:cubicBezTo>
                <a:cubicBezTo>
                  <a:pt x="6858" y="17371"/>
                  <a:pt x="6961" y="17370"/>
                  <a:pt x="7045" y="17388"/>
                </a:cubicBezTo>
                <a:cubicBezTo>
                  <a:pt x="7126" y="17405"/>
                  <a:pt x="7185" y="17411"/>
                  <a:pt x="7268" y="17413"/>
                </a:cubicBezTo>
                <a:cubicBezTo>
                  <a:pt x="7366" y="17416"/>
                  <a:pt x="7447" y="17411"/>
                  <a:pt x="7541" y="17388"/>
                </a:cubicBezTo>
                <a:cubicBezTo>
                  <a:pt x="7608" y="17372"/>
                  <a:pt x="7668" y="17365"/>
                  <a:pt x="7739" y="17363"/>
                </a:cubicBezTo>
                <a:cubicBezTo>
                  <a:pt x="8078" y="17353"/>
                  <a:pt x="8427" y="17362"/>
                  <a:pt x="8756" y="17388"/>
                </a:cubicBezTo>
                <a:cubicBezTo>
                  <a:pt x="8821" y="17393"/>
                  <a:pt x="8889" y="17388"/>
                  <a:pt x="8954" y="17388"/>
                </a:cubicBezTo>
              </a:path>
              <a:path w="5507" h="2630">
                <a:moveTo>
                  <a:pt x="4316" y="17413"/>
                </a:moveTo>
                <a:cubicBezTo>
                  <a:pt x="4316" y="17438"/>
                  <a:pt x="4316" y="17446"/>
                  <a:pt x="4341" y="17438"/>
                </a:cubicBezTo>
                <a:cubicBezTo>
                  <a:pt x="4336" y="17390"/>
                  <a:pt x="4313" y="17331"/>
                  <a:pt x="4316" y="17289"/>
                </a:cubicBezTo>
                <a:cubicBezTo>
                  <a:pt x="4319" y="17245"/>
                  <a:pt x="4332" y="17229"/>
                  <a:pt x="4341" y="17190"/>
                </a:cubicBezTo>
                <a:cubicBezTo>
                  <a:pt x="4352" y="17141"/>
                  <a:pt x="4354" y="17152"/>
                  <a:pt x="4366" y="17115"/>
                </a:cubicBezTo>
                <a:cubicBezTo>
                  <a:pt x="4379" y="17073"/>
                  <a:pt x="4381" y="17074"/>
                  <a:pt x="4390" y="17041"/>
                </a:cubicBezTo>
                <a:cubicBezTo>
                  <a:pt x="4400" y="17005"/>
                  <a:pt x="4406" y="16976"/>
                  <a:pt x="4415" y="16942"/>
                </a:cubicBezTo>
                <a:cubicBezTo>
                  <a:pt x="4428" y="16892"/>
                  <a:pt x="4421" y="16863"/>
                  <a:pt x="4440" y="16818"/>
                </a:cubicBezTo>
                <a:cubicBezTo>
                  <a:pt x="4454" y="16785"/>
                  <a:pt x="4475" y="16750"/>
                  <a:pt x="4490" y="16718"/>
                </a:cubicBezTo>
                <a:cubicBezTo>
                  <a:pt x="4508" y="16679"/>
                  <a:pt x="4516" y="16631"/>
                  <a:pt x="4539" y="16594"/>
                </a:cubicBezTo>
                <a:cubicBezTo>
                  <a:pt x="4562" y="16557"/>
                  <a:pt x="4591" y="16530"/>
                  <a:pt x="4614" y="16495"/>
                </a:cubicBezTo>
                <a:cubicBezTo>
                  <a:pt x="4636" y="16462"/>
                  <a:pt x="4662" y="16421"/>
                  <a:pt x="4688" y="16396"/>
                </a:cubicBezTo>
                <a:cubicBezTo>
                  <a:pt x="4702" y="16383"/>
                  <a:pt x="4743" y="16363"/>
                  <a:pt x="4762" y="16346"/>
                </a:cubicBezTo>
                <a:cubicBezTo>
                  <a:pt x="4806" y="16306"/>
                  <a:pt x="4837" y="16267"/>
                  <a:pt x="4887" y="16247"/>
                </a:cubicBezTo>
                <a:cubicBezTo>
                  <a:pt x="4918" y="16234"/>
                  <a:pt x="4955" y="16235"/>
                  <a:pt x="4986" y="16222"/>
                </a:cubicBezTo>
                <a:cubicBezTo>
                  <a:pt x="5028" y="16204"/>
                  <a:pt x="5065" y="16186"/>
                  <a:pt x="5110" y="16173"/>
                </a:cubicBezTo>
                <a:cubicBezTo>
                  <a:pt x="5129" y="16168"/>
                  <a:pt x="5199" y="16149"/>
                  <a:pt x="5209" y="16148"/>
                </a:cubicBezTo>
                <a:cubicBezTo>
                  <a:pt x="5265" y="16142"/>
                  <a:pt x="5289" y="16158"/>
                  <a:pt x="5333" y="16173"/>
                </a:cubicBezTo>
                <a:cubicBezTo>
                  <a:pt x="5383" y="16189"/>
                  <a:pt x="5410" y="16223"/>
                  <a:pt x="5457" y="16247"/>
                </a:cubicBezTo>
                <a:cubicBezTo>
                  <a:pt x="5513" y="16276"/>
                  <a:pt x="5580" y="16312"/>
                  <a:pt x="5631" y="16346"/>
                </a:cubicBezTo>
                <a:cubicBezTo>
                  <a:pt x="5703" y="16394"/>
                  <a:pt x="5773" y="16451"/>
                  <a:pt x="5829" y="16520"/>
                </a:cubicBezTo>
                <a:cubicBezTo>
                  <a:pt x="5855" y="16552"/>
                  <a:pt x="5878" y="16582"/>
                  <a:pt x="5904" y="16619"/>
                </a:cubicBezTo>
                <a:cubicBezTo>
                  <a:pt x="5927" y="16652"/>
                  <a:pt x="5934" y="16687"/>
                  <a:pt x="5953" y="16718"/>
                </a:cubicBezTo>
                <a:cubicBezTo>
                  <a:pt x="5966" y="16740"/>
                  <a:pt x="6006" y="16781"/>
                  <a:pt x="6028" y="16818"/>
                </a:cubicBezTo>
                <a:cubicBezTo>
                  <a:pt x="6051" y="16857"/>
                  <a:pt x="6079" y="16901"/>
                  <a:pt x="6102" y="16942"/>
                </a:cubicBezTo>
                <a:cubicBezTo>
                  <a:pt x="6125" y="16983"/>
                  <a:pt x="6132" y="17025"/>
                  <a:pt x="6152" y="17066"/>
                </a:cubicBezTo>
                <a:cubicBezTo>
                  <a:pt x="6169" y="17100"/>
                  <a:pt x="6185" y="17132"/>
                  <a:pt x="6201" y="17165"/>
                </a:cubicBezTo>
                <a:cubicBezTo>
                  <a:pt x="6222" y="17210"/>
                  <a:pt x="6254" y="17246"/>
                  <a:pt x="6276" y="17289"/>
                </a:cubicBezTo>
                <a:cubicBezTo>
                  <a:pt x="6297" y="17331"/>
                  <a:pt x="6305" y="17373"/>
                  <a:pt x="6325" y="17413"/>
                </a:cubicBezTo>
                <a:cubicBezTo>
                  <a:pt x="6344" y="17451"/>
                  <a:pt x="6384" y="17473"/>
                  <a:pt x="6400" y="17512"/>
                </a:cubicBezTo>
                <a:cubicBezTo>
                  <a:pt x="6421" y="17564"/>
                  <a:pt x="6413" y="17590"/>
                  <a:pt x="6449" y="17636"/>
                </a:cubicBezTo>
                <a:cubicBezTo>
                  <a:pt x="6491" y="17690"/>
                  <a:pt x="6551" y="17727"/>
                  <a:pt x="6598" y="17760"/>
                </a:cubicBezTo>
                <a:cubicBezTo>
                  <a:pt x="6631" y="17784"/>
                  <a:pt x="6665" y="17791"/>
                  <a:pt x="6697" y="17810"/>
                </a:cubicBezTo>
                <a:cubicBezTo>
                  <a:pt x="6739" y="17835"/>
                  <a:pt x="6782" y="17864"/>
                  <a:pt x="6821" y="17884"/>
                </a:cubicBezTo>
                <a:cubicBezTo>
                  <a:pt x="6878" y="17913"/>
                  <a:pt x="6913" y="17918"/>
                  <a:pt x="6970" y="17934"/>
                </a:cubicBezTo>
                <a:cubicBezTo>
                  <a:pt x="7018" y="17947"/>
                  <a:pt x="7061" y="17950"/>
                  <a:pt x="7119" y="17959"/>
                </a:cubicBezTo>
                <a:cubicBezTo>
                  <a:pt x="7159" y="17965"/>
                  <a:pt x="7219" y="17976"/>
                  <a:pt x="7268" y="17983"/>
                </a:cubicBezTo>
                <a:cubicBezTo>
                  <a:pt x="7320" y="17991"/>
                  <a:pt x="7366" y="18025"/>
                  <a:pt x="7417" y="18033"/>
                </a:cubicBezTo>
                <a:cubicBezTo>
                  <a:pt x="7530" y="18051"/>
                  <a:pt x="7692" y="18042"/>
                  <a:pt x="7789" y="18008"/>
                </a:cubicBezTo>
                <a:cubicBezTo>
                  <a:pt x="7825" y="17995"/>
                  <a:pt x="7878" y="17976"/>
                  <a:pt x="7913" y="17959"/>
                </a:cubicBezTo>
                <a:cubicBezTo>
                  <a:pt x="7951" y="17940"/>
                  <a:pt x="7974" y="17906"/>
                  <a:pt x="8012" y="17884"/>
                </a:cubicBezTo>
                <a:cubicBezTo>
                  <a:pt x="8045" y="17865"/>
                  <a:pt x="8079" y="17862"/>
                  <a:pt x="8111" y="17835"/>
                </a:cubicBezTo>
                <a:cubicBezTo>
                  <a:pt x="8153" y="17799"/>
                  <a:pt x="8147" y="17797"/>
                  <a:pt x="8186" y="17760"/>
                </a:cubicBezTo>
                <a:cubicBezTo>
                  <a:pt x="8217" y="17730"/>
                  <a:pt x="8239" y="17686"/>
                  <a:pt x="8260" y="17661"/>
                </a:cubicBezTo>
                <a:cubicBezTo>
                  <a:pt x="8294" y="17621"/>
                  <a:pt x="8309" y="17637"/>
                  <a:pt x="8334" y="17587"/>
                </a:cubicBezTo>
                <a:cubicBezTo>
                  <a:pt x="8348" y="17559"/>
                  <a:pt x="8346" y="17516"/>
                  <a:pt x="8359" y="17487"/>
                </a:cubicBezTo>
                <a:cubicBezTo>
                  <a:pt x="8378" y="17445"/>
                  <a:pt x="8394" y="17407"/>
                  <a:pt x="8409" y="17363"/>
                </a:cubicBezTo>
                <a:cubicBezTo>
                  <a:pt x="8409" y="17362"/>
                  <a:pt x="8426" y="17314"/>
                  <a:pt x="8434" y="17289"/>
                </a:cubicBezTo>
              </a:path>
              <a:path w="5507" h="2630">
                <a:moveTo>
                  <a:pt x="4217" y="17388"/>
                </a:moveTo>
                <a:cubicBezTo>
                  <a:pt x="4217" y="17413"/>
                  <a:pt x="4217" y="17421"/>
                  <a:pt x="4217" y="17438"/>
                </a:cubicBezTo>
              </a:path>
              <a:path w="5507" h="2630">
                <a:moveTo>
                  <a:pt x="4167" y="17512"/>
                </a:moveTo>
                <a:cubicBezTo>
                  <a:pt x="4147" y="17566"/>
                  <a:pt x="4128" y="17637"/>
                  <a:pt x="4118" y="17686"/>
                </a:cubicBezTo>
                <a:cubicBezTo>
                  <a:pt x="4118" y="17702"/>
                  <a:pt x="4118" y="17719"/>
                  <a:pt x="4118" y="17735"/>
                </a:cubicBezTo>
              </a:path>
              <a:path w="5507" h="2630">
                <a:moveTo>
                  <a:pt x="4068" y="17785"/>
                </a:moveTo>
                <a:cubicBezTo>
                  <a:pt x="4058" y="17824"/>
                  <a:pt x="4043" y="17840"/>
                  <a:pt x="4043" y="17884"/>
                </a:cubicBezTo>
                <a:cubicBezTo>
                  <a:pt x="4018" y="17884"/>
                  <a:pt x="4010" y="17884"/>
                  <a:pt x="4018" y="17909"/>
                </a:cubicBezTo>
              </a:path>
              <a:path w="5507" h="2630">
                <a:moveTo>
                  <a:pt x="3969" y="17959"/>
                </a:moveTo>
                <a:cubicBezTo>
                  <a:pt x="3940" y="17996"/>
                  <a:pt x="3955" y="18021"/>
                  <a:pt x="3919" y="18033"/>
                </a:cubicBezTo>
              </a:path>
              <a:path w="5507" h="2630">
                <a:moveTo>
                  <a:pt x="3795" y="18107"/>
                </a:moveTo>
                <a:cubicBezTo>
                  <a:pt x="3765" y="18111"/>
                  <a:pt x="3687" y="18133"/>
                  <a:pt x="3671" y="18157"/>
                </a:cubicBezTo>
                <a:cubicBezTo>
                  <a:pt x="3671" y="18165"/>
                  <a:pt x="3671" y="18174"/>
                  <a:pt x="3671" y="18182"/>
                </a:cubicBezTo>
              </a:path>
              <a:path w="5507" h="2630">
                <a:moveTo>
                  <a:pt x="3597" y="18207"/>
                </a:moveTo>
                <a:cubicBezTo>
                  <a:pt x="3562" y="18207"/>
                  <a:pt x="3523" y="18213"/>
                  <a:pt x="3497" y="18231"/>
                </a:cubicBezTo>
                <a:cubicBezTo>
                  <a:pt x="3475" y="18254"/>
                  <a:pt x="3470" y="18262"/>
                  <a:pt x="3448" y="18256"/>
                </a:cubicBezTo>
              </a:path>
              <a:path w="5507" h="2630">
                <a:moveTo>
                  <a:pt x="4738" y="16520"/>
                </a:moveTo>
                <a:cubicBezTo>
                  <a:pt x="4738" y="16564"/>
                  <a:pt x="4726" y="16582"/>
                  <a:pt x="4762" y="16594"/>
                </a:cubicBezTo>
              </a:path>
              <a:path w="5507" h="2630">
                <a:moveTo>
                  <a:pt x="4787" y="16743"/>
                </a:moveTo>
                <a:cubicBezTo>
                  <a:pt x="4787" y="16768"/>
                  <a:pt x="4787" y="16776"/>
                  <a:pt x="4787" y="16793"/>
                </a:cubicBezTo>
              </a:path>
              <a:path w="5507" h="2630">
                <a:moveTo>
                  <a:pt x="4812" y="16842"/>
                </a:moveTo>
                <a:cubicBezTo>
                  <a:pt x="4812" y="16896"/>
                  <a:pt x="4824" y="16879"/>
                  <a:pt x="4837" y="16917"/>
                </a:cubicBezTo>
              </a:path>
              <a:path w="5507" h="2630">
                <a:moveTo>
                  <a:pt x="4837" y="16966"/>
                </a:moveTo>
                <a:cubicBezTo>
                  <a:pt x="4837" y="16991"/>
                  <a:pt x="4837" y="16999"/>
                  <a:pt x="4837" y="17016"/>
                </a:cubicBezTo>
              </a:path>
              <a:path w="5507" h="2630">
                <a:moveTo>
                  <a:pt x="4862" y="17090"/>
                </a:moveTo>
                <a:cubicBezTo>
                  <a:pt x="4862" y="17115"/>
                  <a:pt x="4862" y="17123"/>
                  <a:pt x="4862" y="17140"/>
                </a:cubicBezTo>
              </a:path>
              <a:path w="5507" h="2630">
                <a:moveTo>
                  <a:pt x="4862" y="17214"/>
                </a:moveTo>
                <a:cubicBezTo>
                  <a:pt x="4872" y="17253"/>
                  <a:pt x="4887" y="17269"/>
                  <a:pt x="4887" y="17314"/>
                </a:cubicBezTo>
              </a:path>
              <a:path w="5507" h="2630">
                <a:moveTo>
                  <a:pt x="5779" y="16520"/>
                </a:moveTo>
                <a:cubicBezTo>
                  <a:pt x="5779" y="16545"/>
                  <a:pt x="5779" y="16569"/>
                  <a:pt x="5779" y="16594"/>
                </a:cubicBezTo>
              </a:path>
              <a:path w="5507" h="2630">
                <a:moveTo>
                  <a:pt x="5779" y="16669"/>
                </a:moveTo>
                <a:cubicBezTo>
                  <a:pt x="5789" y="16708"/>
                  <a:pt x="5804" y="16723"/>
                  <a:pt x="5804" y="16768"/>
                </a:cubicBezTo>
              </a:path>
              <a:path w="5507" h="2630">
                <a:moveTo>
                  <a:pt x="5779" y="16867"/>
                </a:moveTo>
                <a:cubicBezTo>
                  <a:pt x="5779" y="16892"/>
                  <a:pt x="5779" y="16917"/>
                  <a:pt x="5779" y="16942"/>
                </a:cubicBezTo>
              </a:path>
              <a:path w="5507" h="2630">
                <a:moveTo>
                  <a:pt x="5804" y="16966"/>
                </a:moveTo>
                <a:cubicBezTo>
                  <a:pt x="5804" y="17026"/>
                  <a:pt x="5797" y="17023"/>
                  <a:pt x="5829" y="17066"/>
                </a:cubicBezTo>
              </a:path>
              <a:path w="5507" h="2630">
                <a:moveTo>
                  <a:pt x="5829" y="17165"/>
                </a:moveTo>
                <a:cubicBezTo>
                  <a:pt x="5829" y="17206"/>
                  <a:pt x="5829" y="17248"/>
                  <a:pt x="5829" y="17289"/>
                </a:cubicBezTo>
              </a:path>
              <a:path w="5507" h="2630">
                <a:moveTo>
                  <a:pt x="4465" y="17512"/>
                </a:moveTo>
                <a:cubicBezTo>
                  <a:pt x="4465" y="17558"/>
                  <a:pt x="4485" y="17571"/>
                  <a:pt x="4490" y="17611"/>
                </a:cubicBezTo>
                <a:cubicBezTo>
                  <a:pt x="4494" y="17648"/>
                  <a:pt x="4465" y="17687"/>
                  <a:pt x="4465" y="17735"/>
                </a:cubicBezTo>
                <a:cubicBezTo>
                  <a:pt x="4465" y="17770"/>
                  <a:pt x="4452" y="17815"/>
                  <a:pt x="4490" y="17835"/>
                </a:cubicBezTo>
                <a:cubicBezTo>
                  <a:pt x="4531" y="17856"/>
                  <a:pt x="4585" y="17819"/>
                  <a:pt x="4614" y="17810"/>
                </a:cubicBezTo>
                <a:cubicBezTo>
                  <a:pt x="4646" y="17800"/>
                  <a:pt x="4682" y="17788"/>
                  <a:pt x="4713" y="17785"/>
                </a:cubicBezTo>
                <a:cubicBezTo>
                  <a:pt x="4721" y="17785"/>
                  <a:pt x="4730" y="17785"/>
                  <a:pt x="4738" y="17785"/>
                </a:cubicBezTo>
              </a:path>
              <a:path w="5507" h="2630">
                <a:moveTo>
                  <a:pt x="4589" y="17735"/>
                </a:moveTo>
                <a:cubicBezTo>
                  <a:pt x="4589" y="17790"/>
                  <a:pt x="4601" y="17806"/>
                  <a:pt x="4614" y="17859"/>
                </a:cubicBezTo>
                <a:cubicBezTo>
                  <a:pt x="4614" y="17884"/>
                  <a:pt x="4614" y="17892"/>
                  <a:pt x="4614" y="17909"/>
                </a:cubicBezTo>
              </a:path>
              <a:path w="5507" h="2630">
                <a:moveTo>
                  <a:pt x="4887" y="17562"/>
                </a:moveTo>
                <a:cubicBezTo>
                  <a:pt x="4887" y="17537"/>
                  <a:pt x="4887" y="17529"/>
                  <a:pt x="4911" y="17537"/>
                </a:cubicBezTo>
                <a:cubicBezTo>
                  <a:pt x="4863" y="17549"/>
                  <a:pt x="4862" y="17595"/>
                  <a:pt x="4837" y="17611"/>
                </a:cubicBezTo>
                <a:cubicBezTo>
                  <a:pt x="4805" y="17632"/>
                  <a:pt x="4812" y="17635"/>
                  <a:pt x="4812" y="17686"/>
                </a:cubicBezTo>
                <a:cubicBezTo>
                  <a:pt x="4812" y="17729"/>
                  <a:pt x="4818" y="17745"/>
                  <a:pt x="4862" y="17760"/>
                </a:cubicBezTo>
                <a:cubicBezTo>
                  <a:pt x="4899" y="17772"/>
                  <a:pt x="4930" y="17782"/>
                  <a:pt x="4961" y="17810"/>
                </a:cubicBezTo>
                <a:cubicBezTo>
                  <a:pt x="4992" y="17838"/>
                  <a:pt x="4986" y="17846"/>
                  <a:pt x="4986" y="17884"/>
                </a:cubicBezTo>
                <a:cubicBezTo>
                  <a:pt x="4945" y="17884"/>
                  <a:pt x="4892" y="17901"/>
                  <a:pt x="4887" y="17859"/>
                </a:cubicBezTo>
                <a:cubicBezTo>
                  <a:pt x="4882" y="17818"/>
                  <a:pt x="4925" y="17794"/>
                  <a:pt x="4936" y="17760"/>
                </a:cubicBezTo>
                <a:cubicBezTo>
                  <a:pt x="4949" y="17720"/>
                  <a:pt x="4952" y="17697"/>
                  <a:pt x="4986" y="17686"/>
                </a:cubicBezTo>
              </a:path>
              <a:path w="5507" h="2630">
                <a:moveTo>
                  <a:pt x="5110" y="17859"/>
                </a:moveTo>
                <a:lnTo>
                  <a:pt x="5110" y="17859"/>
                </a:lnTo>
                <a:lnTo>
                  <a:pt x="5110" y="17859"/>
                </a:lnTo>
                <a:lnTo>
                  <a:pt x="5110" y="17859"/>
                </a:lnTo>
              </a:path>
              <a:path w="5507" h="2630">
                <a:moveTo>
                  <a:pt x="5234" y="17562"/>
                </a:moveTo>
                <a:cubicBezTo>
                  <a:pt x="5242" y="17554"/>
                  <a:pt x="5251" y="17545"/>
                  <a:pt x="5259" y="17537"/>
                </a:cubicBezTo>
                <a:cubicBezTo>
                  <a:pt x="5259" y="17583"/>
                  <a:pt x="5239" y="17595"/>
                  <a:pt x="5234" y="17636"/>
                </a:cubicBezTo>
                <a:cubicBezTo>
                  <a:pt x="5226" y="17705"/>
                  <a:pt x="5214" y="17832"/>
                  <a:pt x="5259" y="17884"/>
                </a:cubicBezTo>
                <a:cubicBezTo>
                  <a:pt x="5303" y="17935"/>
                  <a:pt x="5314" y="17899"/>
                  <a:pt x="5358" y="17884"/>
                </a:cubicBezTo>
                <a:cubicBezTo>
                  <a:pt x="5406" y="17868"/>
                  <a:pt x="5407" y="17862"/>
                  <a:pt x="5407" y="17810"/>
                </a:cubicBezTo>
                <a:cubicBezTo>
                  <a:pt x="5407" y="17761"/>
                  <a:pt x="5354" y="17741"/>
                  <a:pt x="5308" y="17760"/>
                </a:cubicBezTo>
                <a:cubicBezTo>
                  <a:pt x="5300" y="17768"/>
                  <a:pt x="5291" y="17777"/>
                  <a:pt x="5283" y="1778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6760" y="660240"/>
            <a:ext cx="714240" cy="260640"/>
          </a:xfrm>
          <a:custGeom>
            <a:avLst/>
            <a:gdLst/>
            <a:ahLst/>
            <a:rect l="l" t="t" r="r" b="b"/>
            <a:pathLst>
              <a:path w="1986" h="720">
                <a:moveTo>
                  <a:pt x="17190" y="2307"/>
                </a:moveTo>
                <a:cubicBezTo>
                  <a:pt x="17211" y="2255"/>
                  <a:pt x="17214" y="2236"/>
                  <a:pt x="17214" y="2183"/>
                </a:cubicBezTo>
                <a:cubicBezTo>
                  <a:pt x="17214" y="2175"/>
                  <a:pt x="17214" y="2166"/>
                  <a:pt x="17214" y="2158"/>
                </a:cubicBezTo>
                <a:cubicBezTo>
                  <a:pt x="17161" y="2158"/>
                  <a:pt x="17104" y="2164"/>
                  <a:pt x="17066" y="2208"/>
                </a:cubicBezTo>
                <a:cubicBezTo>
                  <a:pt x="17031" y="2249"/>
                  <a:pt x="16979" y="2376"/>
                  <a:pt x="16991" y="2431"/>
                </a:cubicBezTo>
                <a:cubicBezTo>
                  <a:pt x="17009" y="2510"/>
                  <a:pt x="17103" y="2480"/>
                  <a:pt x="17165" y="2480"/>
                </a:cubicBezTo>
                <a:cubicBezTo>
                  <a:pt x="17209" y="2480"/>
                  <a:pt x="17222" y="2483"/>
                  <a:pt x="17239" y="2456"/>
                </a:cubicBezTo>
              </a:path>
              <a:path w="1986" h="720">
                <a:moveTo>
                  <a:pt x="17338" y="2356"/>
                </a:moveTo>
                <a:cubicBezTo>
                  <a:pt x="17369" y="2346"/>
                  <a:pt x="17374" y="2324"/>
                  <a:pt x="17413" y="2307"/>
                </a:cubicBezTo>
                <a:cubicBezTo>
                  <a:pt x="17491" y="2273"/>
                  <a:pt x="17551" y="2259"/>
                  <a:pt x="17611" y="2332"/>
                </a:cubicBezTo>
                <a:cubicBezTo>
                  <a:pt x="17644" y="2372"/>
                  <a:pt x="17702" y="2514"/>
                  <a:pt x="17636" y="2555"/>
                </a:cubicBezTo>
                <a:cubicBezTo>
                  <a:pt x="17594" y="2581"/>
                  <a:pt x="17510" y="2537"/>
                  <a:pt x="17487" y="2505"/>
                </a:cubicBezTo>
                <a:cubicBezTo>
                  <a:pt x="17479" y="2489"/>
                  <a:pt x="17470" y="2472"/>
                  <a:pt x="17462" y="2456"/>
                </a:cubicBezTo>
              </a:path>
              <a:path w="1986" h="720">
                <a:moveTo>
                  <a:pt x="17810" y="2133"/>
                </a:moveTo>
                <a:cubicBezTo>
                  <a:pt x="17810" y="2092"/>
                  <a:pt x="17810" y="2084"/>
                  <a:pt x="17810" y="2059"/>
                </a:cubicBezTo>
                <a:cubicBezTo>
                  <a:pt x="17765" y="2104"/>
                  <a:pt x="17711" y="2123"/>
                  <a:pt x="17686" y="2183"/>
                </a:cubicBezTo>
                <a:cubicBezTo>
                  <a:pt x="17658" y="2252"/>
                  <a:pt x="17743" y="2280"/>
                  <a:pt x="17785" y="2282"/>
                </a:cubicBezTo>
                <a:cubicBezTo>
                  <a:pt x="17857" y="2285"/>
                  <a:pt x="17901" y="2297"/>
                  <a:pt x="17959" y="2332"/>
                </a:cubicBezTo>
                <a:cubicBezTo>
                  <a:pt x="17942" y="2399"/>
                  <a:pt x="17899" y="2381"/>
                  <a:pt x="17835" y="2381"/>
                </a:cubicBezTo>
                <a:cubicBezTo>
                  <a:pt x="17818" y="2381"/>
                  <a:pt x="17802" y="2381"/>
                  <a:pt x="17785" y="2381"/>
                </a:cubicBezTo>
              </a:path>
              <a:path w="1986" h="720">
                <a:moveTo>
                  <a:pt x="18058" y="1860"/>
                </a:moveTo>
                <a:cubicBezTo>
                  <a:pt x="18108" y="1848"/>
                  <a:pt x="18122" y="1836"/>
                  <a:pt x="18182" y="1836"/>
                </a:cubicBezTo>
                <a:cubicBezTo>
                  <a:pt x="18213" y="1836"/>
                  <a:pt x="18271" y="1833"/>
                  <a:pt x="18256" y="1885"/>
                </a:cubicBezTo>
                <a:cubicBezTo>
                  <a:pt x="18238" y="1949"/>
                  <a:pt x="18178" y="1972"/>
                  <a:pt x="18157" y="2034"/>
                </a:cubicBezTo>
                <a:cubicBezTo>
                  <a:pt x="18130" y="2114"/>
                  <a:pt x="18236" y="2068"/>
                  <a:pt x="18256" y="2059"/>
                </a:cubicBezTo>
                <a:cubicBezTo>
                  <a:pt x="18303" y="2037"/>
                  <a:pt x="18367" y="2009"/>
                  <a:pt x="18405" y="1984"/>
                </a:cubicBezTo>
                <a:cubicBezTo>
                  <a:pt x="18413" y="1976"/>
                  <a:pt x="18422" y="1968"/>
                  <a:pt x="18430" y="1960"/>
                </a:cubicBezTo>
              </a:path>
              <a:path w="1986" h="720">
                <a:moveTo>
                  <a:pt x="18653" y="1860"/>
                </a:moveTo>
                <a:cubicBezTo>
                  <a:pt x="18722" y="1832"/>
                  <a:pt x="18749" y="1814"/>
                  <a:pt x="18802" y="1885"/>
                </a:cubicBezTo>
                <a:cubicBezTo>
                  <a:pt x="18835" y="1928"/>
                  <a:pt x="18842" y="2032"/>
                  <a:pt x="18827" y="2084"/>
                </a:cubicBezTo>
                <a:cubicBezTo>
                  <a:pt x="18810" y="2143"/>
                  <a:pt x="18762" y="2179"/>
                  <a:pt x="18703" y="2183"/>
                </a:cubicBezTo>
                <a:cubicBezTo>
                  <a:pt x="18637" y="2187"/>
                  <a:pt x="18571" y="2155"/>
                  <a:pt x="18554" y="2084"/>
                </a:cubicBezTo>
                <a:cubicBezTo>
                  <a:pt x="18536" y="2006"/>
                  <a:pt x="18566" y="1933"/>
                  <a:pt x="18628" y="1885"/>
                </a:cubicBezTo>
                <a:cubicBezTo>
                  <a:pt x="18689" y="1838"/>
                  <a:pt x="18768" y="1822"/>
                  <a:pt x="18827" y="1885"/>
                </a:cubicBezTo>
                <a:cubicBezTo>
                  <a:pt x="18905" y="1968"/>
                  <a:pt x="18960" y="2097"/>
                  <a:pt x="18976" y="2208"/>
                </a:cubicBezTo>
                <a:cubicBezTo>
                  <a:pt x="18989" y="2301"/>
                  <a:pt x="18912" y="2385"/>
                  <a:pt x="18827" y="2406"/>
                </a:cubicBezTo>
                <a:cubicBezTo>
                  <a:pt x="18744" y="2427"/>
                  <a:pt x="18665" y="2370"/>
                  <a:pt x="18628" y="2307"/>
                </a:cubicBezTo>
                <a:cubicBezTo>
                  <a:pt x="18590" y="2242"/>
                  <a:pt x="18605" y="2223"/>
                  <a:pt x="18628" y="215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46920" y="750960"/>
            <a:ext cx="90360" cy="52200"/>
          </a:xfrm>
          <a:custGeom>
            <a:avLst/>
            <a:gdLst/>
            <a:ahLst/>
            <a:rect l="l" t="t" r="r" b="b"/>
            <a:pathLst>
              <a:path w="249" h="149">
                <a:moveTo>
                  <a:pt x="19521" y="2108"/>
                </a:moveTo>
                <a:cubicBezTo>
                  <a:pt x="19529" y="2100"/>
                  <a:pt x="19538" y="2092"/>
                  <a:pt x="19546" y="2084"/>
                </a:cubicBezTo>
                <a:cubicBezTo>
                  <a:pt x="19488" y="2084"/>
                  <a:pt x="19451" y="2084"/>
                  <a:pt x="19397" y="2108"/>
                </a:cubicBezTo>
                <a:cubicBezTo>
                  <a:pt x="19348" y="2130"/>
                  <a:pt x="19346" y="2133"/>
                  <a:pt x="19298" y="2133"/>
                </a:cubicBezTo>
              </a:path>
              <a:path w="249" h="149">
                <a:moveTo>
                  <a:pt x="19496" y="2183"/>
                </a:moveTo>
                <a:cubicBezTo>
                  <a:pt x="19536" y="2203"/>
                  <a:pt x="19553" y="2201"/>
                  <a:pt x="19546" y="2232"/>
                </a:cubicBezTo>
                <a:cubicBezTo>
                  <a:pt x="19493" y="2232"/>
                  <a:pt x="19482" y="2225"/>
                  <a:pt x="19422" y="220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04040" y="581040"/>
            <a:ext cx="706320" cy="339840"/>
          </a:xfrm>
          <a:custGeom>
            <a:avLst/>
            <a:gdLst/>
            <a:ahLst/>
            <a:rect l="l" t="t" r="r" b="b"/>
            <a:pathLst>
              <a:path w="1961" h="944">
                <a:moveTo>
                  <a:pt x="20489" y="2034"/>
                </a:moveTo>
                <a:cubicBezTo>
                  <a:pt x="20525" y="2021"/>
                  <a:pt x="20513" y="2004"/>
                  <a:pt x="20513" y="1960"/>
                </a:cubicBezTo>
                <a:cubicBezTo>
                  <a:pt x="20461" y="1973"/>
                  <a:pt x="20402" y="2025"/>
                  <a:pt x="20389" y="2084"/>
                </a:cubicBezTo>
                <a:cubicBezTo>
                  <a:pt x="20373" y="2159"/>
                  <a:pt x="20379" y="2272"/>
                  <a:pt x="20464" y="2307"/>
                </a:cubicBezTo>
                <a:cubicBezTo>
                  <a:pt x="20515" y="2307"/>
                  <a:pt x="20534" y="2306"/>
                  <a:pt x="20563" y="2282"/>
                </a:cubicBezTo>
              </a:path>
              <a:path w="1961" h="944">
                <a:moveTo>
                  <a:pt x="20712" y="2084"/>
                </a:moveTo>
                <a:cubicBezTo>
                  <a:pt x="20757" y="2050"/>
                  <a:pt x="20782" y="2049"/>
                  <a:pt x="20836" y="2084"/>
                </a:cubicBezTo>
                <a:cubicBezTo>
                  <a:pt x="20891" y="2120"/>
                  <a:pt x="20907" y="2170"/>
                  <a:pt x="20910" y="2232"/>
                </a:cubicBezTo>
                <a:cubicBezTo>
                  <a:pt x="20913" y="2290"/>
                  <a:pt x="20869" y="2341"/>
                  <a:pt x="20811" y="2356"/>
                </a:cubicBezTo>
                <a:cubicBezTo>
                  <a:pt x="20729" y="2377"/>
                  <a:pt x="20692" y="2321"/>
                  <a:pt x="20687" y="2257"/>
                </a:cubicBezTo>
                <a:cubicBezTo>
                  <a:pt x="20687" y="2249"/>
                  <a:pt x="20687" y="2240"/>
                  <a:pt x="20687" y="2232"/>
                </a:cubicBezTo>
              </a:path>
              <a:path w="1961" h="944">
                <a:moveTo>
                  <a:pt x="21084" y="1960"/>
                </a:moveTo>
                <a:cubicBezTo>
                  <a:pt x="21144" y="1923"/>
                  <a:pt x="21221" y="1885"/>
                  <a:pt x="21134" y="1935"/>
                </a:cubicBezTo>
                <a:cubicBezTo>
                  <a:pt x="21078" y="1967"/>
                  <a:pt x="21030" y="2002"/>
                  <a:pt x="21084" y="2059"/>
                </a:cubicBezTo>
                <a:cubicBezTo>
                  <a:pt x="21139" y="2117"/>
                  <a:pt x="21251" y="2135"/>
                  <a:pt x="21332" y="2158"/>
                </a:cubicBezTo>
                <a:cubicBezTo>
                  <a:pt x="21360" y="2158"/>
                  <a:pt x="21371" y="2160"/>
                  <a:pt x="21382" y="2183"/>
                </a:cubicBezTo>
                <a:cubicBezTo>
                  <a:pt x="21369" y="2223"/>
                  <a:pt x="21334" y="2229"/>
                  <a:pt x="21282" y="2232"/>
                </a:cubicBezTo>
                <a:cubicBezTo>
                  <a:pt x="21241" y="2232"/>
                  <a:pt x="21233" y="2232"/>
                  <a:pt x="21208" y="2232"/>
                </a:cubicBezTo>
              </a:path>
              <a:path w="1961" h="944">
                <a:moveTo>
                  <a:pt x="21729" y="1836"/>
                </a:moveTo>
                <a:cubicBezTo>
                  <a:pt x="21769" y="1823"/>
                  <a:pt x="21754" y="1802"/>
                  <a:pt x="21754" y="1860"/>
                </a:cubicBezTo>
                <a:cubicBezTo>
                  <a:pt x="21754" y="1912"/>
                  <a:pt x="21737" y="1947"/>
                  <a:pt x="21704" y="1984"/>
                </a:cubicBezTo>
                <a:cubicBezTo>
                  <a:pt x="21673" y="2018"/>
                  <a:pt x="21648" y="2009"/>
                  <a:pt x="21605" y="2009"/>
                </a:cubicBezTo>
                <a:cubicBezTo>
                  <a:pt x="21576" y="1970"/>
                  <a:pt x="21565" y="1912"/>
                  <a:pt x="21580" y="1860"/>
                </a:cubicBezTo>
                <a:cubicBezTo>
                  <a:pt x="21596" y="1805"/>
                  <a:pt x="21646" y="1727"/>
                  <a:pt x="21704" y="1712"/>
                </a:cubicBezTo>
                <a:cubicBezTo>
                  <a:pt x="21789" y="1690"/>
                  <a:pt x="21835" y="1723"/>
                  <a:pt x="21878" y="1786"/>
                </a:cubicBezTo>
                <a:cubicBezTo>
                  <a:pt x="21941" y="1878"/>
                  <a:pt x="21993" y="2018"/>
                  <a:pt x="21977" y="2133"/>
                </a:cubicBezTo>
                <a:cubicBezTo>
                  <a:pt x="21967" y="2200"/>
                  <a:pt x="21883" y="2311"/>
                  <a:pt x="21803" y="2307"/>
                </a:cubicBezTo>
                <a:cubicBezTo>
                  <a:pt x="21695" y="2302"/>
                  <a:pt x="21602" y="2226"/>
                  <a:pt x="21555" y="2133"/>
                </a:cubicBezTo>
                <a:cubicBezTo>
                  <a:pt x="21504" y="2032"/>
                  <a:pt x="21531" y="1991"/>
                  <a:pt x="21580" y="1910"/>
                </a:cubicBezTo>
              </a:path>
              <a:path w="1961" h="944">
                <a:moveTo>
                  <a:pt x="21828" y="1712"/>
                </a:moveTo>
                <a:cubicBezTo>
                  <a:pt x="21962" y="1600"/>
                  <a:pt x="21982" y="1588"/>
                  <a:pt x="22101" y="1712"/>
                </a:cubicBezTo>
                <a:cubicBezTo>
                  <a:pt x="22222" y="1838"/>
                  <a:pt x="22245" y="1962"/>
                  <a:pt x="22250" y="2133"/>
                </a:cubicBezTo>
                <a:cubicBezTo>
                  <a:pt x="22253" y="2237"/>
                  <a:pt x="22181" y="2328"/>
                  <a:pt x="22076" y="2356"/>
                </a:cubicBezTo>
                <a:cubicBezTo>
                  <a:pt x="22000" y="2356"/>
                  <a:pt x="21974" y="2357"/>
                  <a:pt x="21927" y="2381"/>
                </a:cubicBezTo>
              </a:path>
              <a:path w="1961" h="944">
                <a:moveTo>
                  <a:pt x="20439" y="1811"/>
                </a:moveTo>
                <a:cubicBezTo>
                  <a:pt x="20464" y="1811"/>
                  <a:pt x="20472" y="1811"/>
                  <a:pt x="20464" y="1786"/>
                </a:cubicBezTo>
                <a:cubicBezTo>
                  <a:pt x="20443" y="1722"/>
                  <a:pt x="20416" y="1780"/>
                  <a:pt x="20389" y="1811"/>
                </a:cubicBezTo>
                <a:cubicBezTo>
                  <a:pt x="20304" y="1908"/>
                  <a:pt x="20278" y="2053"/>
                  <a:pt x="20290" y="2183"/>
                </a:cubicBezTo>
                <a:cubicBezTo>
                  <a:pt x="20300" y="2287"/>
                  <a:pt x="20304" y="2475"/>
                  <a:pt x="20365" y="2555"/>
                </a:cubicBezTo>
                <a:cubicBezTo>
                  <a:pt x="20373" y="2555"/>
                  <a:pt x="20381" y="2555"/>
                  <a:pt x="20389" y="255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51920" y="419040"/>
            <a:ext cx="204840" cy="117360"/>
          </a:xfrm>
          <a:custGeom>
            <a:avLst/>
            <a:gdLst/>
            <a:ahLst/>
            <a:rect l="l" t="t" r="r" b="b"/>
            <a:pathLst>
              <a:path w="571" h="323">
                <a:moveTo>
                  <a:pt x="22920" y="1315"/>
                </a:moveTo>
                <a:cubicBezTo>
                  <a:pt x="22933" y="1262"/>
                  <a:pt x="22956" y="1274"/>
                  <a:pt x="22994" y="1240"/>
                </a:cubicBezTo>
                <a:cubicBezTo>
                  <a:pt x="23034" y="1204"/>
                  <a:pt x="23091" y="1179"/>
                  <a:pt x="23143" y="1166"/>
                </a:cubicBezTo>
                <a:cubicBezTo>
                  <a:pt x="23175" y="1158"/>
                  <a:pt x="23215" y="1194"/>
                  <a:pt x="23217" y="1215"/>
                </a:cubicBezTo>
                <a:cubicBezTo>
                  <a:pt x="23223" y="1290"/>
                  <a:pt x="23192" y="1302"/>
                  <a:pt x="23168" y="1364"/>
                </a:cubicBezTo>
                <a:cubicBezTo>
                  <a:pt x="23154" y="1399"/>
                  <a:pt x="23143" y="1421"/>
                  <a:pt x="23143" y="1463"/>
                </a:cubicBezTo>
                <a:cubicBezTo>
                  <a:pt x="23143" y="1471"/>
                  <a:pt x="23143" y="1480"/>
                  <a:pt x="23143" y="1488"/>
                </a:cubicBezTo>
                <a:cubicBezTo>
                  <a:pt x="23240" y="1488"/>
                  <a:pt x="23333" y="1480"/>
                  <a:pt x="23416" y="1463"/>
                </a:cubicBezTo>
                <a:cubicBezTo>
                  <a:pt x="23457" y="1463"/>
                  <a:pt x="23465" y="1463"/>
                  <a:pt x="23490" y="146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614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963800" y="2509920"/>
            <a:ext cx="706320" cy="204840"/>
          </a:xfrm>
          <a:custGeom>
            <a:avLst/>
            <a:gdLst/>
            <a:ahLst/>
            <a:rect l="l" t="t" r="r" b="b"/>
            <a:pathLst>
              <a:path w="1961" h="572">
                <a:moveTo>
                  <a:pt x="5507" y="7169"/>
                </a:moveTo>
                <a:cubicBezTo>
                  <a:pt x="5507" y="7096"/>
                  <a:pt x="5502" y="7055"/>
                  <a:pt x="5482" y="6995"/>
                </a:cubicBezTo>
                <a:cubicBezTo>
                  <a:pt x="5464" y="6941"/>
                  <a:pt x="5458" y="7091"/>
                  <a:pt x="5457" y="7119"/>
                </a:cubicBezTo>
                <a:cubicBezTo>
                  <a:pt x="5453" y="7230"/>
                  <a:pt x="5444" y="7366"/>
                  <a:pt x="5507" y="7466"/>
                </a:cubicBezTo>
                <a:cubicBezTo>
                  <a:pt x="5547" y="7530"/>
                  <a:pt x="5591" y="7533"/>
                  <a:pt x="5655" y="7541"/>
                </a:cubicBezTo>
              </a:path>
              <a:path w="1961" h="572">
                <a:moveTo>
                  <a:pt x="5755" y="7342"/>
                </a:moveTo>
                <a:cubicBezTo>
                  <a:pt x="5713" y="7270"/>
                  <a:pt x="5713" y="7268"/>
                  <a:pt x="5631" y="7268"/>
                </a:cubicBezTo>
                <a:cubicBezTo>
                  <a:pt x="5575" y="7268"/>
                  <a:pt x="5561" y="7285"/>
                  <a:pt x="5507" y="7293"/>
                </a:cubicBezTo>
              </a:path>
              <a:path w="1961" h="572">
                <a:moveTo>
                  <a:pt x="5804" y="7268"/>
                </a:moveTo>
                <a:cubicBezTo>
                  <a:pt x="5829" y="7268"/>
                  <a:pt x="5837" y="7268"/>
                  <a:pt x="5854" y="7268"/>
                </a:cubicBezTo>
                <a:cubicBezTo>
                  <a:pt x="5830" y="7300"/>
                  <a:pt x="5789" y="7350"/>
                  <a:pt x="5779" y="7392"/>
                </a:cubicBezTo>
                <a:cubicBezTo>
                  <a:pt x="5767" y="7444"/>
                  <a:pt x="5776" y="7485"/>
                  <a:pt x="5829" y="7491"/>
                </a:cubicBezTo>
                <a:cubicBezTo>
                  <a:pt x="5889" y="7498"/>
                  <a:pt x="5877" y="7411"/>
                  <a:pt x="5904" y="7392"/>
                </a:cubicBezTo>
                <a:cubicBezTo>
                  <a:pt x="5912" y="7392"/>
                  <a:pt x="5920" y="7392"/>
                  <a:pt x="5928" y="7392"/>
                </a:cubicBezTo>
                <a:cubicBezTo>
                  <a:pt x="5939" y="7435"/>
                  <a:pt x="5969" y="7457"/>
                  <a:pt x="6003" y="7491"/>
                </a:cubicBezTo>
              </a:path>
              <a:path w="1961" h="572">
                <a:moveTo>
                  <a:pt x="6052" y="7293"/>
                </a:moveTo>
                <a:cubicBezTo>
                  <a:pt x="6086" y="7337"/>
                  <a:pt x="6094" y="7360"/>
                  <a:pt x="6102" y="7417"/>
                </a:cubicBezTo>
                <a:cubicBezTo>
                  <a:pt x="6136" y="7417"/>
                  <a:pt x="6182" y="7430"/>
                  <a:pt x="6201" y="7392"/>
                </a:cubicBezTo>
                <a:cubicBezTo>
                  <a:pt x="6211" y="7372"/>
                  <a:pt x="6231" y="7296"/>
                  <a:pt x="6276" y="7317"/>
                </a:cubicBezTo>
                <a:cubicBezTo>
                  <a:pt x="6320" y="7337"/>
                  <a:pt x="6347" y="7407"/>
                  <a:pt x="6375" y="7441"/>
                </a:cubicBezTo>
              </a:path>
              <a:path w="1961" h="572">
                <a:moveTo>
                  <a:pt x="6672" y="7045"/>
                </a:moveTo>
                <a:cubicBezTo>
                  <a:pt x="6719" y="7013"/>
                  <a:pt x="6697" y="7046"/>
                  <a:pt x="6697" y="7094"/>
                </a:cubicBezTo>
                <a:cubicBezTo>
                  <a:pt x="6697" y="7136"/>
                  <a:pt x="6681" y="7189"/>
                  <a:pt x="6648" y="7193"/>
                </a:cubicBezTo>
                <a:cubicBezTo>
                  <a:pt x="6640" y="7193"/>
                  <a:pt x="6631" y="7193"/>
                  <a:pt x="6623" y="7193"/>
                </a:cubicBezTo>
                <a:cubicBezTo>
                  <a:pt x="6574" y="7181"/>
                  <a:pt x="6554" y="7150"/>
                  <a:pt x="6573" y="7094"/>
                </a:cubicBezTo>
                <a:cubicBezTo>
                  <a:pt x="6586" y="7055"/>
                  <a:pt x="6642" y="6965"/>
                  <a:pt x="6697" y="6995"/>
                </a:cubicBezTo>
                <a:cubicBezTo>
                  <a:pt x="6764" y="7031"/>
                  <a:pt x="6833" y="7174"/>
                  <a:pt x="6846" y="7243"/>
                </a:cubicBezTo>
                <a:cubicBezTo>
                  <a:pt x="6860" y="7317"/>
                  <a:pt x="6857" y="7417"/>
                  <a:pt x="6772" y="7441"/>
                </a:cubicBezTo>
                <a:cubicBezTo>
                  <a:pt x="6708" y="7459"/>
                  <a:pt x="6616" y="7402"/>
                  <a:pt x="6598" y="7342"/>
                </a:cubicBezTo>
                <a:cubicBezTo>
                  <a:pt x="6578" y="7275"/>
                  <a:pt x="6605" y="7236"/>
                  <a:pt x="6648" y="7193"/>
                </a:cubicBezTo>
              </a:path>
              <a:path w="1961" h="572">
                <a:moveTo>
                  <a:pt x="7293" y="7218"/>
                </a:moveTo>
                <a:cubicBezTo>
                  <a:pt x="7309" y="7210"/>
                  <a:pt x="7326" y="7201"/>
                  <a:pt x="7342" y="7193"/>
                </a:cubicBezTo>
                <a:cubicBezTo>
                  <a:pt x="7294" y="7193"/>
                  <a:pt x="7281" y="7189"/>
                  <a:pt x="7243" y="7218"/>
                </a:cubicBezTo>
              </a:path>
              <a:path w="1961" h="572">
                <a:moveTo>
                  <a:pt x="7317" y="7317"/>
                </a:moveTo>
                <a:cubicBezTo>
                  <a:pt x="7394" y="7348"/>
                  <a:pt x="7417" y="7338"/>
                  <a:pt x="7417" y="7417"/>
                </a:cubicBezTo>
                <a:cubicBezTo>
                  <a:pt x="7389" y="7417"/>
                  <a:pt x="7378" y="7419"/>
                  <a:pt x="7367" y="744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54240" y="2374920"/>
            <a:ext cx="517680" cy="465120"/>
          </a:xfrm>
          <a:custGeom>
            <a:avLst/>
            <a:gdLst/>
            <a:ahLst/>
            <a:rect l="l" t="t" r="r" b="b"/>
            <a:pathLst>
              <a:path w="1440" h="1291">
                <a:moveTo>
                  <a:pt x="8632" y="6846"/>
                </a:moveTo>
                <a:cubicBezTo>
                  <a:pt x="8632" y="6821"/>
                  <a:pt x="8632" y="6813"/>
                  <a:pt x="8657" y="6821"/>
                </a:cubicBezTo>
                <a:cubicBezTo>
                  <a:pt x="8596" y="6821"/>
                  <a:pt x="8607" y="6849"/>
                  <a:pt x="8558" y="6871"/>
                </a:cubicBezTo>
                <a:cubicBezTo>
                  <a:pt x="8533" y="6871"/>
                  <a:pt x="8525" y="6871"/>
                  <a:pt x="8533" y="6896"/>
                </a:cubicBezTo>
                <a:cubicBezTo>
                  <a:pt x="8562" y="6940"/>
                  <a:pt x="8605" y="6919"/>
                  <a:pt x="8657" y="6945"/>
                </a:cubicBezTo>
                <a:cubicBezTo>
                  <a:pt x="8705" y="6969"/>
                  <a:pt x="8681" y="7019"/>
                  <a:pt x="8657" y="7045"/>
                </a:cubicBezTo>
                <a:cubicBezTo>
                  <a:pt x="8630" y="7075"/>
                  <a:pt x="8573" y="7091"/>
                  <a:pt x="8533" y="7094"/>
                </a:cubicBezTo>
                <a:cubicBezTo>
                  <a:pt x="8516" y="7094"/>
                  <a:pt x="8500" y="7094"/>
                  <a:pt x="8483" y="7094"/>
                </a:cubicBezTo>
              </a:path>
              <a:path w="1440" h="1291">
                <a:moveTo>
                  <a:pt x="8806" y="6871"/>
                </a:moveTo>
                <a:cubicBezTo>
                  <a:pt x="8885" y="6883"/>
                  <a:pt x="8880" y="6889"/>
                  <a:pt x="8880" y="6970"/>
                </a:cubicBezTo>
                <a:cubicBezTo>
                  <a:pt x="8880" y="6978"/>
                  <a:pt x="8880" y="6987"/>
                  <a:pt x="8880" y="6995"/>
                </a:cubicBezTo>
              </a:path>
              <a:path w="1440" h="1291">
                <a:moveTo>
                  <a:pt x="8855" y="6772"/>
                </a:moveTo>
                <a:cubicBezTo>
                  <a:pt x="8855" y="6714"/>
                  <a:pt x="8855" y="6705"/>
                  <a:pt x="8855" y="6672"/>
                </a:cubicBezTo>
              </a:path>
              <a:path w="1440" h="1291">
                <a:moveTo>
                  <a:pt x="8954" y="6747"/>
                </a:moveTo>
                <a:cubicBezTo>
                  <a:pt x="8966" y="6804"/>
                  <a:pt x="8973" y="6919"/>
                  <a:pt x="9004" y="6970"/>
                </a:cubicBezTo>
                <a:cubicBezTo>
                  <a:pt x="9012" y="6978"/>
                  <a:pt x="9021" y="6987"/>
                  <a:pt x="9029" y="6995"/>
                </a:cubicBezTo>
                <a:cubicBezTo>
                  <a:pt x="9063" y="6961"/>
                  <a:pt x="9089" y="6893"/>
                  <a:pt x="9128" y="6871"/>
                </a:cubicBezTo>
                <a:cubicBezTo>
                  <a:pt x="9170" y="6848"/>
                  <a:pt x="9203" y="6898"/>
                  <a:pt x="9227" y="6921"/>
                </a:cubicBezTo>
                <a:cubicBezTo>
                  <a:pt x="9235" y="6929"/>
                  <a:pt x="9244" y="6937"/>
                  <a:pt x="9252" y="6945"/>
                </a:cubicBezTo>
              </a:path>
              <a:path w="1440" h="1291">
                <a:moveTo>
                  <a:pt x="9897" y="7268"/>
                </a:moveTo>
                <a:cubicBezTo>
                  <a:pt x="9955" y="7268"/>
                  <a:pt x="9831" y="7268"/>
                  <a:pt x="9773" y="7268"/>
                </a:cubicBezTo>
                <a:cubicBezTo>
                  <a:pt x="9629" y="7268"/>
                  <a:pt x="9493" y="7253"/>
                  <a:pt x="9351" y="7243"/>
                </a:cubicBezTo>
                <a:cubicBezTo>
                  <a:pt x="9210" y="7234"/>
                  <a:pt x="9039" y="7223"/>
                  <a:pt x="8905" y="7268"/>
                </a:cubicBezTo>
                <a:cubicBezTo>
                  <a:pt x="8862" y="7282"/>
                  <a:pt x="8838" y="7293"/>
                  <a:pt x="8806" y="7317"/>
                </a:cubicBezTo>
              </a:path>
              <a:path w="1440" h="1291">
                <a:moveTo>
                  <a:pt x="8855" y="7516"/>
                </a:moveTo>
                <a:cubicBezTo>
                  <a:pt x="8855" y="7508"/>
                  <a:pt x="8855" y="7499"/>
                  <a:pt x="8855" y="7491"/>
                </a:cubicBezTo>
                <a:cubicBezTo>
                  <a:pt x="8819" y="7500"/>
                  <a:pt x="8779" y="7529"/>
                  <a:pt x="8756" y="7565"/>
                </a:cubicBezTo>
                <a:cubicBezTo>
                  <a:pt x="8718" y="7624"/>
                  <a:pt x="8720" y="7695"/>
                  <a:pt x="8781" y="7739"/>
                </a:cubicBezTo>
                <a:cubicBezTo>
                  <a:pt x="8838" y="7780"/>
                  <a:pt x="8922" y="7775"/>
                  <a:pt x="8979" y="7739"/>
                </a:cubicBezTo>
                <a:cubicBezTo>
                  <a:pt x="9019" y="7714"/>
                  <a:pt x="9017" y="7683"/>
                  <a:pt x="9054" y="7665"/>
                </a:cubicBezTo>
                <a:cubicBezTo>
                  <a:pt x="9095" y="7645"/>
                  <a:pt x="9156" y="7690"/>
                  <a:pt x="9128" y="7739"/>
                </a:cubicBezTo>
                <a:cubicBezTo>
                  <a:pt x="9118" y="7756"/>
                  <a:pt x="9030" y="7798"/>
                  <a:pt x="9004" y="7789"/>
                </a:cubicBezTo>
                <a:cubicBezTo>
                  <a:pt x="8979" y="7764"/>
                  <a:pt x="8971" y="7756"/>
                  <a:pt x="8954" y="7739"/>
                </a:cubicBezTo>
              </a:path>
              <a:path w="1440" h="1291">
                <a:moveTo>
                  <a:pt x="9203" y="7565"/>
                </a:moveTo>
                <a:cubicBezTo>
                  <a:pt x="9228" y="7565"/>
                  <a:pt x="9252" y="7565"/>
                  <a:pt x="9277" y="7565"/>
                </a:cubicBezTo>
                <a:cubicBezTo>
                  <a:pt x="9270" y="7551"/>
                  <a:pt x="9223" y="7548"/>
                  <a:pt x="9203" y="7590"/>
                </a:cubicBezTo>
                <a:cubicBezTo>
                  <a:pt x="9175" y="7649"/>
                  <a:pt x="9246" y="7666"/>
                  <a:pt x="9277" y="7689"/>
                </a:cubicBezTo>
                <a:cubicBezTo>
                  <a:pt x="9313" y="7716"/>
                  <a:pt x="9341" y="7749"/>
                  <a:pt x="9351" y="7789"/>
                </a:cubicBezTo>
                <a:cubicBezTo>
                  <a:pt x="9308" y="7814"/>
                  <a:pt x="9279" y="7813"/>
                  <a:pt x="9227" y="7813"/>
                </a:cubicBezTo>
              </a:path>
              <a:path w="1440" h="1291">
                <a:moveTo>
                  <a:pt x="9649" y="7491"/>
                </a:moveTo>
                <a:cubicBezTo>
                  <a:pt x="9672" y="7468"/>
                  <a:pt x="9676" y="7460"/>
                  <a:pt x="9699" y="7466"/>
                </a:cubicBezTo>
                <a:cubicBezTo>
                  <a:pt x="9699" y="7517"/>
                  <a:pt x="9698" y="7524"/>
                  <a:pt x="9674" y="7565"/>
                </a:cubicBezTo>
                <a:cubicBezTo>
                  <a:pt x="9639" y="7626"/>
                  <a:pt x="9667" y="7640"/>
                  <a:pt x="9599" y="7640"/>
                </a:cubicBezTo>
                <a:cubicBezTo>
                  <a:pt x="9562" y="7588"/>
                  <a:pt x="9580" y="7585"/>
                  <a:pt x="9624" y="7541"/>
                </a:cubicBezTo>
                <a:cubicBezTo>
                  <a:pt x="9662" y="7503"/>
                  <a:pt x="9755" y="7499"/>
                  <a:pt x="9798" y="7541"/>
                </a:cubicBezTo>
                <a:cubicBezTo>
                  <a:pt x="9843" y="7585"/>
                  <a:pt x="9884" y="7728"/>
                  <a:pt x="9872" y="7789"/>
                </a:cubicBezTo>
                <a:cubicBezTo>
                  <a:pt x="9860" y="7853"/>
                  <a:pt x="9786" y="7902"/>
                  <a:pt x="9723" y="7888"/>
                </a:cubicBezTo>
                <a:cubicBezTo>
                  <a:pt x="9649" y="7871"/>
                  <a:pt x="9603" y="7804"/>
                  <a:pt x="9599" y="7739"/>
                </a:cubicBezTo>
                <a:cubicBezTo>
                  <a:pt x="9599" y="7722"/>
                  <a:pt x="9599" y="7706"/>
                  <a:pt x="9599" y="7689"/>
                </a:cubicBezTo>
              </a:path>
              <a:path w="1440" h="1291">
                <a:moveTo>
                  <a:pt x="9699" y="6648"/>
                </a:moveTo>
                <a:cubicBezTo>
                  <a:pt x="9671" y="6648"/>
                  <a:pt x="9665" y="6646"/>
                  <a:pt x="9699" y="6623"/>
                </a:cubicBezTo>
                <a:cubicBezTo>
                  <a:pt x="9754" y="6580"/>
                  <a:pt x="9764" y="6615"/>
                  <a:pt x="9798" y="6672"/>
                </a:cubicBezTo>
                <a:cubicBezTo>
                  <a:pt x="9816" y="6702"/>
                  <a:pt x="9844" y="6784"/>
                  <a:pt x="9823" y="6821"/>
                </a:cubicBezTo>
                <a:cubicBezTo>
                  <a:pt x="9802" y="6859"/>
                  <a:pt x="9759" y="6846"/>
                  <a:pt x="9723" y="6846"/>
                </a:cubicBezTo>
                <a:cubicBezTo>
                  <a:pt x="9683" y="6846"/>
                  <a:pt x="9652" y="6810"/>
                  <a:pt x="9649" y="6772"/>
                </a:cubicBezTo>
                <a:cubicBezTo>
                  <a:pt x="9646" y="6727"/>
                  <a:pt x="9676" y="6668"/>
                  <a:pt x="9723" y="6648"/>
                </a:cubicBezTo>
                <a:cubicBezTo>
                  <a:pt x="9772" y="6627"/>
                  <a:pt x="9862" y="6739"/>
                  <a:pt x="9872" y="6772"/>
                </a:cubicBezTo>
                <a:cubicBezTo>
                  <a:pt x="9890" y="6832"/>
                  <a:pt x="9883" y="6949"/>
                  <a:pt x="9847" y="6995"/>
                </a:cubicBezTo>
                <a:cubicBezTo>
                  <a:pt x="9808" y="7045"/>
                  <a:pt x="9721" y="7024"/>
                  <a:pt x="9674" y="6995"/>
                </a:cubicBezTo>
                <a:cubicBezTo>
                  <a:pt x="9666" y="6987"/>
                  <a:pt x="9657" y="6978"/>
                  <a:pt x="9649" y="697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81160" y="3143160"/>
            <a:ext cx="10656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5804" y="8905"/>
                </a:moveTo>
                <a:cubicBezTo>
                  <a:pt x="5779" y="8905"/>
                  <a:pt x="5771" y="8905"/>
                  <a:pt x="5779" y="8930"/>
                </a:cubicBezTo>
                <a:cubicBezTo>
                  <a:pt x="5779" y="8879"/>
                  <a:pt x="5770" y="8844"/>
                  <a:pt x="5804" y="8806"/>
                </a:cubicBezTo>
                <a:cubicBezTo>
                  <a:pt x="5836" y="8770"/>
                  <a:pt x="5886" y="8742"/>
                  <a:pt x="5928" y="8731"/>
                </a:cubicBezTo>
                <a:cubicBezTo>
                  <a:pt x="5972" y="8786"/>
                  <a:pt x="5978" y="8811"/>
                  <a:pt x="5978" y="8880"/>
                </a:cubicBezTo>
                <a:cubicBezTo>
                  <a:pt x="5978" y="8940"/>
                  <a:pt x="5945" y="8983"/>
                  <a:pt x="5904" y="9029"/>
                </a:cubicBezTo>
                <a:cubicBezTo>
                  <a:pt x="5854" y="9085"/>
                  <a:pt x="5881" y="9089"/>
                  <a:pt x="5928" y="9128"/>
                </a:cubicBezTo>
                <a:cubicBezTo>
                  <a:pt x="5963" y="9156"/>
                  <a:pt x="6052" y="9148"/>
                  <a:pt x="6077" y="9178"/>
                </a:cubicBezTo>
                <a:cubicBezTo>
                  <a:pt x="6110" y="9218"/>
                  <a:pt x="6055" y="9267"/>
                  <a:pt x="6028" y="9277"/>
                </a:cubicBezTo>
                <a:cubicBezTo>
                  <a:pt x="5985" y="9293"/>
                  <a:pt x="5900" y="9277"/>
                  <a:pt x="5854" y="927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20920" y="3224160"/>
            <a:ext cx="260280" cy="115920"/>
          </a:xfrm>
          <a:custGeom>
            <a:avLst/>
            <a:gdLst/>
            <a:ahLst/>
            <a:rect l="l" t="t" r="r" b="b"/>
            <a:pathLst>
              <a:path w="721" h="324">
                <a:moveTo>
                  <a:pt x="6548" y="8979"/>
                </a:moveTo>
                <a:cubicBezTo>
                  <a:pt x="6556" y="8971"/>
                  <a:pt x="6565" y="8962"/>
                  <a:pt x="6573" y="8954"/>
                </a:cubicBezTo>
                <a:cubicBezTo>
                  <a:pt x="6503" y="8954"/>
                  <a:pt x="6515" y="8974"/>
                  <a:pt x="6474" y="9029"/>
                </a:cubicBezTo>
                <a:cubicBezTo>
                  <a:pt x="6438" y="9077"/>
                  <a:pt x="6435" y="9130"/>
                  <a:pt x="6474" y="9178"/>
                </a:cubicBezTo>
                <a:cubicBezTo>
                  <a:pt x="6524" y="9240"/>
                  <a:pt x="6538" y="9220"/>
                  <a:pt x="6598" y="9203"/>
                </a:cubicBezTo>
                <a:cubicBezTo>
                  <a:pt x="6606" y="9203"/>
                  <a:pt x="6615" y="9203"/>
                  <a:pt x="6623" y="9203"/>
                </a:cubicBezTo>
              </a:path>
              <a:path w="721" h="324">
                <a:moveTo>
                  <a:pt x="6697" y="9054"/>
                </a:moveTo>
                <a:cubicBezTo>
                  <a:pt x="6707" y="9025"/>
                  <a:pt x="6731" y="9009"/>
                  <a:pt x="6772" y="9004"/>
                </a:cubicBezTo>
                <a:cubicBezTo>
                  <a:pt x="6812" y="8999"/>
                  <a:pt x="6853" y="9014"/>
                  <a:pt x="6871" y="9054"/>
                </a:cubicBezTo>
                <a:cubicBezTo>
                  <a:pt x="6890" y="9097"/>
                  <a:pt x="6857" y="9124"/>
                  <a:pt x="6821" y="9128"/>
                </a:cubicBezTo>
                <a:cubicBezTo>
                  <a:pt x="6789" y="9132"/>
                  <a:pt x="6778" y="9145"/>
                  <a:pt x="6747" y="9153"/>
                </a:cubicBezTo>
              </a:path>
              <a:path w="721" h="324">
                <a:moveTo>
                  <a:pt x="7069" y="8979"/>
                </a:moveTo>
                <a:cubicBezTo>
                  <a:pt x="7086" y="8971"/>
                  <a:pt x="7102" y="8962"/>
                  <a:pt x="7119" y="8954"/>
                </a:cubicBezTo>
                <a:cubicBezTo>
                  <a:pt x="7078" y="8964"/>
                  <a:pt x="7029" y="8986"/>
                  <a:pt x="7020" y="9029"/>
                </a:cubicBezTo>
                <a:cubicBezTo>
                  <a:pt x="7003" y="9106"/>
                  <a:pt x="7077" y="9100"/>
                  <a:pt x="7119" y="9128"/>
                </a:cubicBezTo>
                <a:cubicBezTo>
                  <a:pt x="7145" y="9146"/>
                  <a:pt x="7190" y="9190"/>
                  <a:pt x="7169" y="9227"/>
                </a:cubicBezTo>
                <a:cubicBezTo>
                  <a:pt x="7150" y="9261"/>
                  <a:pt x="7079" y="9270"/>
                  <a:pt x="7045" y="927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97120" y="3214800"/>
            <a:ext cx="133560" cy="9036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7541" y="9054"/>
                </a:moveTo>
                <a:cubicBezTo>
                  <a:pt x="7513" y="9054"/>
                  <a:pt x="7502" y="9052"/>
                  <a:pt x="7491" y="9029"/>
                </a:cubicBezTo>
                <a:cubicBezTo>
                  <a:pt x="7502" y="8986"/>
                  <a:pt x="7535" y="8956"/>
                  <a:pt x="7590" y="8979"/>
                </a:cubicBezTo>
                <a:cubicBezTo>
                  <a:pt x="7657" y="9007"/>
                  <a:pt x="7665" y="9067"/>
                  <a:pt x="7665" y="9128"/>
                </a:cubicBezTo>
                <a:cubicBezTo>
                  <a:pt x="7665" y="9181"/>
                  <a:pt x="7632" y="9178"/>
                  <a:pt x="7590" y="9178"/>
                </a:cubicBezTo>
                <a:cubicBezTo>
                  <a:pt x="7557" y="9178"/>
                  <a:pt x="7524" y="9178"/>
                  <a:pt x="7491" y="9178"/>
                </a:cubicBezTo>
              </a:path>
              <a:path w="373" h="249">
                <a:moveTo>
                  <a:pt x="7764" y="8979"/>
                </a:moveTo>
                <a:cubicBezTo>
                  <a:pt x="7764" y="8963"/>
                  <a:pt x="7764" y="8946"/>
                  <a:pt x="7764" y="8930"/>
                </a:cubicBezTo>
                <a:cubicBezTo>
                  <a:pt x="7710" y="8943"/>
                  <a:pt x="7699" y="8997"/>
                  <a:pt x="7689" y="9054"/>
                </a:cubicBezTo>
                <a:cubicBezTo>
                  <a:pt x="7677" y="9128"/>
                  <a:pt x="7719" y="9173"/>
                  <a:pt x="7789" y="9178"/>
                </a:cubicBezTo>
                <a:cubicBezTo>
                  <a:pt x="7830" y="9178"/>
                  <a:pt x="7838" y="9178"/>
                  <a:pt x="7863" y="917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63880" y="3214800"/>
            <a:ext cx="6336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8359" y="8954"/>
                </a:moveTo>
                <a:cubicBezTo>
                  <a:pt x="8367" y="8954"/>
                  <a:pt x="8376" y="8954"/>
                  <a:pt x="8384" y="8954"/>
                </a:cubicBezTo>
                <a:cubicBezTo>
                  <a:pt x="8366" y="8901"/>
                  <a:pt x="8348" y="8942"/>
                  <a:pt x="8310" y="8954"/>
                </a:cubicBezTo>
                <a:cubicBezTo>
                  <a:pt x="8277" y="8954"/>
                  <a:pt x="8260" y="8954"/>
                  <a:pt x="8235" y="8954"/>
                </a:cubicBezTo>
              </a:path>
              <a:path w="175" h="150">
                <a:moveTo>
                  <a:pt x="8359" y="9054"/>
                </a:moveTo>
                <a:cubicBezTo>
                  <a:pt x="8473" y="9122"/>
                  <a:pt x="8334" y="9064"/>
                  <a:pt x="8310" y="905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94080" y="3098880"/>
            <a:ext cx="12384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9475" y="8781"/>
                </a:moveTo>
                <a:cubicBezTo>
                  <a:pt x="9495" y="8740"/>
                  <a:pt x="9514" y="8724"/>
                  <a:pt x="9475" y="8731"/>
                </a:cubicBezTo>
                <a:cubicBezTo>
                  <a:pt x="9459" y="8742"/>
                  <a:pt x="9411" y="8812"/>
                  <a:pt x="9426" y="8855"/>
                </a:cubicBezTo>
                <a:cubicBezTo>
                  <a:pt x="9448" y="8920"/>
                  <a:pt x="9512" y="8944"/>
                  <a:pt x="9575" y="8954"/>
                </a:cubicBezTo>
                <a:cubicBezTo>
                  <a:pt x="9644" y="8965"/>
                  <a:pt x="9664" y="8955"/>
                  <a:pt x="9723" y="9004"/>
                </a:cubicBezTo>
                <a:cubicBezTo>
                  <a:pt x="9716" y="9032"/>
                  <a:pt x="9685" y="9093"/>
                  <a:pt x="9649" y="9103"/>
                </a:cubicBezTo>
                <a:cubicBezTo>
                  <a:pt x="9608" y="9114"/>
                  <a:pt x="9542" y="9103"/>
                  <a:pt x="9500" y="9103"/>
                </a:cubicBezTo>
              </a:path>
              <a:path w="348" h="497">
                <a:moveTo>
                  <a:pt x="9748" y="8657"/>
                </a:moveTo>
                <a:cubicBezTo>
                  <a:pt x="9756" y="8640"/>
                  <a:pt x="9765" y="8624"/>
                  <a:pt x="9773" y="8607"/>
                </a:cubicBezTo>
                <a:cubicBezTo>
                  <a:pt x="9744" y="8617"/>
                  <a:pt x="9717" y="8671"/>
                  <a:pt x="9674" y="8682"/>
                </a:cubicBezTo>
                <a:cubicBezTo>
                  <a:pt x="9613" y="8698"/>
                  <a:pt x="9620" y="8685"/>
                  <a:pt x="9575" y="873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5120" y="3160800"/>
            <a:ext cx="243000" cy="125280"/>
          </a:xfrm>
          <a:custGeom>
            <a:avLst/>
            <a:gdLst/>
            <a:ahLst/>
            <a:rect l="l" t="t" r="r" b="b"/>
            <a:pathLst>
              <a:path w="671" h="348">
                <a:moveTo>
                  <a:pt x="10443" y="8880"/>
                </a:moveTo>
                <a:cubicBezTo>
                  <a:pt x="10494" y="8880"/>
                  <a:pt x="10396" y="8890"/>
                  <a:pt x="10368" y="8905"/>
                </a:cubicBezTo>
                <a:cubicBezTo>
                  <a:pt x="10356" y="8912"/>
                  <a:pt x="10276" y="8970"/>
                  <a:pt x="10319" y="9004"/>
                </a:cubicBezTo>
                <a:cubicBezTo>
                  <a:pt x="10352" y="9030"/>
                  <a:pt x="10425" y="9029"/>
                  <a:pt x="10468" y="9029"/>
                </a:cubicBezTo>
                <a:cubicBezTo>
                  <a:pt x="10476" y="9029"/>
                  <a:pt x="10484" y="9029"/>
                  <a:pt x="10492" y="9029"/>
                </a:cubicBezTo>
                <a:cubicBezTo>
                  <a:pt x="10492" y="9075"/>
                  <a:pt x="10502" y="9087"/>
                  <a:pt x="10468" y="9103"/>
                </a:cubicBezTo>
                <a:cubicBezTo>
                  <a:pt x="10411" y="9129"/>
                  <a:pt x="10382" y="9128"/>
                  <a:pt x="10319" y="9128"/>
                </a:cubicBezTo>
                <a:cubicBezTo>
                  <a:pt x="10311" y="9128"/>
                  <a:pt x="10302" y="9128"/>
                  <a:pt x="10294" y="9128"/>
                </a:cubicBezTo>
              </a:path>
              <a:path w="671" h="348">
                <a:moveTo>
                  <a:pt x="10592" y="8979"/>
                </a:moveTo>
                <a:cubicBezTo>
                  <a:pt x="10608" y="8979"/>
                  <a:pt x="10625" y="8979"/>
                  <a:pt x="10641" y="8979"/>
                </a:cubicBezTo>
                <a:cubicBezTo>
                  <a:pt x="10641" y="9020"/>
                  <a:pt x="10641" y="9062"/>
                  <a:pt x="10641" y="9103"/>
                </a:cubicBezTo>
              </a:path>
              <a:path w="671" h="348">
                <a:moveTo>
                  <a:pt x="10666" y="8880"/>
                </a:moveTo>
                <a:cubicBezTo>
                  <a:pt x="10646" y="8820"/>
                  <a:pt x="10627" y="8805"/>
                  <a:pt x="10666" y="8781"/>
                </a:cubicBezTo>
              </a:path>
              <a:path w="671" h="348">
                <a:moveTo>
                  <a:pt x="10740" y="8954"/>
                </a:moveTo>
                <a:cubicBezTo>
                  <a:pt x="10746" y="9019"/>
                  <a:pt x="10765" y="9044"/>
                  <a:pt x="10765" y="9103"/>
                </a:cubicBezTo>
                <a:cubicBezTo>
                  <a:pt x="10795" y="9093"/>
                  <a:pt x="10808" y="9061"/>
                  <a:pt x="10840" y="9029"/>
                </a:cubicBezTo>
                <a:cubicBezTo>
                  <a:pt x="10848" y="9021"/>
                  <a:pt x="10856" y="9012"/>
                  <a:pt x="10864" y="9004"/>
                </a:cubicBezTo>
                <a:cubicBezTo>
                  <a:pt x="10901" y="9032"/>
                  <a:pt x="10928" y="9043"/>
                  <a:pt x="10964" y="907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16240" y="3197160"/>
            <a:ext cx="206640" cy="108000"/>
          </a:xfrm>
          <a:custGeom>
            <a:avLst/>
            <a:gdLst/>
            <a:ahLst/>
            <a:rect l="l" t="t" r="r" b="b"/>
            <a:pathLst>
              <a:path w="571" h="299">
                <a:moveTo>
                  <a:pt x="11435" y="8979"/>
                </a:moveTo>
                <a:cubicBezTo>
                  <a:pt x="11444" y="8943"/>
                  <a:pt x="11472" y="8918"/>
                  <a:pt x="11509" y="8905"/>
                </a:cubicBezTo>
                <a:cubicBezTo>
                  <a:pt x="11550" y="8891"/>
                  <a:pt x="11602" y="8974"/>
                  <a:pt x="11609" y="9004"/>
                </a:cubicBezTo>
                <a:cubicBezTo>
                  <a:pt x="11622" y="9057"/>
                  <a:pt x="11613" y="9148"/>
                  <a:pt x="11559" y="9178"/>
                </a:cubicBezTo>
                <a:cubicBezTo>
                  <a:pt x="11534" y="9192"/>
                  <a:pt x="11486" y="9134"/>
                  <a:pt x="11460" y="9128"/>
                </a:cubicBezTo>
              </a:path>
              <a:path w="571" h="299">
                <a:moveTo>
                  <a:pt x="11757" y="8979"/>
                </a:moveTo>
                <a:cubicBezTo>
                  <a:pt x="11796" y="8941"/>
                  <a:pt x="11813" y="8939"/>
                  <a:pt x="11807" y="8905"/>
                </a:cubicBezTo>
                <a:cubicBezTo>
                  <a:pt x="11783" y="8870"/>
                  <a:pt x="11732" y="8868"/>
                  <a:pt x="11683" y="8905"/>
                </a:cubicBezTo>
                <a:cubicBezTo>
                  <a:pt x="11624" y="8950"/>
                  <a:pt x="11579" y="9017"/>
                  <a:pt x="11633" y="9079"/>
                </a:cubicBezTo>
                <a:cubicBezTo>
                  <a:pt x="11710" y="9167"/>
                  <a:pt x="11799" y="9153"/>
                  <a:pt x="11906" y="9153"/>
                </a:cubicBezTo>
                <a:cubicBezTo>
                  <a:pt x="11958" y="9153"/>
                  <a:pt x="11976" y="9152"/>
                  <a:pt x="12005" y="912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17840" y="371484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7045" y="10443"/>
                </a:moveTo>
                <a:cubicBezTo>
                  <a:pt x="7045" y="10451"/>
                  <a:pt x="7045" y="10460"/>
                  <a:pt x="7045" y="10468"/>
                </a:cubicBezTo>
                <a:cubicBezTo>
                  <a:pt x="6992" y="10455"/>
                  <a:pt x="6981" y="10437"/>
                  <a:pt x="7020" y="10393"/>
                </a:cubicBezTo>
                <a:cubicBezTo>
                  <a:pt x="7063" y="10345"/>
                  <a:pt x="7081" y="10324"/>
                  <a:pt x="7144" y="10319"/>
                </a:cubicBezTo>
                <a:cubicBezTo>
                  <a:pt x="7188" y="10315"/>
                  <a:pt x="7218" y="10329"/>
                  <a:pt x="7243" y="10368"/>
                </a:cubicBezTo>
                <a:cubicBezTo>
                  <a:pt x="7280" y="10424"/>
                  <a:pt x="7278" y="10485"/>
                  <a:pt x="7243" y="10542"/>
                </a:cubicBezTo>
                <a:cubicBezTo>
                  <a:pt x="7216" y="10586"/>
                  <a:pt x="7172" y="10623"/>
                  <a:pt x="7144" y="10666"/>
                </a:cubicBezTo>
                <a:cubicBezTo>
                  <a:pt x="7124" y="10706"/>
                  <a:pt x="7115" y="10713"/>
                  <a:pt x="7119" y="10740"/>
                </a:cubicBezTo>
                <a:cubicBezTo>
                  <a:pt x="7156" y="10762"/>
                  <a:pt x="7221" y="10804"/>
                  <a:pt x="7268" y="10815"/>
                </a:cubicBezTo>
                <a:cubicBezTo>
                  <a:pt x="7339" y="10832"/>
                  <a:pt x="7347" y="10807"/>
                  <a:pt x="7392" y="10864"/>
                </a:cubicBezTo>
                <a:cubicBezTo>
                  <a:pt x="7415" y="10887"/>
                  <a:pt x="7423" y="10891"/>
                  <a:pt x="7417" y="10914"/>
                </a:cubicBezTo>
                <a:cubicBezTo>
                  <a:pt x="7367" y="10927"/>
                  <a:pt x="7353" y="10939"/>
                  <a:pt x="7293" y="10939"/>
                </a:cubicBezTo>
                <a:cubicBezTo>
                  <a:pt x="7260" y="10939"/>
                  <a:pt x="7226" y="10939"/>
                  <a:pt x="7193" y="1093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13040" y="3786120"/>
            <a:ext cx="54000" cy="71640"/>
          </a:xfrm>
          <a:custGeom>
            <a:avLst/>
            <a:gdLst/>
            <a:ahLst/>
            <a:rect l="l" t="t" r="r" b="b"/>
            <a:pathLst>
              <a:path w="150" h="200">
                <a:moveTo>
                  <a:pt x="7938" y="10517"/>
                </a:moveTo>
                <a:cubicBezTo>
                  <a:pt x="7898" y="10527"/>
                  <a:pt x="7875" y="10555"/>
                  <a:pt x="7838" y="10567"/>
                </a:cubicBezTo>
                <a:cubicBezTo>
                  <a:pt x="7830" y="10567"/>
                  <a:pt x="7821" y="10567"/>
                  <a:pt x="7813" y="10567"/>
                </a:cubicBezTo>
              </a:path>
              <a:path w="150" h="200">
                <a:moveTo>
                  <a:pt x="7938" y="10641"/>
                </a:moveTo>
                <a:cubicBezTo>
                  <a:pt x="7946" y="10641"/>
                  <a:pt x="7954" y="10641"/>
                  <a:pt x="7962" y="10641"/>
                </a:cubicBezTo>
                <a:cubicBezTo>
                  <a:pt x="7923" y="10671"/>
                  <a:pt x="7885" y="10689"/>
                  <a:pt x="7838" y="1071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21000" y="3606840"/>
            <a:ext cx="117360" cy="19836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9252" y="10145"/>
                </a:moveTo>
                <a:cubicBezTo>
                  <a:pt x="9252" y="10076"/>
                  <a:pt x="9255" y="10186"/>
                  <a:pt x="9252" y="10195"/>
                </a:cubicBezTo>
                <a:cubicBezTo>
                  <a:pt x="9230" y="10256"/>
                  <a:pt x="9206" y="10288"/>
                  <a:pt x="9252" y="10344"/>
                </a:cubicBezTo>
                <a:cubicBezTo>
                  <a:pt x="9283" y="10381"/>
                  <a:pt x="9332" y="10368"/>
                  <a:pt x="9376" y="10368"/>
                </a:cubicBezTo>
                <a:cubicBezTo>
                  <a:pt x="9433" y="10368"/>
                  <a:pt x="9463" y="10406"/>
                  <a:pt x="9500" y="10443"/>
                </a:cubicBezTo>
                <a:cubicBezTo>
                  <a:pt x="9541" y="10484"/>
                  <a:pt x="9569" y="10493"/>
                  <a:pt x="9525" y="10542"/>
                </a:cubicBezTo>
                <a:cubicBezTo>
                  <a:pt x="9489" y="10583"/>
                  <a:pt x="9427" y="10567"/>
                  <a:pt x="9376" y="10567"/>
                </a:cubicBezTo>
                <a:cubicBezTo>
                  <a:pt x="9335" y="10567"/>
                  <a:pt x="9327" y="10567"/>
                  <a:pt x="9302" y="10567"/>
                </a:cubicBezTo>
              </a:path>
              <a:path w="324" h="547">
                <a:moveTo>
                  <a:pt x="9525" y="10021"/>
                </a:moveTo>
                <a:cubicBezTo>
                  <a:pt x="9480" y="10032"/>
                  <a:pt x="9439" y="10063"/>
                  <a:pt x="9401" y="10096"/>
                </a:cubicBezTo>
                <a:cubicBezTo>
                  <a:pt x="9373" y="10123"/>
                  <a:pt x="9359" y="10131"/>
                  <a:pt x="9327" y="1012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43200" y="3581280"/>
            <a:ext cx="411120" cy="125640"/>
          </a:xfrm>
          <a:custGeom>
            <a:avLst/>
            <a:gdLst/>
            <a:ahLst/>
            <a:rect l="l" t="t" r="r" b="b"/>
            <a:pathLst>
              <a:path w="1142" h="348">
                <a:moveTo>
                  <a:pt x="10269" y="10046"/>
                </a:moveTo>
                <a:cubicBezTo>
                  <a:pt x="10254" y="10001"/>
                  <a:pt x="10209" y="10014"/>
                  <a:pt x="10170" y="10046"/>
                </a:cubicBezTo>
                <a:cubicBezTo>
                  <a:pt x="10145" y="10066"/>
                  <a:pt x="10098" y="10106"/>
                  <a:pt x="10120" y="10145"/>
                </a:cubicBezTo>
                <a:cubicBezTo>
                  <a:pt x="10141" y="10183"/>
                  <a:pt x="10184" y="10170"/>
                  <a:pt x="10220" y="10170"/>
                </a:cubicBezTo>
                <a:cubicBezTo>
                  <a:pt x="10261" y="10170"/>
                  <a:pt x="10269" y="10170"/>
                  <a:pt x="10294" y="10170"/>
                </a:cubicBezTo>
                <a:cubicBezTo>
                  <a:pt x="10294" y="10224"/>
                  <a:pt x="10282" y="10230"/>
                  <a:pt x="10244" y="10269"/>
                </a:cubicBezTo>
                <a:cubicBezTo>
                  <a:pt x="10214" y="10299"/>
                  <a:pt x="10210" y="10294"/>
                  <a:pt x="10170" y="10294"/>
                </a:cubicBezTo>
              </a:path>
              <a:path w="1142" h="348">
                <a:moveTo>
                  <a:pt x="10443" y="10096"/>
                </a:moveTo>
                <a:cubicBezTo>
                  <a:pt x="10443" y="10129"/>
                  <a:pt x="10443" y="10162"/>
                  <a:pt x="10443" y="10195"/>
                </a:cubicBezTo>
              </a:path>
              <a:path w="1142" h="348">
                <a:moveTo>
                  <a:pt x="10443" y="10096"/>
                </a:moveTo>
                <a:cubicBezTo>
                  <a:pt x="10443" y="10005"/>
                  <a:pt x="10443" y="9997"/>
                  <a:pt x="10443" y="9947"/>
                </a:cubicBezTo>
              </a:path>
              <a:path w="1142" h="348">
                <a:moveTo>
                  <a:pt x="10592" y="10145"/>
                </a:moveTo>
                <a:cubicBezTo>
                  <a:pt x="10592" y="10157"/>
                  <a:pt x="10614" y="10272"/>
                  <a:pt x="10616" y="10269"/>
                </a:cubicBezTo>
                <a:cubicBezTo>
                  <a:pt x="10631" y="10252"/>
                  <a:pt x="10627" y="10168"/>
                  <a:pt x="10641" y="10145"/>
                </a:cubicBezTo>
                <a:cubicBezTo>
                  <a:pt x="10666" y="10120"/>
                  <a:pt x="10674" y="10112"/>
                  <a:pt x="10691" y="10096"/>
                </a:cubicBezTo>
                <a:cubicBezTo>
                  <a:pt x="10742" y="10146"/>
                  <a:pt x="10738" y="10166"/>
                  <a:pt x="10765" y="10220"/>
                </a:cubicBezTo>
                <a:cubicBezTo>
                  <a:pt x="10773" y="10228"/>
                  <a:pt x="10782" y="10236"/>
                  <a:pt x="10790" y="10244"/>
                </a:cubicBezTo>
              </a:path>
              <a:path w="1142" h="348">
                <a:moveTo>
                  <a:pt x="10889" y="10120"/>
                </a:moveTo>
                <a:cubicBezTo>
                  <a:pt x="10889" y="10096"/>
                  <a:pt x="10889" y="10087"/>
                  <a:pt x="10889" y="10071"/>
                </a:cubicBezTo>
                <a:cubicBezTo>
                  <a:pt x="10943" y="10071"/>
                  <a:pt x="10936" y="10027"/>
                  <a:pt x="10988" y="10046"/>
                </a:cubicBezTo>
                <a:cubicBezTo>
                  <a:pt x="11024" y="10059"/>
                  <a:pt x="11077" y="10137"/>
                  <a:pt x="11088" y="10170"/>
                </a:cubicBezTo>
                <a:cubicBezTo>
                  <a:pt x="11103" y="10214"/>
                  <a:pt x="11078" y="10240"/>
                  <a:pt x="11038" y="10244"/>
                </a:cubicBezTo>
                <a:cubicBezTo>
                  <a:pt x="11013" y="10244"/>
                  <a:pt x="11005" y="10244"/>
                  <a:pt x="10988" y="10244"/>
                </a:cubicBezTo>
              </a:path>
              <a:path w="1142" h="348">
                <a:moveTo>
                  <a:pt x="11187" y="10046"/>
                </a:moveTo>
                <a:cubicBezTo>
                  <a:pt x="11187" y="10038"/>
                  <a:pt x="11187" y="10029"/>
                  <a:pt x="11187" y="10021"/>
                </a:cubicBezTo>
                <a:cubicBezTo>
                  <a:pt x="11148" y="10034"/>
                  <a:pt x="11144" y="10077"/>
                  <a:pt x="11112" y="10120"/>
                </a:cubicBezTo>
                <a:cubicBezTo>
                  <a:pt x="11075" y="10169"/>
                  <a:pt x="11081" y="10209"/>
                  <a:pt x="11137" y="10244"/>
                </a:cubicBezTo>
                <a:cubicBezTo>
                  <a:pt x="11195" y="10281"/>
                  <a:pt x="11212" y="10274"/>
                  <a:pt x="11261" y="1024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6280" y="3500280"/>
            <a:ext cx="162000" cy="152640"/>
          </a:xfrm>
          <a:custGeom>
            <a:avLst/>
            <a:gdLst/>
            <a:ahLst/>
            <a:rect l="l" t="t" r="r" b="b"/>
            <a:pathLst>
              <a:path w="448" h="423">
                <a:moveTo>
                  <a:pt x="13271" y="9971"/>
                </a:moveTo>
                <a:cubicBezTo>
                  <a:pt x="13224" y="9960"/>
                  <a:pt x="13173" y="9929"/>
                  <a:pt x="13122" y="9922"/>
                </a:cubicBezTo>
                <a:cubicBezTo>
                  <a:pt x="13044" y="9912"/>
                  <a:pt x="12978" y="9897"/>
                  <a:pt x="12898" y="9897"/>
                </a:cubicBezTo>
                <a:cubicBezTo>
                  <a:pt x="12873" y="9897"/>
                  <a:pt x="12849" y="9897"/>
                  <a:pt x="12824" y="9897"/>
                </a:cubicBezTo>
              </a:path>
              <a:path w="448" h="423">
                <a:moveTo>
                  <a:pt x="12898" y="9748"/>
                </a:moveTo>
                <a:cubicBezTo>
                  <a:pt x="12941" y="9705"/>
                  <a:pt x="12923" y="9737"/>
                  <a:pt x="12923" y="9773"/>
                </a:cubicBezTo>
              </a:path>
              <a:path w="448" h="423">
                <a:moveTo>
                  <a:pt x="12998" y="10071"/>
                </a:moveTo>
                <a:cubicBezTo>
                  <a:pt x="12998" y="10114"/>
                  <a:pt x="12997" y="10110"/>
                  <a:pt x="13022" y="1014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94200" y="3490920"/>
            <a:ext cx="266760" cy="125280"/>
          </a:xfrm>
          <a:custGeom>
            <a:avLst/>
            <a:gdLst/>
            <a:ahLst/>
            <a:rect l="l" t="t" r="r" b="b"/>
            <a:pathLst>
              <a:path w="745" h="348">
                <a:moveTo>
                  <a:pt x="13742" y="9748"/>
                </a:moveTo>
                <a:cubicBezTo>
                  <a:pt x="13719" y="9680"/>
                  <a:pt x="13666" y="9759"/>
                  <a:pt x="13643" y="9798"/>
                </a:cubicBezTo>
                <a:cubicBezTo>
                  <a:pt x="13610" y="9855"/>
                  <a:pt x="13558" y="9936"/>
                  <a:pt x="13618" y="9996"/>
                </a:cubicBezTo>
                <a:cubicBezTo>
                  <a:pt x="13657" y="10035"/>
                  <a:pt x="13718" y="10040"/>
                  <a:pt x="13767" y="10046"/>
                </a:cubicBezTo>
              </a:path>
              <a:path w="745" h="348">
                <a:moveTo>
                  <a:pt x="13866" y="9922"/>
                </a:moveTo>
                <a:cubicBezTo>
                  <a:pt x="13866" y="9905"/>
                  <a:pt x="13866" y="9889"/>
                  <a:pt x="13866" y="9872"/>
                </a:cubicBezTo>
                <a:cubicBezTo>
                  <a:pt x="13917" y="9872"/>
                  <a:pt x="13952" y="9863"/>
                  <a:pt x="13990" y="9897"/>
                </a:cubicBezTo>
                <a:cubicBezTo>
                  <a:pt x="14020" y="9923"/>
                  <a:pt x="14035" y="9966"/>
                  <a:pt x="13990" y="9971"/>
                </a:cubicBezTo>
                <a:cubicBezTo>
                  <a:pt x="13965" y="9971"/>
                  <a:pt x="13957" y="9971"/>
                  <a:pt x="13940" y="9971"/>
                </a:cubicBezTo>
              </a:path>
              <a:path w="745" h="348">
                <a:moveTo>
                  <a:pt x="14238" y="9723"/>
                </a:moveTo>
                <a:cubicBezTo>
                  <a:pt x="14246" y="9715"/>
                  <a:pt x="14255" y="9707"/>
                  <a:pt x="14263" y="9699"/>
                </a:cubicBezTo>
                <a:cubicBezTo>
                  <a:pt x="14228" y="9706"/>
                  <a:pt x="14157" y="9718"/>
                  <a:pt x="14188" y="9773"/>
                </a:cubicBezTo>
                <a:cubicBezTo>
                  <a:pt x="14220" y="9830"/>
                  <a:pt x="14311" y="9862"/>
                  <a:pt x="14337" y="9922"/>
                </a:cubicBezTo>
                <a:cubicBezTo>
                  <a:pt x="14355" y="9963"/>
                  <a:pt x="14284" y="9947"/>
                  <a:pt x="14263" y="994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68960" y="3473280"/>
            <a:ext cx="160200" cy="115920"/>
          </a:xfrm>
          <a:custGeom>
            <a:avLst/>
            <a:gdLst/>
            <a:ahLst/>
            <a:rect l="l" t="t" r="r" b="b"/>
            <a:pathLst>
              <a:path w="447" h="323">
                <a:moveTo>
                  <a:pt x="14660" y="9847"/>
                </a:moveTo>
                <a:cubicBezTo>
                  <a:pt x="14660" y="9787"/>
                  <a:pt x="14650" y="9748"/>
                  <a:pt x="14684" y="9723"/>
                </a:cubicBezTo>
                <a:cubicBezTo>
                  <a:pt x="14727" y="9691"/>
                  <a:pt x="14751" y="9696"/>
                  <a:pt x="14784" y="9748"/>
                </a:cubicBezTo>
                <a:cubicBezTo>
                  <a:pt x="14819" y="9803"/>
                  <a:pt x="14823" y="9873"/>
                  <a:pt x="14784" y="9922"/>
                </a:cubicBezTo>
                <a:cubicBezTo>
                  <a:pt x="14742" y="9975"/>
                  <a:pt x="14703" y="9935"/>
                  <a:pt x="14660" y="9922"/>
                </a:cubicBezTo>
                <a:cubicBezTo>
                  <a:pt x="14652" y="9922"/>
                  <a:pt x="14643" y="9922"/>
                  <a:pt x="14635" y="9922"/>
                </a:cubicBezTo>
              </a:path>
              <a:path w="447" h="323">
                <a:moveTo>
                  <a:pt x="14932" y="9699"/>
                </a:moveTo>
                <a:cubicBezTo>
                  <a:pt x="14932" y="9682"/>
                  <a:pt x="14932" y="9666"/>
                  <a:pt x="14932" y="9649"/>
                </a:cubicBezTo>
                <a:cubicBezTo>
                  <a:pt x="14904" y="9659"/>
                  <a:pt x="14868" y="9729"/>
                  <a:pt x="14858" y="9773"/>
                </a:cubicBezTo>
                <a:cubicBezTo>
                  <a:pt x="14843" y="9840"/>
                  <a:pt x="14854" y="9945"/>
                  <a:pt x="14932" y="9971"/>
                </a:cubicBezTo>
                <a:cubicBezTo>
                  <a:pt x="14984" y="9988"/>
                  <a:pt x="15036" y="9964"/>
                  <a:pt x="15081" y="994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92080" y="3510000"/>
            <a:ext cx="501840" cy="150840"/>
          </a:xfrm>
          <a:custGeom>
            <a:avLst/>
            <a:gdLst/>
            <a:ahLst/>
            <a:rect l="l" t="t" r="r" b="b"/>
            <a:pathLst>
              <a:path w="1391" h="423">
                <a:moveTo>
                  <a:pt x="2927" y="9947"/>
                </a:moveTo>
                <a:cubicBezTo>
                  <a:pt x="2839" y="9947"/>
                  <a:pt x="2762" y="9958"/>
                  <a:pt x="2679" y="9971"/>
                </a:cubicBezTo>
                <a:cubicBezTo>
                  <a:pt x="2629" y="9979"/>
                  <a:pt x="2578" y="9991"/>
                  <a:pt x="2530" y="9996"/>
                </a:cubicBezTo>
                <a:cubicBezTo>
                  <a:pt x="2505" y="9996"/>
                  <a:pt x="2497" y="9996"/>
                  <a:pt x="2480" y="9996"/>
                </a:cubicBezTo>
              </a:path>
              <a:path w="1391" h="423">
                <a:moveTo>
                  <a:pt x="2505" y="9773"/>
                </a:moveTo>
                <a:cubicBezTo>
                  <a:pt x="2542" y="9736"/>
                  <a:pt x="2544" y="9780"/>
                  <a:pt x="2555" y="9823"/>
                </a:cubicBezTo>
              </a:path>
              <a:path w="1391" h="423">
                <a:moveTo>
                  <a:pt x="2679" y="10046"/>
                </a:moveTo>
                <a:cubicBezTo>
                  <a:pt x="2704" y="10090"/>
                  <a:pt x="2742" y="10125"/>
                  <a:pt x="2753" y="10170"/>
                </a:cubicBezTo>
              </a:path>
              <a:path w="1391" h="423">
                <a:moveTo>
                  <a:pt x="3274" y="9847"/>
                </a:moveTo>
                <a:cubicBezTo>
                  <a:pt x="3282" y="9839"/>
                  <a:pt x="3291" y="9831"/>
                  <a:pt x="3299" y="9823"/>
                </a:cubicBezTo>
                <a:cubicBezTo>
                  <a:pt x="3241" y="9834"/>
                  <a:pt x="3191" y="9856"/>
                  <a:pt x="3175" y="9922"/>
                </a:cubicBezTo>
                <a:cubicBezTo>
                  <a:pt x="3165" y="9963"/>
                  <a:pt x="3165" y="10064"/>
                  <a:pt x="3200" y="10096"/>
                </a:cubicBezTo>
                <a:cubicBezTo>
                  <a:pt x="3232" y="10126"/>
                  <a:pt x="3262" y="10120"/>
                  <a:pt x="3299" y="10120"/>
                </a:cubicBezTo>
              </a:path>
              <a:path w="1391" h="423">
                <a:moveTo>
                  <a:pt x="3398" y="9971"/>
                </a:moveTo>
                <a:cubicBezTo>
                  <a:pt x="3405" y="9950"/>
                  <a:pt x="3442" y="9933"/>
                  <a:pt x="3473" y="9922"/>
                </a:cubicBezTo>
                <a:cubicBezTo>
                  <a:pt x="3498" y="9913"/>
                  <a:pt x="3562" y="9916"/>
                  <a:pt x="3572" y="9947"/>
                </a:cubicBezTo>
                <a:cubicBezTo>
                  <a:pt x="3585" y="9987"/>
                  <a:pt x="3621" y="10065"/>
                  <a:pt x="3572" y="10096"/>
                </a:cubicBezTo>
                <a:cubicBezTo>
                  <a:pt x="3555" y="10107"/>
                  <a:pt x="3494" y="10096"/>
                  <a:pt x="3473" y="10096"/>
                </a:cubicBezTo>
              </a:path>
              <a:path w="1391" h="423">
                <a:moveTo>
                  <a:pt x="3721" y="9847"/>
                </a:moveTo>
                <a:cubicBezTo>
                  <a:pt x="3737" y="9839"/>
                  <a:pt x="3754" y="9831"/>
                  <a:pt x="3770" y="9823"/>
                </a:cubicBezTo>
                <a:cubicBezTo>
                  <a:pt x="3732" y="9861"/>
                  <a:pt x="3721" y="9869"/>
                  <a:pt x="3721" y="9922"/>
                </a:cubicBezTo>
                <a:cubicBezTo>
                  <a:pt x="3721" y="9988"/>
                  <a:pt x="3745" y="9993"/>
                  <a:pt x="3795" y="10021"/>
                </a:cubicBezTo>
                <a:cubicBezTo>
                  <a:pt x="3855" y="10055"/>
                  <a:pt x="3834" y="10048"/>
                  <a:pt x="3870" y="10096"/>
                </a:cubicBezTo>
                <a:cubicBezTo>
                  <a:pt x="3859" y="10127"/>
                  <a:pt x="3851" y="10135"/>
                  <a:pt x="3820" y="1014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00120" y="3554280"/>
            <a:ext cx="142920" cy="81000"/>
          </a:xfrm>
          <a:custGeom>
            <a:avLst/>
            <a:gdLst/>
            <a:ahLst/>
            <a:rect l="l" t="t" r="r" b="b"/>
            <a:pathLst>
              <a:path w="398" h="225">
                <a:moveTo>
                  <a:pt x="4217" y="10021"/>
                </a:moveTo>
                <a:cubicBezTo>
                  <a:pt x="4176" y="10001"/>
                  <a:pt x="4160" y="10003"/>
                  <a:pt x="4167" y="9971"/>
                </a:cubicBezTo>
                <a:cubicBezTo>
                  <a:pt x="4181" y="9931"/>
                  <a:pt x="4188" y="9927"/>
                  <a:pt x="4242" y="9922"/>
                </a:cubicBezTo>
                <a:cubicBezTo>
                  <a:pt x="4302" y="9916"/>
                  <a:pt x="4312" y="9979"/>
                  <a:pt x="4316" y="10021"/>
                </a:cubicBezTo>
                <a:cubicBezTo>
                  <a:pt x="4320" y="10067"/>
                  <a:pt x="4315" y="10090"/>
                  <a:pt x="4266" y="10096"/>
                </a:cubicBezTo>
                <a:cubicBezTo>
                  <a:pt x="4233" y="10096"/>
                  <a:pt x="4217" y="10096"/>
                  <a:pt x="4192" y="10096"/>
                </a:cubicBezTo>
              </a:path>
              <a:path w="398" h="225">
                <a:moveTo>
                  <a:pt x="4415" y="9922"/>
                </a:moveTo>
                <a:cubicBezTo>
                  <a:pt x="4415" y="9880"/>
                  <a:pt x="4423" y="9864"/>
                  <a:pt x="4390" y="9872"/>
                </a:cubicBezTo>
                <a:cubicBezTo>
                  <a:pt x="4356" y="9915"/>
                  <a:pt x="4323" y="9961"/>
                  <a:pt x="4341" y="10021"/>
                </a:cubicBezTo>
                <a:cubicBezTo>
                  <a:pt x="4367" y="10109"/>
                  <a:pt x="4440" y="10096"/>
                  <a:pt x="4514" y="10096"/>
                </a:cubicBezTo>
                <a:cubicBezTo>
                  <a:pt x="4531" y="10096"/>
                  <a:pt x="4547" y="10096"/>
                  <a:pt x="4564" y="1009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68840" y="3751200"/>
            <a:ext cx="463320" cy="214200"/>
          </a:xfrm>
          <a:custGeom>
            <a:avLst/>
            <a:gdLst/>
            <a:ahLst/>
            <a:rect l="l" t="t" r="r" b="b"/>
            <a:pathLst>
              <a:path w="1290" h="596">
                <a:moveTo>
                  <a:pt x="11633" y="10418"/>
                </a:moveTo>
                <a:cubicBezTo>
                  <a:pt x="11586" y="10418"/>
                  <a:pt x="11554" y="10441"/>
                  <a:pt x="11509" y="10443"/>
                </a:cubicBezTo>
                <a:cubicBezTo>
                  <a:pt x="11408" y="10448"/>
                  <a:pt x="11312" y="10465"/>
                  <a:pt x="11212" y="10468"/>
                </a:cubicBezTo>
                <a:cubicBezTo>
                  <a:pt x="11088" y="10472"/>
                  <a:pt x="11007" y="10495"/>
                  <a:pt x="10889" y="10517"/>
                </a:cubicBezTo>
                <a:cubicBezTo>
                  <a:pt x="10801" y="10533"/>
                  <a:pt x="10702" y="10527"/>
                  <a:pt x="10616" y="10542"/>
                </a:cubicBezTo>
                <a:cubicBezTo>
                  <a:pt x="10569" y="10550"/>
                  <a:pt x="10533" y="10562"/>
                  <a:pt x="10492" y="10567"/>
                </a:cubicBezTo>
                <a:cubicBezTo>
                  <a:pt x="10484" y="10567"/>
                  <a:pt x="10476" y="10567"/>
                  <a:pt x="10468" y="10567"/>
                </a:cubicBezTo>
              </a:path>
              <a:path w="1290" h="596">
                <a:moveTo>
                  <a:pt x="10592" y="10840"/>
                </a:moveTo>
                <a:cubicBezTo>
                  <a:pt x="10592" y="10832"/>
                  <a:pt x="10592" y="10823"/>
                  <a:pt x="10592" y="10815"/>
                </a:cubicBezTo>
                <a:cubicBezTo>
                  <a:pt x="10532" y="10830"/>
                  <a:pt x="10542" y="10854"/>
                  <a:pt x="10542" y="10914"/>
                </a:cubicBezTo>
                <a:cubicBezTo>
                  <a:pt x="10542" y="10965"/>
                  <a:pt x="10567" y="11007"/>
                  <a:pt x="10616" y="11013"/>
                </a:cubicBezTo>
                <a:cubicBezTo>
                  <a:pt x="10660" y="11018"/>
                  <a:pt x="10685" y="10988"/>
                  <a:pt x="10716" y="10964"/>
                </a:cubicBezTo>
              </a:path>
              <a:path w="1290" h="596">
                <a:moveTo>
                  <a:pt x="10765" y="10889"/>
                </a:moveTo>
                <a:cubicBezTo>
                  <a:pt x="10775" y="10860"/>
                  <a:pt x="10799" y="10844"/>
                  <a:pt x="10840" y="10840"/>
                </a:cubicBezTo>
                <a:cubicBezTo>
                  <a:pt x="10900" y="10833"/>
                  <a:pt x="10911" y="10897"/>
                  <a:pt x="10914" y="10939"/>
                </a:cubicBezTo>
                <a:cubicBezTo>
                  <a:pt x="10914" y="10964"/>
                  <a:pt x="10914" y="10972"/>
                  <a:pt x="10914" y="10988"/>
                </a:cubicBezTo>
                <a:cubicBezTo>
                  <a:pt x="10873" y="10988"/>
                  <a:pt x="10831" y="10988"/>
                  <a:pt x="10790" y="10988"/>
                </a:cubicBezTo>
              </a:path>
              <a:path w="1290" h="596">
                <a:moveTo>
                  <a:pt x="11013" y="10790"/>
                </a:moveTo>
                <a:cubicBezTo>
                  <a:pt x="11030" y="10773"/>
                  <a:pt x="11046" y="10757"/>
                  <a:pt x="11063" y="10740"/>
                </a:cubicBezTo>
                <a:cubicBezTo>
                  <a:pt x="11005" y="10755"/>
                  <a:pt x="10993" y="10756"/>
                  <a:pt x="10988" y="10815"/>
                </a:cubicBezTo>
                <a:cubicBezTo>
                  <a:pt x="10985" y="10851"/>
                  <a:pt x="10996" y="10902"/>
                  <a:pt x="11038" y="10914"/>
                </a:cubicBezTo>
                <a:cubicBezTo>
                  <a:pt x="11078" y="10925"/>
                  <a:pt x="11138" y="10890"/>
                  <a:pt x="11162" y="10939"/>
                </a:cubicBezTo>
                <a:cubicBezTo>
                  <a:pt x="11187" y="10989"/>
                  <a:pt x="11113" y="10988"/>
                  <a:pt x="11088" y="10988"/>
                </a:cubicBezTo>
              </a:path>
              <a:path w="1290" h="596">
                <a:moveTo>
                  <a:pt x="11336" y="10864"/>
                </a:moveTo>
                <a:cubicBezTo>
                  <a:pt x="11300" y="10838"/>
                  <a:pt x="11267" y="10840"/>
                  <a:pt x="11261" y="10790"/>
                </a:cubicBezTo>
                <a:cubicBezTo>
                  <a:pt x="11256" y="10748"/>
                  <a:pt x="11326" y="10743"/>
                  <a:pt x="11361" y="10740"/>
                </a:cubicBezTo>
                <a:cubicBezTo>
                  <a:pt x="11411" y="10736"/>
                  <a:pt x="11457" y="10768"/>
                  <a:pt x="11460" y="10815"/>
                </a:cubicBezTo>
                <a:cubicBezTo>
                  <a:pt x="11464" y="10868"/>
                  <a:pt x="11469" y="10907"/>
                  <a:pt x="11410" y="10914"/>
                </a:cubicBezTo>
                <a:cubicBezTo>
                  <a:pt x="11378" y="10918"/>
                  <a:pt x="11367" y="10931"/>
                  <a:pt x="11336" y="10939"/>
                </a:cubicBezTo>
              </a:path>
              <a:path w="1290" h="596">
                <a:moveTo>
                  <a:pt x="11559" y="10740"/>
                </a:moveTo>
                <a:cubicBezTo>
                  <a:pt x="11559" y="10732"/>
                  <a:pt x="11559" y="10724"/>
                  <a:pt x="11559" y="10716"/>
                </a:cubicBezTo>
                <a:cubicBezTo>
                  <a:pt x="11520" y="10716"/>
                  <a:pt x="11494" y="10721"/>
                  <a:pt x="11485" y="10765"/>
                </a:cubicBezTo>
                <a:cubicBezTo>
                  <a:pt x="11471" y="10833"/>
                  <a:pt x="11534" y="10884"/>
                  <a:pt x="11584" y="10914"/>
                </a:cubicBezTo>
                <a:cubicBezTo>
                  <a:pt x="11662" y="10960"/>
                  <a:pt x="11688" y="10929"/>
                  <a:pt x="11757" y="1088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25360" y="4303800"/>
            <a:ext cx="295560" cy="189000"/>
          </a:xfrm>
          <a:custGeom>
            <a:avLst/>
            <a:gdLst/>
            <a:ahLst/>
            <a:rect l="l" t="t" r="r" b="b"/>
            <a:pathLst>
              <a:path w="820" h="522">
                <a:moveTo>
                  <a:pt x="3398" y="12278"/>
                </a:moveTo>
                <a:cubicBezTo>
                  <a:pt x="3307" y="12278"/>
                  <a:pt x="3216" y="12278"/>
                  <a:pt x="3125" y="12278"/>
                </a:cubicBezTo>
              </a:path>
              <a:path w="820" h="522">
                <a:moveTo>
                  <a:pt x="3125" y="12105"/>
                </a:moveTo>
                <a:cubicBezTo>
                  <a:pt x="3125" y="12057"/>
                  <a:pt x="3142" y="12080"/>
                  <a:pt x="3150" y="12105"/>
                </a:cubicBezTo>
              </a:path>
              <a:path w="820" h="522">
                <a:moveTo>
                  <a:pt x="3274" y="12378"/>
                </a:moveTo>
                <a:cubicBezTo>
                  <a:pt x="3312" y="12434"/>
                  <a:pt x="3329" y="12437"/>
                  <a:pt x="3324" y="12477"/>
                </a:cubicBezTo>
              </a:path>
              <a:path w="820" h="522">
                <a:moveTo>
                  <a:pt x="3597" y="12030"/>
                </a:moveTo>
                <a:cubicBezTo>
                  <a:pt x="3605" y="12014"/>
                  <a:pt x="3613" y="11997"/>
                  <a:pt x="3621" y="11981"/>
                </a:cubicBezTo>
                <a:cubicBezTo>
                  <a:pt x="3621" y="12033"/>
                  <a:pt x="3598" y="12149"/>
                  <a:pt x="3646" y="12179"/>
                </a:cubicBezTo>
                <a:cubicBezTo>
                  <a:pt x="3692" y="12207"/>
                  <a:pt x="3860" y="12190"/>
                  <a:pt x="3919" y="12204"/>
                </a:cubicBezTo>
                <a:cubicBezTo>
                  <a:pt x="3934" y="12208"/>
                  <a:pt x="3972" y="12256"/>
                  <a:pt x="3944" y="12278"/>
                </a:cubicBezTo>
                <a:cubicBezTo>
                  <a:pt x="3929" y="12290"/>
                  <a:pt x="3819" y="12324"/>
                  <a:pt x="3795" y="12328"/>
                </a:cubicBezTo>
                <a:cubicBezTo>
                  <a:pt x="3754" y="12328"/>
                  <a:pt x="3746" y="12328"/>
                  <a:pt x="3721" y="12328"/>
                </a:cubicBezTo>
              </a:path>
              <a:path w="820" h="522">
                <a:moveTo>
                  <a:pt x="3870" y="12005"/>
                </a:moveTo>
                <a:cubicBezTo>
                  <a:pt x="3833" y="11932"/>
                  <a:pt x="3787" y="11978"/>
                  <a:pt x="3721" y="1200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02120" y="4197240"/>
            <a:ext cx="108000" cy="169920"/>
          </a:xfrm>
          <a:custGeom>
            <a:avLst/>
            <a:gdLst/>
            <a:ahLst/>
            <a:rect l="l" t="t" r="r" b="b"/>
            <a:pathLst>
              <a:path w="298" h="472">
                <a:moveTo>
                  <a:pt x="13915" y="11931"/>
                </a:moveTo>
                <a:cubicBezTo>
                  <a:pt x="13816" y="11931"/>
                  <a:pt x="13717" y="11931"/>
                  <a:pt x="13618" y="11931"/>
                </a:cubicBezTo>
              </a:path>
              <a:path w="298" h="472">
                <a:moveTo>
                  <a:pt x="13742" y="11683"/>
                </a:moveTo>
                <a:cubicBezTo>
                  <a:pt x="13742" y="11655"/>
                  <a:pt x="13744" y="11649"/>
                  <a:pt x="13767" y="11683"/>
                </a:cubicBezTo>
              </a:path>
              <a:path w="298" h="472">
                <a:moveTo>
                  <a:pt x="13816" y="12005"/>
                </a:moveTo>
                <a:cubicBezTo>
                  <a:pt x="13838" y="12057"/>
                  <a:pt x="13841" y="12075"/>
                  <a:pt x="13841" y="1212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3680" y="4214880"/>
            <a:ext cx="134640" cy="152280"/>
          </a:xfrm>
          <a:custGeom>
            <a:avLst/>
            <a:gdLst/>
            <a:ahLst/>
            <a:rect l="l" t="t" r="r" b="b"/>
            <a:pathLst>
              <a:path w="373" h="422">
                <a:moveTo>
                  <a:pt x="14362" y="11782"/>
                </a:moveTo>
                <a:cubicBezTo>
                  <a:pt x="14338" y="11734"/>
                  <a:pt x="14330" y="11804"/>
                  <a:pt x="14312" y="11832"/>
                </a:cubicBezTo>
                <a:cubicBezTo>
                  <a:pt x="14294" y="11860"/>
                  <a:pt x="14261" y="11905"/>
                  <a:pt x="14312" y="11931"/>
                </a:cubicBezTo>
                <a:cubicBezTo>
                  <a:pt x="14346" y="11948"/>
                  <a:pt x="14428" y="11974"/>
                  <a:pt x="14461" y="11981"/>
                </a:cubicBezTo>
                <a:cubicBezTo>
                  <a:pt x="14512" y="11991"/>
                  <a:pt x="14529" y="11993"/>
                  <a:pt x="14536" y="12055"/>
                </a:cubicBezTo>
                <a:cubicBezTo>
                  <a:pt x="14543" y="12115"/>
                  <a:pt x="14479" y="12127"/>
                  <a:pt x="14436" y="12129"/>
                </a:cubicBezTo>
                <a:cubicBezTo>
                  <a:pt x="14387" y="12129"/>
                  <a:pt x="14370" y="12129"/>
                  <a:pt x="14337" y="12129"/>
                </a:cubicBezTo>
              </a:path>
              <a:path w="373" h="422">
                <a:moveTo>
                  <a:pt x="14610" y="11782"/>
                </a:moveTo>
                <a:cubicBezTo>
                  <a:pt x="14627" y="11757"/>
                  <a:pt x="14643" y="11733"/>
                  <a:pt x="14660" y="11708"/>
                </a:cubicBezTo>
                <a:cubicBezTo>
                  <a:pt x="14583" y="11723"/>
                  <a:pt x="14520" y="11733"/>
                  <a:pt x="14436" y="1173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98840" y="4375080"/>
            <a:ext cx="1214280" cy="438120"/>
          </a:xfrm>
          <a:custGeom>
            <a:avLst/>
            <a:gdLst/>
            <a:ahLst/>
            <a:rect l="l" t="t" r="r" b="b"/>
            <a:pathLst>
              <a:path w="3375" h="1217">
                <a:moveTo>
                  <a:pt x="7268" y="12254"/>
                </a:moveTo>
                <a:lnTo>
                  <a:pt x="7268" y="12254"/>
                </a:lnTo>
                <a:lnTo>
                  <a:pt x="7268" y="12254"/>
                </a:lnTo>
              </a:path>
              <a:path w="3375" h="1217">
                <a:moveTo>
                  <a:pt x="7268" y="12254"/>
                </a:moveTo>
                <a:cubicBezTo>
                  <a:pt x="7256" y="12288"/>
                  <a:pt x="7260" y="12278"/>
                  <a:pt x="7218" y="12278"/>
                </a:cubicBezTo>
                <a:cubicBezTo>
                  <a:pt x="7230" y="12233"/>
                  <a:pt x="7255" y="12198"/>
                  <a:pt x="7293" y="12179"/>
                </a:cubicBezTo>
                <a:cubicBezTo>
                  <a:pt x="7334" y="12158"/>
                  <a:pt x="7408" y="12124"/>
                  <a:pt x="7441" y="12179"/>
                </a:cubicBezTo>
                <a:cubicBezTo>
                  <a:pt x="7465" y="12219"/>
                  <a:pt x="7434" y="12273"/>
                  <a:pt x="7417" y="12303"/>
                </a:cubicBezTo>
                <a:cubicBezTo>
                  <a:pt x="7402" y="12330"/>
                  <a:pt x="7346" y="12390"/>
                  <a:pt x="7367" y="12427"/>
                </a:cubicBezTo>
                <a:cubicBezTo>
                  <a:pt x="7401" y="12488"/>
                  <a:pt x="7490" y="12432"/>
                  <a:pt x="7541" y="12452"/>
                </a:cubicBezTo>
                <a:cubicBezTo>
                  <a:pt x="7561" y="12460"/>
                  <a:pt x="7617" y="12526"/>
                  <a:pt x="7590" y="12551"/>
                </a:cubicBezTo>
                <a:cubicBezTo>
                  <a:pt x="7549" y="12589"/>
                  <a:pt x="7491" y="12605"/>
                  <a:pt x="7441" y="12626"/>
                </a:cubicBezTo>
              </a:path>
              <a:path w="3375" h="1217">
                <a:moveTo>
                  <a:pt x="7789" y="12700"/>
                </a:moveTo>
                <a:cubicBezTo>
                  <a:pt x="7827" y="12739"/>
                  <a:pt x="7844" y="12740"/>
                  <a:pt x="7838" y="12774"/>
                </a:cubicBezTo>
                <a:cubicBezTo>
                  <a:pt x="7763" y="12835"/>
                  <a:pt x="7731" y="12809"/>
                  <a:pt x="7640" y="12824"/>
                </a:cubicBezTo>
                <a:cubicBezTo>
                  <a:pt x="7544" y="12840"/>
                  <a:pt x="7464" y="12849"/>
                  <a:pt x="7367" y="12849"/>
                </a:cubicBezTo>
              </a:path>
              <a:path w="3375" h="1217">
                <a:moveTo>
                  <a:pt x="7417" y="13171"/>
                </a:moveTo>
                <a:cubicBezTo>
                  <a:pt x="7425" y="13163"/>
                  <a:pt x="7433" y="13154"/>
                  <a:pt x="7441" y="13146"/>
                </a:cubicBezTo>
                <a:cubicBezTo>
                  <a:pt x="7441" y="13197"/>
                  <a:pt x="7452" y="13205"/>
                  <a:pt x="7466" y="13246"/>
                </a:cubicBezTo>
                <a:cubicBezTo>
                  <a:pt x="7473" y="13267"/>
                  <a:pt x="7551" y="13288"/>
                  <a:pt x="7590" y="13295"/>
                </a:cubicBezTo>
                <a:cubicBezTo>
                  <a:pt x="7628" y="13301"/>
                  <a:pt x="7692" y="13275"/>
                  <a:pt x="7714" y="13320"/>
                </a:cubicBezTo>
                <a:cubicBezTo>
                  <a:pt x="7714" y="13345"/>
                  <a:pt x="7714" y="13353"/>
                  <a:pt x="7714" y="13370"/>
                </a:cubicBezTo>
                <a:cubicBezTo>
                  <a:pt x="7664" y="13370"/>
                  <a:pt x="7615" y="13370"/>
                  <a:pt x="7565" y="13370"/>
                </a:cubicBezTo>
              </a:path>
              <a:path w="3375" h="1217">
                <a:moveTo>
                  <a:pt x="7714" y="13122"/>
                </a:moveTo>
                <a:cubicBezTo>
                  <a:pt x="7825" y="13077"/>
                  <a:pt x="7691" y="13122"/>
                  <a:pt x="7640" y="13122"/>
                </a:cubicBezTo>
              </a:path>
              <a:path w="3375" h="1217">
                <a:moveTo>
                  <a:pt x="8384" y="12650"/>
                </a:moveTo>
                <a:cubicBezTo>
                  <a:pt x="8384" y="12642"/>
                  <a:pt x="8384" y="12634"/>
                  <a:pt x="8384" y="12626"/>
                </a:cubicBezTo>
                <a:cubicBezTo>
                  <a:pt x="8371" y="12665"/>
                  <a:pt x="8336" y="12671"/>
                  <a:pt x="8285" y="12675"/>
                </a:cubicBezTo>
                <a:cubicBezTo>
                  <a:pt x="8277" y="12675"/>
                  <a:pt x="8268" y="12675"/>
                  <a:pt x="8260" y="12675"/>
                </a:cubicBezTo>
              </a:path>
              <a:path w="3375" h="1217">
                <a:moveTo>
                  <a:pt x="8310" y="12725"/>
                </a:moveTo>
                <a:cubicBezTo>
                  <a:pt x="8363" y="12730"/>
                  <a:pt x="8450" y="12766"/>
                  <a:pt x="8409" y="12799"/>
                </a:cubicBezTo>
                <a:cubicBezTo>
                  <a:pt x="8390" y="12814"/>
                  <a:pt x="8358" y="12825"/>
                  <a:pt x="8334" y="12849"/>
                </a:cubicBezTo>
              </a:path>
              <a:path w="3375" h="1217">
                <a:moveTo>
                  <a:pt x="9004" y="12427"/>
                </a:moveTo>
                <a:cubicBezTo>
                  <a:pt x="9029" y="12402"/>
                  <a:pt x="9037" y="12394"/>
                  <a:pt x="9004" y="12378"/>
                </a:cubicBezTo>
                <a:cubicBezTo>
                  <a:pt x="8939" y="12394"/>
                  <a:pt x="8924" y="12404"/>
                  <a:pt x="8880" y="12452"/>
                </a:cubicBezTo>
                <a:cubicBezTo>
                  <a:pt x="8841" y="12495"/>
                  <a:pt x="8854" y="12539"/>
                  <a:pt x="8905" y="12576"/>
                </a:cubicBezTo>
                <a:cubicBezTo>
                  <a:pt x="8941" y="12602"/>
                  <a:pt x="9012" y="12622"/>
                  <a:pt x="9054" y="12626"/>
                </a:cubicBezTo>
                <a:cubicBezTo>
                  <a:pt x="9062" y="12626"/>
                  <a:pt x="9071" y="12626"/>
                  <a:pt x="9079" y="12626"/>
                </a:cubicBezTo>
                <a:cubicBezTo>
                  <a:pt x="9079" y="12678"/>
                  <a:pt x="9084" y="12678"/>
                  <a:pt x="9054" y="12700"/>
                </a:cubicBezTo>
                <a:cubicBezTo>
                  <a:pt x="9017" y="12728"/>
                  <a:pt x="9001" y="12725"/>
                  <a:pt x="8954" y="12725"/>
                </a:cubicBezTo>
              </a:path>
              <a:path w="3375" h="1217">
                <a:moveTo>
                  <a:pt x="9178" y="12526"/>
                </a:moveTo>
                <a:cubicBezTo>
                  <a:pt x="9207" y="12564"/>
                  <a:pt x="9203" y="12577"/>
                  <a:pt x="9203" y="12626"/>
                </a:cubicBezTo>
              </a:path>
              <a:path w="3375" h="1217">
                <a:moveTo>
                  <a:pt x="9178" y="12378"/>
                </a:moveTo>
                <a:cubicBezTo>
                  <a:pt x="9178" y="12361"/>
                  <a:pt x="9178" y="12345"/>
                  <a:pt x="9178" y="12328"/>
                </a:cubicBezTo>
              </a:path>
              <a:path w="3375" h="1217">
                <a:moveTo>
                  <a:pt x="9351" y="12502"/>
                </a:moveTo>
                <a:cubicBezTo>
                  <a:pt x="9356" y="12563"/>
                  <a:pt x="9376" y="12687"/>
                  <a:pt x="9376" y="12626"/>
                </a:cubicBezTo>
                <a:cubicBezTo>
                  <a:pt x="9376" y="12581"/>
                  <a:pt x="9386" y="12505"/>
                  <a:pt x="9426" y="12477"/>
                </a:cubicBezTo>
                <a:cubicBezTo>
                  <a:pt x="9486" y="12435"/>
                  <a:pt x="9524" y="12486"/>
                  <a:pt x="9575" y="12526"/>
                </a:cubicBezTo>
              </a:path>
              <a:path w="3375" h="1217">
                <a:moveTo>
                  <a:pt x="9798" y="12378"/>
                </a:moveTo>
                <a:cubicBezTo>
                  <a:pt x="9847" y="12328"/>
                  <a:pt x="9856" y="12303"/>
                  <a:pt x="9922" y="12303"/>
                </a:cubicBezTo>
                <a:cubicBezTo>
                  <a:pt x="10007" y="12303"/>
                  <a:pt x="9996" y="12359"/>
                  <a:pt x="9996" y="12427"/>
                </a:cubicBezTo>
                <a:cubicBezTo>
                  <a:pt x="9996" y="12452"/>
                  <a:pt x="9996" y="12460"/>
                  <a:pt x="9996" y="12477"/>
                </a:cubicBezTo>
                <a:cubicBezTo>
                  <a:pt x="9955" y="12477"/>
                  <a:pt x="9913" y="12477"/>
                  <a:pt x="9872" y="12477"/>
                </a:cubicBezTo>
              </a:path>
              <a:path w="3375" h="1217">
                <a:moveTo>
                  <a:pt x="10021" y="12303"/>
                </a:moveTo>
                <a:cubicBezTo>
                  <a:pt x="10040" y="12246"/>
                  <a:pt x="10049" y="12239"/>
                  <a:pt x="10046" y="12204"/>
                </a:cubicBezTo>
                <a:cubicBezTo>
                  <a:pt x="10010" y="12216"/>
                  <a:pt x="10008" y="12280"/>
                  <a:pt x="10021" y="12328"/>
                </a:cubicBezTo>
                <a:cubicBezTo>
                  <a:pt x="10042" y="12403"/>
                  <a:pt x="10072" y="12446"/>
                  <a:pt x="10145" y="12452"/>
                </a:cubicBezTo>
                <a:cubicBezTo>
                  <a:pt x="10153" y="12452"/>
                  <a:pt x="10162" y="12452"/>
                  <a:pt x="10170" y="12452"/>
                </a:cubicBezTo>
              </a:path>
              <a:path w="3375" h="1217">
                <a:moveTo>
                  <a:pt x="10592" y="12700"/>
                </a:moveTo>
                <a:cubicBezTo>
                  <a:pt x="10538" y="12708"/>
                  <a:pt x="10521" y="12740"/>
                  <a:pt x="10468" y="12750"/>
                </a:cubicBezTo>
                <a:cubicBezTo>
                  <a:pt x="10354" y="12771"/>
                  <a:pt x="10234" y="12780"/>
                  <a:pt x="10120" y="12799"/>
                </a:cubicBezTo>
                <a:cubicBezTo>
                  <a:pt x="9994" y="12820"/>
                  <a:pt x="9815" y="12850"/>
                  <a:pt x="9699" y="12898"/>
                </a:cubicBezTo>
                <a:cubicBezTo>
                  <a:pt x="9602" y="12938"/>
                  <a:pt x="9501" y="12982"/>
                  <a:pt x="9401" y="13022"/>
                </a:cubicBezTo>
                <a:cubicBezTo>
                  <a:pt x="9345" y="13045"/>
                  <a:pt x="9286" y="13063"/>
                  <a:pt x="9227" y="13072"/>
                </a:cubicBezTo>
                <a:cubicBezTo>
                  <a:pt x="9186" y="13072"/>
                  <a:pt x="9178" y="13072"/>
                  <a:pt x="9153" y="1307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79960" y="4562640"/>
            <a:ext cx="793800" cy="196560"/>
          </a:xfrm>
          <a:custGeom>
            <a:avLst/>
            <a:gdLst/>
            <a:ahLst/>
            <a:rect l="l" t="t" r="r" b="b"/>
            <a:pathLst>
              <a:path w="2208" h="547">
                <a:moveTo>
                  <a:pt x="11807" y="12849"/>
                </a:moveTo>
                <a:cubicBezTo>
                  <a:pt x="11815" y="12849"/>
                  <a:pt x="11824" y="12849"/>
                  <a:pt x="11832" y="12849"/>
                </a:cubicBezTo>
                <a:cubicBezTo>
                  <a:pt x="11793" y="12839"/>
                  <a:pt x="11777" y="12824"/>
                  <a:pt x="11733" y="12824"/>
                </a:cubicBezTo>
                <a:cubicBezTo>
                  <a:pt x="11677" y="12824"/>
                  <a:pt x="11651" y="12817"/>
                  <a:pt x="11609" y="12849"/>
                </a:cubicBezTo>
              </a:path>
              <a:path w="2208" h="547">
                <a:moveTo>
                  <a:pt x="11807" y="12948"/>
                </a:moveTo>
                <a:cubicBezTo>
                  <a:pt x="11846" y="12987"/>
                  <a:pt x="11863" y="12988"/>
                  <a:pt x="11857" y="13022"/>
                </a:cubicBezTo>
                <a:cubicBezTo>
                  <a:pt x="11810" y="13022"/>
                  <a:pt x="11778" y="13042"/>
                  <a:pt x="11733" y="13047"/>
                </a:cubicBezTo>
                <a:cubicBezTo>
                  <a:pt x="11725" y="13047"/>
                  <a:pt x="11716" y="13047"/>
                  <a:pt x="11708" y="13047"/>
                </a:cubicBezTo>
              </a:path>
              <a:path w="2208" h="547">
                <a:moveTo>
                  <a:pt x="12229" y="12700"/>
                </a:moveTo>
                <a:cubicBezTo>
                  <a:pt x="12237" y="12692"/>
                  <a:pt x="12246" y="12683"/>
                  <a:pt x="12254" y="12675"/>
                </a:cubicBezTo>
                <a:cubicBezTo>
                  <a:pt x="12227" y="12712"/>
                  <a:pt x="12190" y="12776"/>
                  <a:pt x="12179" y="12824"/>
                </a:cubicBezTo>
                <a:cubicBezTo>
                  <a:pt x="12163" y="12896"/>
                  <a:pt x="12175" y="12983"/>
                  <a:pt x="12204" y="13047"/>
                </a:cubicBezTo>
                <a:cubicBezTo>
                  <a:pt x="12225" y="13094"/>
                  <a:pt x="12276" y="13157"/>
                  <a:pt x="12328" y="13171"/>
                </a:cubicBezTo>
                <a:cubicBezTo>
                  <a:pt x="12345" y="13171"/>
                  <a:pt x="12361" y="13171"/>
                  <a:pt x="12378" y="13171"/>
                </a:cubicBezTo>
              </a:path>
              <a:path w="2208" h="547">
                <a:moveTo>
                  <a:pt x="12477" y="12948"/>
                </a:moveTo>
                <a:cubicBezTo>
                  <a:pt x="12443" y="12889"/>
                  <a:pt x="12444" y="12874"/>
                  <a:pt x="12378" y="12874"/>
                </a:cubicBezTo>
                <a:cubicBezTo>
                  <a:pt x="12323" y="12874"/>
                  <a:pt x="12273" y="12910"/>
                  <a:pt x="12229" y="12923"/>
                </a:cubicBezTo>
                <a:cubicBezTo>
                  <a:pt x="12221" y="12923"/>
                  <a:pt x="12212" y="12923"/>
                  <a:pt x="12204" y="12923"/>
                </a:cubicBezTo>
              </a:path>
              <a:path w="2208" h="547">
                <a:moveTo>
                  <a:pt x="12675" y="13022"/>
                </a:moveTo>
                <a:cubicBezTo>
                  <a:pt x="12746" y="13022"/>
                  <a:pt x="12633" y="13018"/>
                  <a:pt x="12626" y="13022"/>
                </a:cubicBezTo>
                <a:cubicBezTo>
                  <a:pt x="12583" y="13046"/>
                  <a:pt x="12601" y="13105"/>
                  <a:pt x="12601" y="13146"/>
                </a:cubicBezTo>
                <a:cubicBezTo>
                  <a:pt x="12666" y="13146"/>
                  <a:pt x="12679" y="13142"/>
                  <a:pt x="12725" y="13097"/>
                </a:cubicBezTo>
                <a:cubicBezTo>
                  <a:pt x="12772" y="13050"/>
                  <a:pt x="12784" y="13083"/>
                  <a:pt x="12824" y="13122"/>
                </a:cubicBezTo>
                <a:cubicBezTo>
                  <a:pt x="12858" y="13154"/>
                  <a:pt x="12874" y="13171"/>
                  <a:pt x="12898" y="13196"/>
                </a:cubicBezTo>
              </a:path>
              <a:path w="2208" h="547">
                <a:moveTo>
                  <a:pt x="12998" y="12973"/>
                </a:moveTo>
                <a:cubicBezTo>
                  <a:pt x="13027" y="12913"/>
                  <a:pt x="13022" y="13022"/>
                  <a:pt x="13022" y="13047"/>
                </a:cubicBezTo>
                <a:cubicBezTo>
                  <a:pt x="13022" y="13100"/>
                  <a:pt x="13036" y="13103"/>
                  <a:pt x="13047" y="13146"/>
                </a:cubicBezTo>
                <a:cubicBezTo>
                  <a:pt x="13102" y="13128"/>
                  <a:pt x="13069" y="13124"/>
                  <a:pt x="13097" y="13072"/>
                </a:cubicBezTo>
                <a:cubicBezTo>
                  <a:pt x="13109" y="13050"/>
                  <a:pt x="13202" y="13026"/>
                  <a:pt x="13221" y="13047"/>
                </a:cubicBezTo>
                <a:cubicBezTo>
                  <a:pt x="13265" y="13096"/>
                  <a:pt x="13305" y="13143"/>
                  <a:pt x="13320" y="13196"/>
                </a:cubicBezTo>
              </a:path>
              <a:path w="2208" h="547">
                <a:moveTo>
                  <a:pt x="13345" y="12998"/>
                </a:moveTo>
                <a:cubicBezTo>
                  <a:pt x="13370" y="12998"/>
                  <a:pt x="13458" y="12968"/>
                  <a:pt x="13469" y="12973"/>
                </a:cubicBezTo>
                <a:cubicBezTo>
                  <a:pt x="13501" y="12987"/>
                  <a:pt x="13560" y="13069"/>
                  <a:pt x="13568" y="13097"/>
                </a:cubicBezTo>
                <a:cubicBezTo>
                  <a:pt x="13582" y="13149"/>
                  <a:pt x="13541" y="13193"/>
                  <a:pt x="13494" y="13196"/>
                </a:cubicBezTo>
                <a:cubicBezTo>
                  <a:pt x="13452" y="13196"/>
                  <a:pt x="13444" y="13196"/>
                  <a:pt x="13419" y="13196"/>
                </a:cubicBezTo>
              </a:path>
              <a:path w="2208" h="547">
                <a:moveTo>
                  <a:pt x="13618" y="12973"/>
                </a:moveTo>
                <a:cubicBezTo>
                  <a:pt x="13626" y="12956"/>
                  <a:pt x="13635" y="12940"/>
                  <a:pt x="13643" y="12923"/>
                </a:cubicBezTo>
                <a:cubicBezTo>
                  <a:pt x="13608" y="12970"/>
                  <a:pt x="13618" y="13010"/>
                  <a:pt x="13618" y="13072"/>
                </a:cubicBezTo>
                <a:cubicBezTo>
                  <a:pt x="13618" y="13164"/>
                  <a:pt x="13651" y="13216"/>
                  <a:pt x="13742" y="13221"/>
                </a:cubicBezTo>
                <a:cubicBezTo>
                  <a:pt x="13786" y="13221"/>
                  <a:pt x="13800" y="13224"/>
                  <a:pt x="13816" y="1319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7720" y="4670280"/>
            <a:ext cx="455400" cy="179640"/>
          </a:xfrm>
          <a:custGeom>
            <a:avLst/>
            <a:gdLst/>
            <a:ahLst/>
            <a:rect l="l" t="t" r="r" b="b"/>
            <a:pathLst>
              <a:path w="1266" h="497">
                <a:moveTo>
                  <a:pt x="9327" y="13271"/>
                </a:moveTo>
                <a:cubicBezTo>
                  <a:pt x="9335" y="13271"/>
                  <a:pt x="9343" y="13271"/>
                  <a:pt x="9351" y="13271"/>
                </a:cubicBezTo>
              </a:path>
              <a:path w="1266" h="497">
                <a:moveTo>
                  <a:pt x="9500" y="13271"/>
                </a:moveTo>
                <a:cubicBezTo>
                  <a:pt x="9468" y="13279"/>
                  <a:pt x="9417" y="13309"/>
                  <a:pt x="9401" y="13345"/>
                </a:cubicBezTo>
                <a:cubicBezTo>
                  <a:pt x="9377" y="13398"/>
                  <a:pt x="9462" y="13456"/>
                  <a:pt x="9500" y="13469"/>
                </a:cubicBezTo>
                <a:cubicBezTo>
                  <a:pt x="9559" y="13489"/>
                  <a:pt x="9587" y="13455"/>
                  <a:pt x="9624" y="13419"/>
                </a:cubicBezTo>
                <a:cubicBezTo>
                  <a:pt x="9632" y="13411"/>
                  <a:pt x="9641" y="13403"/>
                  <a:pt x="9649" y="13395"/>
                </a:cubicBezTo>
              </a:path>
              <a:path w="1266" h="497">
                <a:moveTo>
                  <a:pt x="9624" y="13295"/>
                </a:moveTo>
                <a:cubicBezTo>
                  <a:pt x="9668" y="13284"/>
                  <a:pt x="9700" y="13258"/>
                  <a:pt x="9748" y="13246"/>
                </a:cubicBezTo>
                <a:cubicBezTo>
                  <a:pt x="9776" y="13239"/>
                  <a:pt x="9858" y="13294"/>
                  <a:pt x="9872" y="13320"/>
                </a:cubicBezTo>
                <a:cubicBezTo>
                  <a:pt x="9901" y="13372"/>
                  <a:pt x="9836" y="13392"/>
                  <a:pt x="9798" y="13395"/>
                </a:cubicBezTo>
                <a:cubicBezTo>
                  <a:pt x="9741" y="13399"/>
                  <a:pt x="9718" y="13397"/>
                  <a:pt x="9674" y="13370"/>
                </a:cubicBezTo>
              </a:path>
              <a:path w="1266" h="497">
                <a:moveTo>
                  <a:pt x="9897" y="13122"/>
                </a:moveTo>
                <a:cubicBezTo>
                  <a:pt x="9957" y="13102"/>
                  <a:pt x="9972" y="13103"/>
                  <a:pt x="9996" y="13072"/>
                </a:cubicBezTo>
                <a:cubicBezTo>
                  <a:pt x="9987" y="13110"/>
                  <a:pt x="9951" y="13148"/>
                  <a:pt x="9971" y="13196"/>
                </a:cubicBezTo>
                <a:cubicBezTo>
                  <a:pt x="9998" y="13261"/>
                  <a:pt x="10065" y="13222"/>
                  <a:pt x="10096" y="13271"/>
                </a:cubicBezTo>
                <a:cubicBezTo>
                  <a:pt x="10117" y="13304"/>
                  <a:pt x="10088" y="13314"/>
                  <a:pt x="10071" y="13320"/>
                </a:cubicBezTo>
              </a:path>
              <a:path w="1266" h="497">
                <a:moveTo>
                  <a:pt x="10220" y="13171"/>
                </a:moveTo>
                <a:cubicBezTo>
                  <a:pt x="10212" y="13163"/>
                  <a:pt x="10203" y="13154"/>
                  <a:pt x="10195" y="13146"/>
                </a:cubicBezTo>
                <a:cubicBezTo>
                  <a:pt x="10235" y="13094"/>
                  <a:pt x="10216" y="13097"/>
                  <a:pt x="10294" y="13097"/>
                </a:cubicBezTo>
                <a:cubicBezTo>
                  <a:pt x="10369" y="13097"/>
                  <a:pt x="10388" y="13134"/>
                  <a:pt x="10393" y="13196"/>
                </a:cubicBezTo>
                <a:cubicBezTo>
                  <a:pt x="10395" y="13223"/>
                  <a:pt x="10348" y="13287"/>
                  <a:pt x="10319" y="13295"/>
                </a:cubicBezTo>
                <a:cubicBezTo>
                  <a:pt x="10277" y="13295"/>
                  <a:pt x="10269" y="13295"/>
                  <a:pt x="10244" y="13295"/>
                </a:cubicBezTo>
              </a:path>
              <a:path w="1266" h="497">
                <a:moveTo>
                  <a:pt x="10418" y="13022"/>
                </a:moveTo>
                <a:cubicBezTo>
                  <a:pt x="10418" y="12981"/>
                  <a:pt x="10426" y="12965"/>
                  <a:pt x="10393" y="12973"/>
                </a:cubicBezTo>
                <a:cubicBezTo>
                  <a:pt x="10393" y="13026"/>
                  <a:pt x="10394" y="13046"/>
                  <a:pt x="10418" y="13097"/>
                </a:cubicBezTo>
                <a:cubicBezTo>
                  <a:pt x="10444" y="13152"/>
                  <a:pt x="10473" y="13194"/>
                  <a:pt x="10542" y="13171"/>
                </a:cubicBezTo>
                <a:cubicBezTo>
                  <a:pt x="10559" y="13163"/>
                  <a:pt x="10575" y="13154"/>
                  <a:pt x="10592" y="1314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80120" y="2374920"/>
            <a:ext cx="214200" cy="117360"/>
          </a:xfrm>
          <a:custGeom>
            <a:avLst/>
            <a:gdLst/>
            <a:ahLst/>
            <a:rect l="l" t="t" r="r" b="b"/>
            <a:pathLst>
              <a:path w="596" h="324">
                <a:moveTo>
                  <a:pt x="17214" y="6648"/>
                </a:moveTo>
                <a:cubicBezTo>
                  <a:pt x="17190" y="6648"/>
                  <a:pt x="17181" y="6648"/>
                  <a:pt x="17165" y="6648"/>
                </a:cubicBezTo>
                <a:cubicBezTo>
                  <a:pt x="17193" y="6620"/>
                  <a:pt x="17218" y="6582"/>
                  <a:pt x="17264" y="6598"/>
                </a:cubicBezTo>
                <a:cubicBezTo>
                  <a:pt x="17339" y="6625"/>
                  <a:pt x="17359" y="6700"/>
                  <a:pt x="17363" y="6772"/>
                </a:cubicBezTo>
                <a:cubicBezTo>
                  <a:pt x="17366" y="6823"/>
                  <a:pt x="17342" y="6897"/>
                  <a:pt x="17289" y="6921"/>
                </a:cubicBezTo>
                <a:cubicBezTo>
                  <a:pt x="17235" y="6945"/>
                  <a:pt x="17201" y="6916"/>
                  <a:pt x="17190" y="6871"/>
                </a:cubicBezTo>
              </a:path>
              <a:path w="596" h="324">
                <a:moveTo>
                  <a:pt x="17562" y="6623"/>
                </a:moveTo>
                <a:cubicBezTo>
                  <a:pt x="17590" y="6623"/>
                  <a:pt x="17520" y="6642"/>
                  <a:pt x="17487" y="6697"/>
                </a:cubicBezTo>
                <a:cubicBezTo>
                  <a:pt x="17453" y="6753"/>
                  <a:pt x="17453" y="6804"/>
                  <a:pt x="17512" y="6846"/>
                </a:cubicBezTo>
                <a:cubicBezTo>
                  <a:pt x="17575" y="6891"/>
                  <a:pt x="17648" y="6871"/>
                  <a:pt x="17711" y="6846"/>
                </a:cubicBezTo>
                <a:cubicBezTo>
                  <a:pt x="17727" y="6838"/>
                  <a:pt x="17744" y="6829"/>
                  <a:pt x="17760" y="682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00880" y="2401920"/>
            <a:ext cx="71280" cy="6336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8231" y="6672"/>
                </a:moveTo>
                <a:cubicBezTo>
                  <a:pt x="18239" y="6672"/>
                  <a:pt x="18248" y="6672"/>
                  <a:pt x="18256" y="6672"/>
                </a:cubicBezTo>
                <a:cubicBezTo>
                  <a:pt x="18203" y="6685"/>
                  <a:pt x="18171" y="6697"/>
                  <a:pt x="18107" y="6697"/>
                </a:cubicBezTo>
                <a:cubicBezTo>
                  <a:pt x="18083" y="6697"/>
                  <a:pt x="18074" y="6697"/>
                  <a:pt x="18058" y="6697"/>
                </a:cubicBezTo>
              </a:path>
              <a:path w="199" h="175">
                <a:moveTo>
                  <a:pt x="18157" y="6772"/>
                </a:moveTo>
                <a:cubicBezTo>
                  <a:pt x="18184" y="6807"/>
                  <a:pt x="18182" y="6802"/>
                  <a:pt x="18182" y="6846"/>
                </a:cubicBezTo>
                <a:cubicBezTo>
                  <a:pt x="18141" y="6846"/>
                  <a:pt x="18099" y="6846"/>
                  <a:pt x="18058" y="684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97800" y="2347920"/>
            <a:ext cx="392040" cy="169920"/>
          </a:xfrm>
          <a:custGeom>
            <a:avLst/>
            <a:gdLst/>
            <a:ahLst/>
            <a:rect l="l" t="t" r="r" b="b"/>
            <a:pathLst>
              <a:path w="1092" h="472">
                <a:moveTo>
                  <a:pt x="18653" y="6648"/>
                </a:moveTo>
                <a:cubicBezTo>
                  <a:pt x="18628" y="6648"/>
                  <a:pt x="18620" y="6648"/>
                  <a:pt x="18604" y="6648"/>
                </a:cubicBezTo>
                <a:cubicBezTo>
                  <a:pt x="18604" y="6603"/>
                  <a:pt x="18610" y="6575"/>
                  <a:pt x="18653" y="6548"/>
                </a:cubicBezTo>
                <a:cubicBezTo>
                  <a:pt x="18705" y="6516"/>
                  <a:pt x="18756" y="6511"/>
                  <a:pt x="18802" y="6548"/>
                </a:cubicBezTo>
                <a:cubicBezTo>
                  <a:pt x="18831" y="6571"/>
                  <a:pt x="18848" y="6648"/>
                  <a:pt x="18802" y="6672"/>
                </a:cubicBezTo>
                <a:cubicBezTo>
                  <a:pt x="18748" y="6700"/>
                  <a:pt x="18721" y="6673"/>
                  <a:pt x="18703" y="6747"/>
                </a:cubicBezTo>
                <a:cubicBezTo>
                  <a:pt x="18766" y="6797"/>
                  <a:pt x="18848" y="6811"/>
                  <a:pt x="18876" y="6896"/>
                </a:cubicBezTo>
                <a:cubicBezTo>
                  <a:pt x="18876" y="6921"/>
                  <a:pt x="18876" y="6929"/>
                  <a:pt x="18876" y="6945"/>
                </a:cubicBezTo>
                <a:cubicBezTo>
                  <a:pt x="18810" y="6945"/>
                  <a:pt x="18744" y="6945"/>
                  <a:pt x="18678" y="6945"/>
                </a:cubicBezTo>
              </a:path>
              <a:path w="1092" h="472">
                <a:moveTo>
                  <a:pt x="19100" y="6722"/>
                </a:moveTo>
                <a:cubicBezTo>
                  <a:pt x="19115" y="6661"/>
                  <a:pt x="19138" y="6672"/>
                  <a:pt x="19199" y="6672"/>
                </a:cubicBezTo>
                <a:cubicBezTo>
                  <a:pt x="19265" y="6672"/>
                  <a:pt x="19270" y="6745"/>
                  <a:pt x="19273" y="6796"/>
                </a:cubicBezTo>
                <a:cubicBezTo>
                  <a:pt x="19277" y="6863"/>
                  <a:pt x="19275" y="6892"/>
                  <a:pt x="19199" y="6896"/>
                </a:cubicBezTo>
                <a:cubicBezTo>
                  <a:pt x="19114" y="6900"/>
                  <a:pt x="19032" y="6892"/>
                  <a:pt x="18976" y="6821"/>
                </a:cubicBezTo>
                <a:cubicBezTo>
                  <a:pt x="18976" y="6813"/>
                  <a:pt x="18976" y="6804"/>
                  <a:pt x="18976" y="6796"/>
                </a:cubicBezTo>
              </a:path>
              <a:path w="1092" h="472">
                <a:moveTo>
                  <a:pt x="19695" y="6995"/>
                </a:moveTo>
                <a:cubicBezTo>
                  <a:pt x="19670" y="6995"/>
                  <a:pt x="19662" y="6995"/>
                  <a:pt x="19645" y="6995"/>
                </a:cubicBezTo>
              </a:path>
              <a:path w="1092" h="472">
                <a:moveTo>
                  <a:pt x="19372" y="6821"/>
                </a:moveTo>
                <a:cubicBezTo>
                  <a:pt x="19383" y="6855"/>
                  <a:pt x="19407" y="6852"/>
                  <a:pt x="19422" y="6896"/>
                </a:cubicBezTo>
                <a:cubicBezTo>
                  <a:pt x="19428" y="6915"/>
                  <a:pt x="19422" y="6950"/>
                  <a:pt x="19422" y="6970"/>
                </a:cubicBezTo>
                <a:cubicBezTo>
                  <a:pt x="19393" y="6951"/>
                  <a:pt x="19355" y="6829"/>
                  <a:pt x="19348" y="6772"/>
                </a:cubicBezTo>
                <a:cubicBezTo>
                  <a:pt x="19342" y="6720"/>
                  <a:pt x="19325" y="6564"/>
                  <a:pt x="19372" y="6548"/>
                </a:cubicBezTo>
                <a:cubicBezTo>
                  <a:pt x="19382" y="6626"/>
                  <a:pt x="19418" y="6691"/>
                  <a:pt x="19422" y="6772"/>
                </a:cubicBezTo>
                <a:cubicBezTo>
                  <a:pt x="19422" y="6821"/>
                  <a:pt x="19422" y="6838"/>
                  <a:pt x="19422" y="6871"/>
                </a:cubicBezTo>
                <a:cubicBezTo>
                  <a:pt x="19380" y="6850"/>
                  <a:pt x="19310" y="6770"/>
                  <a:pt x="19273" y="6722"/>
                </a:cubicBezTo>
                <a:cubicBezTo>
                  <a:pt x="19228" y="6665"/>
                  <a:pt x="19205" y="6576"/>
                  <a:pt x="19149" y="6548"/>
                </a:cubicBezTo>
                <a:cubicBezTo>
                  <a:pt x="19113" y="6608"/>
                  <a:pt x="19109" y="6721"/>
                  <a:pt x="19100" y="6796"/>
                </a:cubicBezTo>
                <a:cubicBezTo>
                  <a:pt x="19095" y="6842"/>
                  <a:pt x="19084" y="6877"/>
                  <a:pt x="19075" y="6921"/>
                </a:cubicBezTo>
                <a:cubicBezTo>
                  <a:pt x="18982" y="6862"/>
                  <a:pt x="18937" y="6789"/>
                  <a:pt x="18876" y="6697"/>
                </a:cubicBezTo>
                <a:cubicBezTo>
                  <a:pt x="18870" y="6688"/>
                  <a:pt x="18782" y="6533"/>
                  <a:pt x="18777" y="6598"/>
                </a:cubicBezTo>
                <a:cubicBezTo>
                  <a:pt x="18774" y="6639"/>
                  <a:pt x="18777" y="6681"/>
                  <a:pt x="18777" y="672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88120" y="2347920"/>
            <a:ext cx="500040" cy="152280"/>
          </a:xfrm>
          <a:custGeom>
            <a:avLst/>
            <a:gdLst/>
            <a:ahLst/>
            <a:rect l="l" t="t" r="r" b="b"/>
            <a:pathLst>
              <a:path w="1390" h="422">
                <a:moveTo>
                  <a:pt x="19993" y="6598"/>
                </a:moveTo>
                <a:cubicBezTo>
                  <a:pt x="19985" y="6598"/>
                  <a:pt x="19976" y="6598"/>
                  <a:pt x="19968" y="6598"/>
                </a:cubicBezTo>
                <a:cubicBezTo>
                  <a:pt x="19979" y="6552"/>
                  <a:pt x="20014" y="6533"/>
                  <a:pt x="20067" y="6524"/>
                </a:cubicBezTo>
                <a:cubicBezTo>
                  <a:pt x="20118" y="6515"/>
                  <a:pt x="20178" y="6518"/>
                  <a:pt x="20216" y="6548"/>
                </a:cubicBezTo>
                <a:cubicBezTo>
                  <a:pt x="20258" y="6581"/>
                  <a:pt x="20247" y="6609"/>
                  <a:pt x="20216" y="6623"/>
                </a:cubicBezTo>
                <a:cubicBezTo>
                  <a:pt x="20200" y="6631"/>
                  <a:pt x="20099" y="6661"/>
                  <a:pt x="20092" y="6672"/>
                </a:cubicBezTo>
                <a:cubicBezTo>
                  <a:pt x="20092" y="6680"/>
                  <a:pt x="20092" y="6689"/>
                  <a:pt x="20092" y="6697"/>
                </a:cubicBezTo>
                <a:cubicBezTo>
                  <a:pt x="20104" y="6734"/>
                  <a:pt x="20169" y="6749"/>
                  <a:pt x="20216" y="6772"/>
                </a:cubicBezTo>
                <a:cubicBezTo>
                  <a:pt x="20248" y="6788"/>
                  <a:pt x="20319" y="6819"/>
                  <a:pt x="20290" y="6871"/>
                </a:cubicBezTo>
                <a:cubicBezTo>
                  <a:pt x="20265" y="6917"/>
                  <a:pt x="20183" y="6896"/>
                  <a:pt x="20141" y="6896"/>
                </a:cubicBezTo>
                <a:cubicBezTo>
                  <a:pt x="20086" y="6896"/>
                  <a:pt x="20071" y="6879"/>
                  <a:pt x="20017" y="6871"/>
                </a:cubicBezTo>
              </a:path>
              <a:path w="1390" h="422">
                <a:moveTo>
                  <a:pt x="20563" y="6598"/>
                </a:moveTo>
                <a:cubicBezTo>
                  <a:pt x="20563" y="6581"/>
                  <a:pt x="20563" y="6565"/>
                  <a:pt x="20563" y="6548"/>
                </a:cubicBezTo>
                <a:cubicBezTo>
                  <a:pt x="20551" y="6610"/>
                  <a:pt x="20538" y="6655"/>
                  <a:pt x="20538" y="6722"/>
                </a:cubicBezTo>
                <a:cubicBezTo>
                  <a:pt x="20538" y="6788"/>
                  <a:pt x="20538" y="6855"/>
                  <a:pt x="20538" y="6921"/>
                </a:cubicBezTo>
              </a:path>
              <a:path w="1390" h="422">
                <a:moveTo>
                  <a:pt x="20811" y="6896"/>
                </a:moveTo>
                <a:cubicBezTo>
                  <a:pt x="20852" y="6896"/>
                  <a:pt x="20824" y="6909"/>
                  <a:pt x="20861" y="6921"/>
                </a:cubicBezTo>
              </a:path>
              <a:path w="1390" h="422">
                <a:moveTo>
                  <a:pt x="21134" y="6772"/>
                </a:moveTo>
                <a:cubicBezTo>
                  <a:pt x="21109" y="6747"/>
                  <a:pt x="21101" y="6739"/>
                  <a:pt x="21084" y="6722"/>
                </a:cubicBezTo>
                <a:cubicBezTo>
                  <a:pt x="21133" y="6673"/>
                  <a:pt x="21179" y="6639"/>
                  <a:pt x="21233" y="6598"/>
                </a:cubicBezTo>
                <a:cubicBezTo>
                  <a:pt x="21261" y="6570"/>
                  <a:pt x="21274" y="6561"/>
                  <a:pt x="21307" y="6573"/>
                </a:cubicBezTo>
                <a:cubicBezTo>
                  <a:pt x="21349" y="6646"/>
                  <a:pt x="21378" y="6705"/>
                  <a:pt x="21357" y="6796"/>
                </a:cubicBezTo>
                <a:cubicBezTo>
                  <a:pt x="21340" y="6869"/>
                  <a:pt x="21282" y="6929"/>
                  <a:pt x="21208" y="6945"/>
                </a:cubicBezTo>
                <a:cubicBezTo>
                  <a:pt x="21165" y="6954"/>
                  <a:pt x="21051" y="6917"/>
                  <a:pt x="21034" y="6871"/>
                </a:cubicBezTo>
                <a:cubicBezTo>
                  <a:pt x="21034" y="6821"/>
                  <a:pt x="21034" y="6805"/>
                  <a:pt x="21034" y="677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80080" y="2455920"/>
            <a:ext cx="115920" cy="2616120"/>
          </a:xfrm>
          <a:custGeom>
            <a:avLst/>
            <a:gdLst/>
            <a:ahLst/>
            <a:rect l="l" t="t" r="r" b="b"/>
            <a:pathLst>
              <a:path w="323" h="7269">
                <a:moveTo>
                  <a:pt x="15999" y="6846"/>
                </a:moveTo>
                <a:cubicBezTo>
                  <a:pt x="16022" y="6883"/>
                  <a:pt x="16033" y="6855"/>
                  <a:pt x="16049" y="6896"/>
                </a:cubicBezTo>
                <a:cubicBezTo>
                  <a:pt x="16077" y="6967"/>
                  <a:pt x="16092" y="7042"/>
                  <a:pt x="16098" y="7119"/>
                </a:cubicBezTo>
                <a:cubicBezTo>
                  <a:pt x="16114" y="7344"/>
                  <a:pt x="16083" y="7568"/>
                  <a:pt x="16073" y="7789"/>
                </a:cubicBezTo>
                <a:cubicBezTo>
                  <a:pt x="16054" y="8226"/>
                  <a:pt x="16103" y="8669"/>
                  <a:pt x="16049" y="9103"/>
                </a:cubicBezTo>
                <a:cubicBezTo>
                  <a:pt x="16027" y="9279"/>
                  <a:pt x="16024" y="9446"/>
                  <a:pt x="16024" y="9624"/>
                </a:cubicBezTo>
                <a:cubicBezTo>
                  <a:pt x="16024" y="9883"/>
                  <a:pt x="15988" y="10162"/>
                  <a:pt x="15949" y="10418"/>
                </a:cubicBezTo>
                <a:cubicBezTo>
                  <a:pt x="15916" y="10634"/>
                  <a:pt x="15876" y="10847"/>
                  <a:pt x="15850" y="11063"/>
                </a:cubicBezTo>
                <a:cubicBezTo>
                  <a:pt x="15827" y="11253"/>
                  <a:pt x="15805" y="11441"/>
                  <a:pt x="15801" y="11633"/>
                </a:cubicBezTo>
                <a:cubicBezTo>
                  <a:pt x="15797" y="11833"/>
                  <a:pt x="15776" y="12028"/>
                  <a:pt x="15776" y="12229"/>
                </a:cubicBezTo>
                <a:cubicBezTo>
                  <a:pt x="15776" y="12828"/>
                  <a:pt x="15744" y="13451"/>
                  <a:pt x="15801" y="14039"/>
                </a:cubicBezTo>
                <a:cubicBezTo>
                  <a:pt x="15801" y="14064"/>
                  <a:pt x="15801" y="14072"/>
                  <a:pt x="15801" y="1408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81840" y="2697120"/>
            <a:ext cx="2500200" cy="1089000"/>
          </a:xfrm>
          <a:custGeom>
            <a:avLst/>
            <a:gdLst/>
            <a:ahLst/>
            <a:rect l="l" t="t" r="r" b="b"/>
            <a:pathLst>
              <a:path w="6946" h="3027">
                <a:moveTo>
                  <a:pt x="17041" y="7491"/>
                </a:moveTo>
                <a:cubicBezTo>
                  <a:pt x="17019" y="7527"/>
                  <a:pt x="17016" y="7563"/>
                  <a:pt x="17016" y="7640"/>
                </a:cubicBezTo>
                <a:cubicBezTo>
                  <a:pt x="17016" y="7766"/>
                  <a:pt x="16976" y="7888"/>
                  <a:pt x="16966" y="8012"/>
                </a:cubicBezTo>
                <a:cubicBezTo>
                  <a:pt x="16943" y="8285"/>
                  <a:pt x="16981" y="8557"/>
                  <a:pt x="16942" y="8830"/>
                </a:cubicBezTo>
                <a:cubicBezTo>
                  <a:pt x="16915" y="9014"/>
                  <a:pt x="16937" y="9193"/>
                  <a:pt x="16917" y="9376"/>
                </a:cubicBezTo>
                <a:cubicBezTo>
                  <a:pt x="16899" y="9539"/>
                  <a:pt x="16873" y="9706"/>
                  <a:pt x="16892" y="9872"/>
                </a:cubicBezTo>
                <a:cubicBezTo>
                  <a:pt x="16906" y="9996"/>
                  <a:pt x="16912" y="10124"/>
                  <a:pt x="16942" y="10244"/>
                </a:cubicBezTo>
              </a:path>
              <a:path w="6946" h="3027">
                <a:moveTo>
                  <a:pt x="17016" y="8930"/>
                </a:moveTo>
                <a:cubicBezTo>
                  <a:pt x="17057" y="8930"/>
                  <a:pt x="17099" y="8930"/>
                  <a:pt x="17140" y="8930"/>
                </a:cubicBezTo>
                <a:cubicBezTo>
                  <a:pt x="17160" y="8918"/>
                  <a:pt x="17175" y="8919"/>
                  <a:pt x="17214" y="8905"/>
                </a:cubicBezTo>
                <a:cubicBezTo>
                  <a:pt x="17242" y="8895"/>
                  <a:pt x="17288" y="8893"/>
                  <a:pt x="17314" y="8880"/>
                </a:cubicBezTo>
                <a:cubicBezTo>
                  <a:pt x="17342" y="8866"/>
                  <a:pt x="17389" y="8846"/>
                  <a:pt x="17413" y="8830"/>
                </a:cubicBezTo>
                <a:cubicBezTo>
                  <a:pt x="17468" y="8793"/>
                  <a:pt x="17509" y="8737"/>
                  <a:pt x="17562" y="8706"/>
                </a:cubicBezTo>
                <a:cubicBezTo>
                  <a:pt x="17582" y="8677"/>
                  <a:pt x="17582" y="8677"/>
                  <a:pt x="17611" y="8657"/>
                </a:cubicBezTo>
                <a:cubicBezTo>
                  <a:pt x="17633" y="8618"/>
                  <a:pt x="17654" y="8569"/>
                  <a:pt x="17686" y="8533"/>
                </a:cubicBezTo>
                <a:cubicBezTo>
                  <a:pt x="17719" y="8497"/>
                  <a:pt x="17716" y="8453"/>
                  <a:pt x="17735" y="8409"/>
                </a:cubicBezTo>
                <a:cubicBezTo>
                  <a:pt x="17756" y="8360"/>
                  <a:pt x="17766" y="8307"/>
                  <a:pt x="17785" y="8260"/>
                </a:cubicBezTo>
                <a:cubicBezTo>
                  <a:pt x="17809" y="8201"/>
                  <a:pt x="17845" y="8124"/>
                  <a:pt x="17859" y="8062"/>
                </a:cubicBezTo>
                <a:cubicBezTo>
                  <a:pt x="17874" y="7992"/>
                  <a:pt x="17885" y="7931"/>
                  <a:pt x="17909" y="7863"/>
                </a:cubicBezTo>
                <a:cubicBezTo>
                  <a:pt x="17925" y="7818"/>
                  <a:pt x="17918" y="7757"/>
                  <a:pt x="17934" y="7714"/>
                </a:cubicBezTo>
                <a:cubicBezTo>
                  <a:pt x="17948" y="7676"/>
                  <a:pt x="17953" y="7683"/>
                  <a:pt x="17959" y="7640"/>
                </a:cubicBezTo>
                <a:cubicBezTo>
                  <a:pt x="17977" y="7615"/>
                  <a:pt x="17975" y="7639"/>
                  <a:pt x="17983" y="7590"/>
                </a:cubicBezTo>
              </a:path>
              <a:path w="6946" h="3027">
                <a:moveTo>
                  <a:pt x="18157" y="10269"/>
                </a:moveTo>
                <a:cubicBezTo>
                  <a:pt x="18164" y="10241"/>
                  <a:pt x="18174" y="10204"/>
                  <a:pt x="18182" y="10170"/>
                </a:cubicBezTo>
                <a:cubicBezTo>
                  <a:pt x="18194" y="10122"/>
                  <a:pt x="18202" y="10095"/>
                  <a:pt x="18207" y="10046"/>
                </a:cubicBezTo>
                <a:cubicBezTo>
                  <a:pt x="18220" y="9933"/>
                  <a:pt x="18221" y="9800"/>
                  <a:pt x="18231" y="9699"/>
                </a:cubicBezTo>
                <a:cubicBezTo>
                  <a:pt x="18237" y="9645"/>
                  <a:pt x="18241" y="9620"/>
                  <a:pt x="18256" y="9575"/>
                </a:cubicBezTo>
                <a:cubicBezTo>
                  <a:pt x="18268" y="9540"/>
                  <a:pt x="18264" y="9507"/>
                  <a:pt x="18281" y="9475"/>
                </a:cubicBezTo>
                <a:cubicBezTo>
                  <a:pt x="18298" y="9443"/>
                  <a:pt x="18314" y="9406"/>
                  <a:pt x="18331" y="9376"/>
                </a:cubicBezTo>
                <a:cubicBezTo>
                  <a:pt x="18349" y="9343"/>
                  <a:pt x="18363" y="9307"/>
                  <a:pt x="18380" y="9277"/>
                </a:cubicBezTo>
                <a:cubicBezTo>
                  <a:pt x="18399" y="9244"/>
                  <a:pt x="18413" y="9209"/>
                  <a:pt x="18430" y="9178"/>
                </a:cubicBezTo>
                <a:cubicBezTo>
                  <a:pt x="18452" y="9137"/>
                  <a:pt x="18478" y="9095"/>
                  <a:pt x="18504" y="9054"/>
                </a:cubicBezTo>
                <a:cubicBezTo>
                  <a:pt x="18521" y="9028"/>
                  <a:pt x="18538" y="8981"/>
                  <a:pt x="18554" y="8954"/>
                </a:cubicBezTo>
                <a:cubicBezTo>
                  <a:pt x="18589" y="8940"/>
                  <a:pt x="18619" y="8920"/>
                  <a:pt x="18653" y="8905"/>
                </a:cubicBezTo>
                <a:cubicBezTo>
                  <a:pt x="18680" y="8893"/>
                  <a:pt x="18725" y="8862"/>
                  <a:pt x="18752" y="8855"/>
                </a:cubicBezTo>
                <a:cubicBezTo>
                  <a:pt x="18940" y="8806"/>
                  <a:pt x="19214" y="8850"/>
                  <a:pt x="19397" y="8830"/>
                </a:cubicBezTo>
                <a:cubicBezTo>
                  <a:pt x="19458" y="8823"/>
                  <a:pt x="19520" y="8815"/>
                  <a:pt x="19571" y="8806"/>
                </a:cubicBezTo>
                <a:cubicBezTo>
                  <a:pt x="19579" y="8806"/>
                  <a:pt x="19588" y="8806"/>
                  <a:pt x="19596" y="8806"/>
                </a:cubicBezTo>
                <a:cubicBezTo>
                  <a:pt x="19616" y="8788"/>
                  <a:pt x="19631" y="8773"/>
                  <a:pt x="19670" y="8756"/>
                </a:cubicBezTo>
                <a:cubicBezTo>
                  <a:pt x="19672" y="8755"/>
                  <a:pt x="19703" y="8739"/>
                  <a:pt x="19720" y="8731"/>
                </a:cubicBezTo>
                <a:cubicBezTo>
                  <a:pt x="19739" y="8714"/>
                  <a:pt x="19767" y="8681"/>
                  <a:pt x="19794" y="8657"/>
                </a:cubicBezTo>
                <a:cubicBezTo>
                  <a:pt x="19823" y="8631"/>
                  <a:pt x="19840" y="8620"/>
                  <a:pt x="19869" y="8582"/>
                </a:cubicBezTo>
                <a:cubicBezTo>
                  <a:pt x="19890" y="8554"/>
                  <a:pt x="19929" y="8493"/>
                  <a:pt x="19943" y="8458"/>
                </a:cubicBezTo>
                <a:cubicBezTo>
                  <a:pt x="19957" y="8424"/>
                  <a:pt x="19988" y="8367"/>
                  <a:pt x="19993" y="8334"/>
                </a:cubicBezTo>
                <a:cubicBezTo>
                  <a:pt x="20002" y="8276"/>
                  <a:pt x="20002" y="8237"/>
                  <a:pt x="20017" y="8186"/>
                </a:cubicBezTo>
                <a:cubicBezTo>
                  <a:pt x="20033" y="8131"/>
                  <a:pt x="20030" y="8091"/>
                  <a:pt x="20042" y="8037"/>
                </a:cubicBezTo>
                <a:cubicBezTo>
                  <a:pt x="20052" y="7991"/>
                  <a:pt x="20065" y="7972"/>
                  <a:pt x="20067" y="7913"/>
                </a:cubicBezTo>
                <a:cubicBezTo>
                  <a:pt x="20070" y="7839"/>
                  <a:pt x="20067" y="7764"/>
                  <a:pt x="20067" y="7689"/>
                </a:cubicBezTo>
              </a:path>
              <a:path w="6946" h="3027">
                <a:moveTo>
                  <a:pt x="20241" y="10269"/>
                </a:moveTo>
                <a:cubicBezTo>
                  <a:pt x="20245" y="10225"/>
                  <a:pt x="20261" y="10178"/>
                  <a:pt x="20265" y="10145"/>
                </a:cubicBezTo>
                <a:cubicBezTo>
                  <a:pt x="20275" y="10058"/>
                  <a:pt x="20284" y="9946"/>
                  <a:pt x="20290" y="9872"/>
                </a:cubicBezTo>
                <a:cubicBezTo>
                  <a:pt x="20297" y="9796"/>
                  <a:pt x="20296" y="9738"/>
                  <a:pt x="20315" y="9674"/>
                </a:cubicBezTo>
                <a:cubicBezTo>
                  <a:pt x="20326" y="9638"/>
                  <a:pt x="20329" y="9609"/>
                  <a:pt x="20340" y="9575"/>
                </a:cubicBezTo>
                <a:cubicBezTo>
                  <a:pt x="20352" y="9541"/>
                  <a:pt x="20354" y="9509"/>
                  <a:pt x="20365" y="9475"/>
                </a:cubicBezTo>
                <a:cubicBezTo>
                  <a:pt x="20376" y="9441"/>
                  <a:pt x="20378" y="9409"/>
                  <a:pt x="20389" y="9376"/>
                </a:cubicBezTo>
                <a:cubicBezTo>
                  <a:pt x="20401" y="9339"/>
                  <a:pt x="20397" y="9287"/>
                  <a:pt x="20414" y="9252"/>
                </a:cubicBezTo>
                <a:cubicBezTo>
                  <a:pt x="20432" y="9215"/>
                  <a:pt x="20451" y="9192"/>
                  <a:pt x="20464" y="9153"/>
                </a:cubicBezTo>
                <a:cubicBezTo>
                  <a:pt x="20480" y="9105"/>
                  <a:pt x="20515" y="9075"/>
                  <a:pt x="20538" y="9029"/>
                </a:cubicBezTo>
                <a:cubicBezTo>
                  <a:pt x="20538" y="9021"/>
                  <a:pt x="20538" y="9012"/>
                  <a:pt x="20538" y="9004"/>
                </a:cubicBezTo>
                <a:cubicBezTo>
                  <a:pt x="20567" y="8986"/>
                  <a:pt x="20574" y="8982"/>
                  <a:pt x="20613" y="8954"/>
                </a:cubicBezTo>
                <a:cubicBezTo>
                  <a:pt x="20647" y="8929"/>
                  <a:pt x="20674" y="8920"/>
                  <a:pt x="20712" y="8905"/>
                </a:cubicBezTo>
                <a:cubicBezTo>
                  <a:pt x="20740" y="8894"/>
                  <a:pt x="20783" y="8884"/>
                  <a:pt x="20811" y="8880"/>
                </a:cubicBezTo>
                <a:cubicBezTo>
                  <a:pt x="20845" y="8875"/>
                  <a:pt x="20886" y="8859"/>
                  <a:pt x="20910" y="8855"/>
                </a:cubicBezTo>
                <a:cubicBezTo>
                  <a:pt x="21035" y="8836"/>
                  <a:pt x="21166" y="8867"/>
                  <a:pt x="21282" y="8880"/>
                </a:cubicBezTo>
                <a:cubicBezTo>
                  <a:pt x="21373" y="8890"/>
                  <a:pt x="21480" y="8887"/>
                  <a:pt x="21555" y="8855"/>
                </a:cubicBezTo>
                <a:cubicBezTo>
                  <a:pt x="21600" y="8836"/>
                  <a:pt x="21643" y="8791"/>
                  <a:pt x="21679" y="8756"/>
                </a:cubicBezTo>
                <a:cubicBezTo>
                  <a:pt x="21722" y="8715"/>
                  <a:pt x="21749" y="8683"/>
                  <a:pt x="21779" y="8632"/>
                </a:cubicBezTo>
                <a:cubicBezTo>
                  <a:pt x="21818" y="8565"/>
                  <a:pt x="21831" y="8502"/>
                  <a:pt x="21853" y="8434"/>
                </a:cubicBezTo>
                <a:cubicBezTo>
                  <a:pt x="21886" y="8333"/>
                  <a:pt x="21900" y="8265"/>
                  <a:pt x="21903" y="8161"/>
                </a:cubicBezTo>
                <a:cubicBezTo>
                  <a:pt x="21905" y="8091"/>
                  <a:pt x="21910" y="8028"/>
                  <a:pt x="21927" y="7962"/>
                </a:cubicBezTo>
                <a:cubicBezTo>
                  <a:pt x="21935" y="7932"/>
                  <a:pt x="21967" y="7893"/>
                  <a:pt x="21977" y="7863"/>
                </a:cubicBezTo>
              </a:path>
              <a:path w="6946" h="3027">
                <a:moveTo>
                  <a:pt x="21382" y="9351"/>
                </a:moveTo>
                <a:cubicBezTo>
                  <a:pt x="21382" y="9405"/>
                  <a:pt x="21397" y="9521"/>
                  <a:pt x="21382" y="9500"/>
                </a:cubicBezTo>
                <a:cubicBezTo>
                  <a:pt x="21359" y="9468"/>
                  <a:pt x="21336" y="9441"/>
                  <a:pt x="21332" y="9401"/>
                </a:cubicBezTo>
                <a:cubicBezTo>
                  <a:pt x="21332" y="9376"/>
                  <a:pt x="21332" y="9368"/>
                  <a:pt x="21332" y="9351"/>
                </a:cubicBezTo>
                <a:cubicBezTo>
                  <a:pt x="21415" y="9351"/>
                  <a:pt x="21497" y="9351"/>
                  <a:pt x="21580" y="9351"/>
                </a:cubicBezTo>
              </a:path>
              <a:path w="6946" h="3027">
                <a:moveTo>
                  <a:pt x="21580" y="9351"/>
                </a:moveTo>
                <a:cubicBezTo>
                  <a:pt x="21608" y="9379"/>
                  <a:pt x="21633" y="9417"/>
                  <a:pt x="21679" y="9401"/>
                </a:cubicBezTo>
                <a:cubicBezTo>
                  <a:pt x="21731" y="9382"/>
                  <a:pt x="21742" y="9349"/>
                  <a:pt x="21754" y="9302"/>
                </a:cubicBezTo>
                <a:cubicBezTo>
                  <a:pt x="21721" y="9277"/>
                  <a:pt x="21686" y="9256"/>
                  <a:pt x="21654" y="9302"/>
                </a:cubicBezTo>
                <a:cubicBezTo>
                  <a:pt x="21620" y="9351"/>
                  <a:pt x="21618" y="9406"/>
                  <a:pt x="21654" y="9451"/>
                </a:cubicBezTo>
                <a:cubicBezTo>
                  <a:pt x="21699" y="9506"/>
                  <a:pt x="21723" y="9509"/>
                  <a:pt x="21779" y="9475"/>
                </a:cubicBezTo>
              </a:path>
              <a:path w="6946" h="3027">
                <a:moveTo>
                  <a:pt x="21952" y="9624"/>
                </a:moveTo>
                <a:cubicBezTo>
                  <a:pt x="21973" y="9694"/>
                  <a:pt x="21977" y="9727"/>
                  <a:pt x="21977" y="9798"/>
                </a:cubicBezTo>
                <a:cubicBezTo>
                  <a:pt x="21938" y="9720"/>
                  <a:pt x="21929" y="9655"/>
                  <a:pt x="21903" y="9575"/>
                </a:cubicBezTo>
                <a:cubicBezTo>
                  <a:pt x="21874" y="9487"/>
                  <a:pt x="21864" y="9447"/>
                  <a:pt x="21927" y="9376"/>
                </a:cubicBezTo>
                <a:cubicBezTo>
                  <a:pt x="21962" y="9337"/>
                  <a:pt x="22005" y="9352"/>
                  <a:pt x="22027" y="9401"/>
                </a:cubicBezTo>
                <a:cubicBezTo>
                  <a:pt x="22036" y="9420"/>
                  <a:pt x="22042" y="9520"/>
                  <a:pt x="22002" y="9500"/>
                </a:cubicBezTo>
                <a:cubicBezTo>
                  <a:pt x="21994" y="9492"/>
                  <a:pt x="21985" y="9483"/>
                  <a:pt x="21977" y="9475"/>
                </a:cubicBezTo>
              </a:path>
              <a:path w="6946" h="3027">
                <a:moveTo>
                  <a:pt x="21977" y="9475"/>
                </a:moveTo>
                <a:cubicBezTo>
                  <a:pt x="22002" y="9475"/>
                  <a:pt x="22090" y="9505"/>
                  <a:pt x="22101" y="9500"/>
                </a:cubicBezTo>
                <a:cubicBezTo>
                  <a:pt x="22135" y="9485"/>
                  <a:pt x="22172" y="9434"/>
                  <a:pt x="22175" y="9401"/>
                </a:cubicBezTo>
                <a:cubicBezTo>
                  <a:pt x="22175" y="9393"/>
                  <a:pt x="22175" y="9384"/>
                  <a:pt x="22175" y="9376"/>
                </a:cubicBezTo>
                <a:cubicBezTo>
                  <a:pt x="22132" y="9387"/>
                  <a:pt x="22100" y="9423"/>
                  <a:pt x="22126" y="9475"/>
                </a:cubicBezTo>
                <a:cubicBezTo>
                  <a:pt x="22142" y="9507"/>
                  <a:pt x="22171" y="9518"/>
                  <a:pt x="22200" y="9525"/>
                </a:cubicBezTo>
              </a:path>
              <a:path w="6946" h="3027">
                <a:moveTo>
                  <a:pt x="22473" y="9401"/>
                </a:moveTo>
                <a:cubicBezTo>
                  <a:pt x="22440" y="9445"/>
                  <a:pt x="22448" y="9467"/>
                  <a:pt x="22448" y="9525"/>
                </a:cubicBezTo>
                <a:cubicBezTo>
                  <a:pt x="22508" y="9525"/>
                  <a:pt x="22496" y="9516"/>
                  <a:pt x="22523" y="9475"/>
                </a:cubicBezTo>
                <a:cubicBezTo>
                  <a:pt x="22545" y="9453"/>
                  <a:pt x="22553" y="9448"/>
                  <a:pt x="22547" y="9426"/>
                </a:cubicBezTo>
                <a:cubicBezTo>
                  <a:pt x="22599" y="9439"/>
                  <a:pt x="22631" y="9484"/>
                  <a:pt x="22671" y="9525"/>
                </a:cubicBezTo>
                <a:cubicBezTo>
                  <a:pt x="22711" y="9566"/>
                  <a:pt x="22757" y="9560"/>
                  <a:pt x="22796" y="9525"/>
                </a:cubicBezTo>
                <a:cubicBezTo>
                  <a:pt x="22858" y="9469"/>
                  <a:pt x="22845" y="9404"/>
                  <a:pt x="22845" y="9327"/>
                </a:cubicBezTo>
                <a:cubicBezTo>
                  <a:pt x="22845" y="9302"/>
                  <a:pt x="22845" y="9294"/>
                  <a:pt x="22845" y="9277"/>
                </a:cubicBezTo>
                <a:cubicBezTo>
                  <a:pt x="22856" y="9334"/>
                  <a:pt x="22853" y="9421"/>
                  <a:pt x="22870" y="9475"/>
                </a:cubicBezTo>
                <a:cubicBezTo>
                  <a:pt x="22878" y="9483"/>
                  <a:pt x="22887" y="9492"/>
                  <a:pt x="22895" y="9500"/>
                </a:cubicBezTo>
              </a:path>
              <a:path w="6946" h="3027">
                <a:moveTo>
                  <a:pt x="23044" y="9475"/>
                </a:moveTo>
                <a:cubicBezTo>
                  <a:pt x="23002" y="9403"/>
                  <a:pt x="23002" y="9401"/>
                  <a:pt x="22920" y="9401"/>
                </a:cubicBezTo>
                <a:cubicBezTo>
                  <a:pt x="22887" y="9401"/>
                  <a:pt x="22870" y="9401"/>
                  <a:pt x="22845" y="9401"/>
                </a:cubicBezTo>
              </a:path>
              <a:path w="6946" h="3027">
                <a:moveTo>
                  <a:pt x="23192" y="9327"/>
                </a:moveTo>
                <a:cubicBezTo>
                  <a:pt x="23200" y="9319"/>
                  <a:pt x="23209" y="9310"/>
                  <a:pt x="23217" y="9302"/>
                </a:cubicBezTo>
                <a:cubicBezTo>
                  <a:pt x="23186" y="9310"/>
                  <a:pt x="23134" y="9340"/>
                  <a:pt x="23118" y="9376"/>
                </a:cubicBezTo>
                <a:cubicBezTo>
                  <a:pt x="23098" y="9420"/>
                  <a:pt x="23142" y="9449"/>
                  <a:pt x="23168" y="9475"/>
                </a:cubicBezTo>
                <a:cubicBezTo>
                  <a:pt x="23208" y="9516"/>
                  <a:pt x="23232" y="9494"/>
                  <a:pt x="23192" y="9525"/>
                </a:cubicBezTo>
                <a:cubicBezTo>
                  <a:pt x="23184" y="9533"/>
                  <a:pt x="23176" y="9542"/>
                  <a:pt x="23168" y="9550"/>
                </a:cubicBezTo>
              </a:path>
              <a:path w="6946" h="3027">
                <a:moveTo>
                  <a:pt x="20910" y="10220"/>
                </a:moveTo>
                <a:cubicBezTo>
                  <a:pt x="20946" y="10220"/>
                  <a:pt x="20997" y="10215"/>
                  <a:pt x="21010" y="10170"/>
                </a:cubicBezTo>
                <a:cubicBezTo>
                  <a:pt x="21021" y="10133"/>
                  <a:pt x="21019" y="10042"/>
                  <a:pt x="20985" y="10021"/>
                </a:cubicBezTo>
                <a:cubicBezTo>
                  <a:pt x="20938" y="9991"/>
                  <a:pt x="20903" y="10067"/>
                  <a:pt x="20886" y="10096"/>
                </a:cubicBezTo>
                <a:cubicBezTo>
                  <a:pt x="20840" y="10172"/>
                  <a:pt x="20862" y="10229"/>
                  <a:pt x="20910" y="10294"/>
                </a:cubicBezTo>
                <a:cubicBezTo>
                  <a:pt x="20932" y="10324"/>
                  <a:pt x="21000" y="10336"/>
                  <a:pt x="21034" y="10319"/>
                </a:cubicBezTo>
                <a:cubicBezTo>
                  <a:pt x="21059" y="10294"/>
                  <a:pt x="21067" y="10286"/>
                  <a:pt x="21084" y="10269"/>
                </a:cubicBezTo>
              </a:path>
              <a:path w="6946" h="3027">
                <a:moveTo>
                  <a:pt x="21183" y="10120"/>
                </a:moveTo>
                <a:cubicBezTo>
                  <a:pt x="21201" y="10152"/>
                  <a:pt x="21246" y="10256"/>
                  <a:pt x="21282" y="10269"/>
                </a:cubicBezTo>
                <a:cubicBezTo>
                  <a:pt x="21324" y="10284"/>
                  <a:pt x="21389" y="10234"/>
                  <a:pt x="21406" y="10195"/>
                </a:cubicBezTo>
                <a:cubicBezTo>
                  <a:pt x="21406" y="10167"/>
                  <a:pt x="21408" y="10156"/>
                  <a:pt x="21431" y="10145"/>
                </a:cubicBezTo>
                <a:cubicBezTo>
                  <a:pt x="21467" y="10157"/>
                  <a:pt x="21455" y="10189"/>
                  <a:pt x="21506" y="10195"/>
                </a:cubicBezTo>
                <a:cubicBezTo>
                  <a:pt x="21590" y="10205"/>
                  <a:pt x="21521" y="10175"/>
                  <a:pt x="21506" y="10195"/>
                </a:cubicBezTo>
                <a:cubicBezTo>
                  <a:pt x="21486" y="10221"/>
                  <a:pt x="21508" y="10302"/>
                  <a:pt x="21530" y="10319"/>
                </a:cubicBezTo>
                <a:cubicBezTo>
                  <a:pt x="21591" y="10366"/>
                  <a:pt x="21625" y="10335"/>
                  <a:pt x="21679" y="10319"/>
                </a:cubicBezTo>
                <a:cubicBezTo>
                  <a:pt x="21706" y="10311"/>
                  <a:pt x="21750" y="10319"/>
                  <a:pt x="21779" y="10319"/>
                </a:cubicBezTo>
                <a:cubicBezTo>
                  <a:pt x="21772" y="10298"/>
                  <a:pt x="21734" y="10280"/>
                  <a:pt x="21754" y="10244"/>
                </a:cubicBezTo>
                <a:cubicBezTo>
                  <a:pt x="21770" y="10217"/>
                  <a:pt x="21818" y="10175"/>
                  <a:pt x="21853" y="10195"/>
                </a:cubicBezTo>
                <a:cubicBezTo>
                  <a:pt x="21903" y="10223"/>
                  <a:pt x="21909" y="10274"/>
                  <a:pt x="21927" y="10319"/>
                </a:cubicBezTo>
                <a:cubicBezTo>
                  <a:pt x="21953" y="10383"/>
                  <a:pt x="21969" y="10368"/>
                  <a:pt x="22027" y="10368"/>
                </a:cubicBezTo>
                <a:cubicBezTo>
                  <a:pt x="22027" y="10425"/>
                  <a:pt x="22030" y="10458"/>
                  <a:pt x="21977" y="10492"/>
                </a:cubicBezTo>
                <a:cubicBezTo>
                  <a:pt x="21920" y="10528"/>
                  <a:pt x="21868" y="10517"/>
                  <a:pt x="21803" y="10517"/>
                </a:cubicBezTo>
              </a:path>
              <a:path w="6946" h="3027">
                <a:moveTo>
                  <a:pt x="22647" y="9947"/>
                </a:moveTo>
                <a:cubicBezTo>
                  <a:pt x="22655" y="9939"/>
                  <a:pt x="22663" y="9930"/>
                  <a:pt x="22671" y="9922"/>
                </a:cubicBezTo>
                <a:cubicBezTo>
                  <a:pt x="22671" y="9977"/>
                  <a:pt x="22649" y="10016"/>
                  <a:pt x="22647" y="10071"/>
                </a:cubicBezTo>
                <a:cubicBezTo>
                  <a:pt x="22642" y="10178"/>
                  <a:pt x="22647" y="10286"/>
                  <a:pt x="22647" y="10393"/>
                </a:cubicBezTo>
              </a:path>
              <a:path w="6946" h="3027">
                <a:moveTo>
                  <a:pt x="23093" y="9996"/>
                </a:moveTo>
                <a:cubicBezTo>
                  <a:pt x="23084" y="9968"/>
                  <a:pt x="23060" y="9950"/>
                  <a:pt x="23019" y="9947"/>
                </a:cubicBezTo>
                <a:cubicBezTo>
                  <a:pt x="22951" y="9942"/>
                  <a:pt x="22941" y="9950"/>
                  <a:pt x="22895" y="9996"/>
                </a:cubicBezTo>
                <a:cubicBezTo>
                  <a:pt x="22872" y="10019"/>
                  <a:pt x="22822" y="10055"/>
                  <a:pt x="22845" y="10096"/>
                </a:cubicBezTo>
                <a:cubicBezTo>
                  <a:pt x="22868" y="10136"/>
                  <a:pt x="22932" y="10173"/>
                  <a:pt x="22969" y="10195"/>
                </a:cubicBezTo>
                <a:cubicBezTo>
                  <a:pt x="23036" y="10235"/>
                  <a:pt x="23062" y="10240"/>
                  <a:pt x="23068" y="10319"/>
                </a:cubicBezTo>
                <a:cubicBezTo>
                  <a:pt x="23068" y="10344"/>
                  <a:pt x="23068" y="10352"/>
                  <a:pt x="23068" y="10368"/>
                </a:cubicBezTo>
                <a:cubicBezTo>
                  <a:pt x="23022" y="10368"/>
                  <a:pt x="22919" y="10391"/>
                  <a:pt x="22895" y="10344"/>
                </a:cubicBezTo>
                <a:cubicBezTo>
                  <a:pt x="22875" y="10304"/>
                  <a:pt x="22928" y="10250"/>
                  <a:pt x="22944" y="10220"/>
                </a:cubicBezTo>
                <a:cubicBezTo>
                  <a:pt x="22984" y="10144"/>
                  <a:pt x="23037" y="10130"/>
                  <a:pt x="23118" y="10120"/>
                </a:cubicBezTo>
              </a:path>
              <a:path w="6946" h="3027">
                <a:moveTo>
                  <a:pt x="23242" y="10145"/>
                </a:moveTo>
                <a:cubicBezTo>
                  <a:pt x="23253" y="10082"/>
                  <a:pt x="23267" y="10096"/>
                  <a:pt x="23316" y="10046"/>
                </a:cubicBezTo>
                <a:cubicBezTo>
                  <a:pt x="23342" y="10020"/>
                  <a:pt x="23402" y="10002"/>
                  <a:pt x="23440" y="10021"/>
                </a:cubicBezTo>
                <a:cubicBezTo>
                  <a:pt x="23519" y="10061"/>
                  <a:pt x="23512" y="10203"/>
                  <a:pt x="23515" y="10269"/>
                </a:cubicBezTo>
                <a:cubicBezTo>
                  <a:pt x="23518" y="10351"/>
                  <a:pt x="23492" y="10387"/>
                  <a:pt x="23416" y="10393"/>
                </a:cubicBezTo>
                <a:cubicBezTo>
                  <a:pt x="23352" y="10398"/>
                  <a:pt x="23307" y="10334"/>
                  <a:pt x="23267" y="10294"/>
                </a:cubicBezTo>
              </a:path>
              <a:path w="6946" h="3027">
                <a:moveTo>
                  <a:pt x="23639" y="9897"/>
                </a:moveTo>
                <a:cubicBezTo>
                  <a:pt x="23639" y="9856"/>
                  <a:pt x="23639" y="9848"/>
                  <a:pt x="23639" y="9823"/>
                </a:cubicBezTo>
                <a:cubicBezTo>
                  <a:pt x="23694" y="9823"/>
                  <a:pt x="23746" y="9810"/>
                  <a:pt x="23788" y="9847"/>
                </a:cubicBezTo>
                <a:cubicBezTo>
                  <a:pt x="23827" y="9882"/>
                  <a:pt x="23871" y="9958"/>
                  <a:pt x="23812" y="9996"/>
                </a:cubicBezTo>
                <a:cubicBezTo>
                  <a:pt x="23784" y="10014"/>
                  <a:pt x="23755" y="9984"/>
                  <a:pt x="23738" y="9971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26120" y="3205080"/>
            <a:ext cx="1893960" cy="73080"/>
          </a:xfrm>
          <a:custGeom>
            <a:avLst/>
            <a:gdLst/>
            <a:ahLst/>
            <a:rect l="l" t="t" r="r" b="b"/>
            <a:pathLst>
              <a:path w="5260" h="199">
                <a:moveTo>
                  <a:pt x="17016" y="8979"/>
                </a:moveTo>
                <a:cubicBezTo>
                  <a:pt x="17050" y="8990"/>
                  <a:pt x="17047" y="8990"/>
                  <a:pt x="17090" y="9004"/>
                </a:cubicBezTo>
                <a:cubicBezTo>
                  <a:pt x="17128" y="9017"/>
                  <a:pt x="17112" y="9022"/>
                  <a:pt x="17165" y="9029"/>
                </a:cubicBezTo>
                <a:cubicBezTo>
                  <a:pt x="17397" y="9058"/>
                  <a:pt x="17668" y="9024"/>
                  <a:pt x="17884" y="9004"/>
                </a:cubicBezTo>
                <a:cubicBezTo>
                  <a:pt x="18004" y="8993"/>
                  <a:pt x="18123" y="9005"/>
                  <a:pt x="18231" y="8979"/>
                </a:cubicBezTo>
                <a:cubicBezTo>
                  <a:pt x="18272" y="8969"/>
                  <a:pt x="18314" y="8966"/>
                  <a:pt x="18355" y="8954"/>
                </a:cubicBezTo>
                <a:cubicBezTo>
                  <a:pt x="18387" y="8945"/>
                  <a:pt x="18418" y="8939"/>
                  <a:pt x="18455" y="8930"/>
                </a:cubicBezTo>
                <a:cubicBezTo>
                  <a:pt x="18495" y="8920"/>
                  <a:pt x="18543" y="8908"/>
                  <a:pt x="18579" y="8905"/>
                </a:cubicBezTo>
                <a:cubicBezTo>
                  <a:pt x="18722" y="8893"/>
                  <a:pt x="18866" y="8921"/>
                  <a:pt x="19000" y="8930"/>
                </a:cubicBezTo>
                <a:cubicBezTo>
                  <a:pt x="19089" y="8936"/>
                  <a:pt x="19164" y="8938"/>
                  <a:pt x="19248" y="8954"/>
                </a:cubicBezTo>
                <a:cubicBezTo>
                  <a:pt x="19296" y="8963"/>
                  <a:pt x="19350" y="8974"/>
                  <a:pt x="19397" y="8979"/>
                </a:cubicBezTo>
                <a:cubicBezTo>
                  <a:pt x="19468" y="8987"/>
                  <a:pt x="19535" y="8991"/>
                  <a:pt x="19596" y="9004"/>
                </a:cubicBezTo>
                <a:cubicBezTo>
                  <a:pt x="19648" y="9015"/>
                  <a:pt x="19690" y="9023"/>
                  <a:pt x="19745" y="9029"/>
                </a:cubicBezTo>
                <a:cubicBezTo>
                  <a:pt x="19805" y="9035"/>
                  <a:pt x="19862" y="9050"/>
                  <a:pt x="19918" y="9054"/>
                </a:cubicBezTo>
                <a:cubicBezTo>
                  <a:pt x="20071" y="9064"/>
                  <a:pt x="20219" y="9047"/>
                  <a:pt x="20365" y="9079"/>
                </a:cubicBezTo>
                <a:cubicBezTo>
                  <a:pt x="20432" y="9094"/>
                  <a:pt x="20492" y="9101"/>
                  <a:pt x="20563" y="9103"/>
                </a:cubicBezTo>
                <a:cubicBezTo>
                  <a:pt x="20714" y="9107"/>
                  <a:pt x="20867" y="9110"/>
                  <a:pt x="21010" y="9079"/>
                </a:cubicBezTo>
                <a:cubicBezTo>
                  <a:pt x="21071" y="9065"/>
                  <a:pt x="21147" y="9036"/>
                  <a:pt x="21208" y="9029"/>
                </a:cubicBezTo>
                <a:cubicBezTo>
                  <a:pt x="21287" y="9020"/>
                  <a:pt x="21353" y="9018"/>
                  <a:pt x="21431" y="9004"/>
                </a:cubicBezTo>
                <a:cubicBezTo>
                  <a:pt x="21513" y="8989"/>
                  <a:pt x="21595" y="8969"/>
                  <a:pt x="21679" y="8954"/>
                </a:cubicBezTo>
                <a:cubicBezTo>
                  <a:pt x="21784" y="8935"/>
                  <a:pt x="21893" y="8917"/>
                  <a:pt x="22002" y="8930"/>
                </a:cubicBezTo>
                <a:cubicBezTo>
                  <a:pt x="22074" y="8939"/>
                  <a:pt x="22152" y="8969"/>
                  <a:pt x="22225" y="8979"/>
                </a:cubicBezTo>
                <a:cubicBezTo>
                  <a:pt x="22250" y="8979"/>
                  <a:pt x="22258" y="8979"/>
                  <a:pt x="22275" y="897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27840" y="4037040"/>
            <a:ext cx="231840" cy="88920"/>
          </a:xfrm>
          <a:custGeom>
            <a:avLst/>
            <a:gdLst/>
            <a:ahLst/>
            <a:rect l="l" t="t" r="r" b="b"/>
            <a:pathLst>
              <a:path w="646" h="249">
                <a:moveTo>
                  <a:pt x="16867" y="11212"/>
                </a:moveTo>
                <a:cubicBezTo>
                  <a:pt x="16927" y="11271"/>
                  <a:pt x="16961" y="11267"/>
                  <a:pt x="17016" y="11311"/>
                </a:cubicBezTo>
                <a:cubicBezTo>
                  <a:pt x="17073" y="11357"/>
                  <a:pt x="17017" y="11393"/>
                  <a:pt x="16966" y="11410"/>
                </a:cubicBezTo>
                <a:cubicBezTo>
                  <a:pt x="16916" y="11427"/>
                  <a:pt x="16873" y="11435"/>
                  <a:pt x="16818" y="11435"/>
                </a:cubicBezTo>
                <a:cubicBezTo>
                  <a:pt x="16776" y="11435"/>
                  <a:pt x="16768" y="11435"/>
                  <a:pt x="16743" y="11435"/>
                </a:cubicBezTo>
              </a:path>
              <a:path w="646" h="249">
                <a:moveTo>
                  <a:pt x="17165" y="11286"/>
                </a:moveTo>
                <a:cubicBezTo>
                  <a:pt x="17203" y="11248"/>
                  <a:pt x="17211" y="11237"/>
                  <a:pt x="17264" y="11237"/>
                </a:cubicBezTo>
                <a:cubicBezTo>
                  <a:pt x="17347" y="11237"/>
                  <a:pt x="17378" y="11246"/>
                  <a:pt x="17388" y="11336"/>
                </a:cubicBezTo>
                <a:cubicBezTo>
                  <a:pt x="17395" y="11398"/>
                  <a:pt x="17364" y="11478"/>
                  <a:pt x="17289" y="11460"/>
                </a:cubicBezTo>
                <a:cubicBezTo>
                  <a:pt x="17217" y="11443"/>
                  <a:pt x="17198" y="11396"/>
                  <a:pt x="17190" y="1133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29240" y="4027320"/>
            <a:ext cx="187560" cy="88920"/>
          </a:xfrm>
          <a:custGeom>
            <a:avLst/>
            <a:gdLst/>
            <a:ahLst/>
            <a:rect l="l" t="t" r="r" b="b"/>
            <a:pathLst>
              <a:path w="522" h="249">
                <a:moveTo>
                  <a:pt x="17859" y="11261"/>
                </a:moveTo>
                <a:cubicBezTo>
                  <a:pt x="17859" y="11210"/>
                  <a:pt x="17886" y="11194"/>
                  <a:pt x="17934" y="11187"/>
                </a:cubicBezTo>
                <a:cubicBezTo>
                  <a:pt x="18027" y="11173"/>
                  <a:pt x="18130" y="11213"/>
                  <a:pt x="18157" y="11311"/>
                </a:cubicBezTo>
                <a:cubicBezTo>
                  <a:pt x="18177" y="11383"/>
                  <a:pt x="18148" y="11427"/>
                  <a:pt x="18083" y="11435"/>
                </a:cubicBezTo>
                <a:cubicBezTo>
                  <a:pt x="18010" y="11444"/>
                  <a:pt x="17950" y="11435"/>
                  <a:pt x="17884" y="11410"/>
                </a:cubicBezTo>
              </a:path>
              <a:path w="522" h="249">
                <a:moveTo>
                  <a:pt x="18182" y="11311"/>
                </a:moveTo>
                <a:cubicBezTo>
                  <a:pt x="18238" y="11273"/>
                  <a:pt x="18241" y="11256"/>
                  <a:pt x="18281" y="11261"/>
                </a:cubicBezTo>
                <a:cubicBezTo>
                  <a:pt x="18255" y="11296"/>
                  <a:pt x="18234" y="11337"/>
                  <a:pt x="18231" y="11385"/>
                </a:cubicBezTo>
                <a:cubicBezTo>
                  <a:pt x="18231" y="11402"/>
                  <a:pt x="18231" y="11418"/>
                  <a:pt x="18231" y="11435"/>
                </a:cubicBezTo>
                <a:cubicBezTo>
                  <a:pt x="18302" y="11435"/>
                  <a:pt x="18319" y="11420"/>
                  <a:pt x="18380" y="11385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42080" y="403704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8926" y="11261"/>
                </a:moveTo>
                <a:cubicBezTo>
                  <a:pt x="18934" y="11261"/>
                  <a:pt x="18943" y="11261"/>
                  <a:pt x="18951" y="11261"/>
                </a:cubicBezTo>
                <a:cubicBezTo>
                  <a:pt x="18923" y="11207"/>
                  <a:pt x="18890" y="11212"/>
                  <a:pt x="18827" y="11212"/>
                </a:cubicBezTo>
                <a:cubicBezTo>
                  <a:pt x="18774" y="11212"/>
                  <a:pt x="18771" y="11226"/>
                  <a:pt x="18728" y="11237"/>
                </a:cubicBezTo>
              </a:path>
              <a:path w="224" h="199">
                <a:moveTo>
                  <a:pt x="18876" y="11336"/>
                </a:moveTo>
                <a:cubicBezTo>
                  <a:pt x="18915" y="11374"/>
                  <a:pt x="18932" y="11376"/>
                  <a:pt x="18926" y="11410"/>
                </a:cubicBezTo>
                <a:cubicBezTo>
                  <a:pt x="18885" y="11410"/>
                  <a:pt x="18843" y="11410"/>
                  <a:pt x="18802" y="11410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45200" y="3973680"/>
            <a:ext cx="196920" cy="152280"/>
          </a:xfrm>
          <a:custGeom>
            <a:avLst/>
            <a:gdLst/>
            <a:ahLst/>
            <a:rect l="l" t="t" r="r" b="b"/>
            <a:pathLst>
              <a:path w="547" h="423">
                <a:moveTo>
                  <a:pt x="19621" y="11112"/>
                </a:moveTo>
                <a:cubicBezTo>
                  <a:pt x="19596" y="11112"/>
                  <a:pt x="19588" y="11112"/>
                  <a:pt x="19571" y="11112"/>
                </a:cubicBezTo>
                <a:cubicBezTo>
                  <a:pt x="19581" y="11084"/>
                  <a:pt x="19651" y="11048"/>
                  <a:pt x="19695" y="11038"/>
                </a:cubicBezTo>
                <a:cubicBezTo>
                  <a:pt x="19734" y="11029"/>
                  <a:pt x="19821" y="11027"/>
                  <a:pt x="19844" y="11063"/>
                </a:cubicBezTo>
                <a:cubicBezTo>
                  <a:pt x="19868" y="11102"/>
                  <a:pt x="19816" y="11140"/>
                  <a:pt x="19794" y="11162"/>
                </a:cubicBezTo>
                <a:cubicBezTo>
                  <a:pt x="19761" y="11195"/>
                  <a:pt x="19740" y="11187"/>
                  <a:pt x="19695" y="11187"/>
                </a:cubicBezTo>
                <a:cubicBezTo>
                  <a:pt x="19707" y="11236"/>
                  <a:pt x="19749" y="11259"/>
                  <a:pt x="19794" y="11286"/>
                </a:cubicBezTo>
                <a:cubicBezTo>
                  <a:pt x="19832" y="11309"/>
                  <a:pt x="19889" y="11351"/>
                  <a:pt x="19869" y="11410"/>
                </a:cubicBezTo>
                <a:cubicBezTo>
                  <a:pt x="19848" y="11473"/>
                  <a:pt x="19769" y="11460"/>
                  <a:pt x="19720" y="11460"/>
                </a:cubicBezTo>
                <a:cubicBezTo>
                  <a:pt x="19660" y="11460"/>
                  <a:pt x="19663" y="11467"/>
                  <a:pt x="19621" y="11435"/>
                </a:cubicBezTo>
              </a:path>
              <a:path w="547" h="423">
                <a:moveTo>
                  <a:pt x="20092" y="11088"/>
                </a:moveTo>
                <a:cubicBezTo>
                  <a:pt x="20100" y="11080"/>
                  <a:pt x="20109" y="11071"/>
                  <a:pt x="20117" y="11063"/>
                </a:cubicBezTo>
                <a:cubicBezTo>
                  <a:pt x="20117" y="11136"/>
                  <a:pt x="20079" y="11170"/>
                  <a:pt x="20067" y="11237"/>
                </a:cubicBezTo>
                <a:cubicBezTo>
                  <a:pt x="20056" y="11298"/>
                  <a:pt x="20067" y="11373"/>
                  <a:pt x="20067" y="11435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40760" y="3946680"/>
            <a:ext cx="330120" cy="233280"/>
          </a:xfrm>
          <a:custGeom>
            <a:avLst/>
            <a:gdLst/>
            <a:ahLst/>
            <a:rect l="l" t="t" r="r" b="b"/>
            <a:pathLst>
              <a:path w="919" h="646">
                <a:moveTo>
                  <a:pt x="20389" y="11336"/>
                </a:moveTo>
                <a:cubicBezTo>
                  <a:pt x="20389" y="11377"/>
                  <a:pt x="20401" y="11349"/>
                  <a:pt x="20414" y="11385"/>
                </a:cubicBezTo>
              </a:path>
              <a:path w="919" h="646">
                <a:moveTo>
                  <a:pt x="20613" y="11311"/>
                </a:moveTo>
                <a:cubicBezTo>
                  <a:pt x="20596" y="11289"/>
                  <a:pt x="20569" y="11245"/>
                  <a:pt x="20588" y="11212"/>
                </a:cubicBezTo>
                <a:cubicBezTo>
                  <a:pt x="20606" y="11180"/>
                  <a:pt x="20681" y="11120"/>
                  <a:pt x="20712" y="11112"/>
                </a:cubicBezTo>
                <a:cubicBezTo>
                  <a:pt x="20729" y="11112"/>
                  <a:pt x="20745" y="11112"/>
                  <a:pt x="20762" y="11112"/>
                </a:cubicBezTo>
                <a:cubicBezTo>
                  <a:pt x="20795" y="11180"/>
                  <a:pt x="20836" y="11256"/>
                  <a:pt x="20811" y="11336"/>
                </a:cubicBezTo>
                <a:cubicBezTo>
                  <a:pt x="20791" y="11399"/>
                  <a:pt x="20710" y="11385"/>
                  <a:pt x="20662" y="11385"/>
                </a:cubicBezTo>
                <a:cubicBezTo>
                  <a:pt x="20608" y="11385"/>
                  <a:pt x="20574" y="11329"/>
                  <a:pt x="20563" y="11286"/>
                </a:cubicBezTo>
              </a:path>
              <a:path w="919" h="646">
                <a:moveTo>
                  <a:pt x="20935" y="11088"/>
                </a:moveTo>
                <a:cubicBezTo>
                  <a:pt x="20922" y="11038"/>
                  <a:pt x="20893" y="11034"/>
                  <a:pt x="20935" y="10988"/>
                </a:cubicBezTo>
                <a:cubicBezTo>
                  <a:pt x="20966" y="10954"/>
                  <a:pt x="21030" y="10947"/>
                  <a:pt x="21059" y="10988"/>
                </a:cubicBezTo>
                <a:cubicBezTo>
                  <a:pt x="21079" y="11029"/>
                  <a:pt x="21088" y="11035"/>
                  <a:pt x="21084" y="11063"/>
                </a:cubicBezTo>
                <a:cubicBezTo>
                  <a:pt x="21028" y="11063"/>
                  <a:pt x="20986" y="11069"/>
                  <a:pt x="20935" y="11038"/>
                </a:cubicBezTo>
                <a:cubicBezTo>
                  <a:pt x="20927" y="11030"/>
                  <a:pt x="20918" y="11021"/>
                  <a:pt x="20910" y="11013"/>
                </a:cubicBezTo>
              </a:path>
              <a:path w="919" h="646">
                <a:moveTo>
                  <a:pt x="21282" y="11336"/>
                </a:moveTo>
                <a:cubicBezTo>
                  <a:pt x="21298" y="11394"/>
                  <a:pt x="21331" y="11497"/>
                  <a:pt x="21307" y="11559"/>
                </a:cubicBezTo>
                <a:cubicBezTo>
                  <a:pt x="21294" y="11593"/>
                  <a:pt x="21212" y="11603"/>
                  <a:pt x="21183" y="1160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96160" y="4000680"/>
            <a:ext cx="285840" cy="169560"/>
          </a:xfrm>
          <a:custGeom>
            <a:avLst/>
            <a:gdLst/>
            <a:ahLst/>
            <a:rect l="l" t="t" r="r" b="b"/>
            <a:pathLst>
              <a:path w="795" h="473">
                <a:moveTo>
                  <a:pt x="21654" y="11187"/>
                </a:moveTo>
                <a:cubicBezTo>
                  <a:pt x="21662" y="11164"/>
                  <a:pt x="21697" y="11148"/>
                  <a:pt x="21729" y="11137"/>
                </a:cubicBezTo>
                <a:cubicBezTo>
                  <a:pt x="21762" y="11126"/>
                  <a:pt x="21843" y="11178"/>
                  <a:pt x="21853" y="11212"/>
                </a:cubicBezTo>
                <a:cubicBezTo>
                  <a:pt x="21864" y="11251"/>
                  <a:pt x="21846" y="11331"/>
                  <a:pt x="21828" y="11361"/>
                </a:cubicBezTo>
                <a:cubicBezTo>
                  <a:pt x="21802" y="11404"/>
                  <a:pt x="21766" y="11400"/>
                  <a:pt x="21754" y="11435"/>
                </a:cubicBezTo>
                <a:cubicBezTo>
                  <a:pt x="21767" y="11473"/>
                  <a:pt x="21783" y="11460"/>
                  <a:pt x="21828" y="11460"/>
                </a:cubicBezTo>
                <a:cubicBezTo>
                  <a:pt x="21884" y="11460"/>
                  <a:pt x="21932" y="11437"/>
                  <a:pt x="21977" y="11410"/>
                </a:cubicBezTo>
              </a:path>
              <a:path w="795" h="473">
                <a:moveTo>
                  <a:pt x="22175" y="11187"/>
                </a:moveTo>
                <a:cubicBezTo>
                  <a:pt x="22197" y="11143"/>
                  <a:pt x="22200" y="11131"/>
                  <a:pt x="22225" y="11112"/>
                </a:cubicBezTo>
                <a:cubicBezTo>
                  <a:pt x="22225" y="11186"/>
                  <a:pt x="22204" y="11237"/>
                  <a:pt x="22200" y="11311"/>
                </a:cubicBezTo>
                <a:cubicBezTo>
                  <a:pt x="22198" y="11350"/>
                  <a:pt x="22155" y="11423"/>
                  <a:pt x="22175" y="11460"/>
                </a:cubicBezTo>
                <a:cubicBezTo>
                  <a:pt x="22183" y="11468"/>
                  <a:pt x="22192" y="11477"/>
                  <a:pt x="22200" y="11485"/>
                </a:cubicBezTo>
              </a:path>
              <a:path w="795" h="473">
                <a:moveTo>
                  <a:pt x="22448" y="11237"/>
                </a:moveTo>
                <a:cubicBezTo>
                  <a:pt x="22448" y="11196"/>
                  <a:pt x="22448" y="11270"/>
                  <a:pt x="22448" y="11311"/>
                </a:cubicBezTo>
                <a:cubicBezTo>
                  <a:pt x="22448" y="11389"/>
                  <a:pt x="22395" y="11480"/>
                  <a:pt x="22423" y="11559"/>
                </a:cubicBezTo>
                <a:cubicBezTo>
                  <a:pt x="22431" y="11567"/>
                  <a:pt x="22440" y="11576"/>
                  <a:pt x="22448" y="11584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78840" y="3990960"/>
            <a:ext cx="260280" cy="18900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22721" y="11534"/>
                </a:moveTo>
                <a:cubicBezTo>
                  <a:pt x="22749" y="11572"/>
                  <a:pt x="22735" y="11597"/>
                  <a:pt x="22771" y="11609"/>
                </a:cubicBezTo>
              </a:path>
              <a:path w="720" h="522">
                <a:moveTo>
                  <a:pt x="23019" y="11485"/>
                </a:moveTo>
                <a:cubicBezTo>
                  <a:pt x="23008" y="11452"/>
                  <a:pt x="22979" y="11455"/>
                  <a:pt x="22969" y="11435"/>
                </a:cubicBezTo>
                <a:cubicBezTo>
                  <a:pt x="22948" y="11394"/>
                  <a:pt x="22968" y="11316"/>
                  <a:pt x="22994" y="11286"/>
                </a:cubicBezTo>
                <a:cubicBezTo>
                  <a:pt x="23016" y="11262"/>
                  <a:pt x="23053" y="11216"/>
                  <a:pt x="23093" y="11237"/>
                </a:cubicBezTo>
                <a:cubicBezTo>
                  <a:pt x="23162" y="11274"/>
                  <a:pt x="23143" y="11374"/>
                  <a:pt x="23143" y="11435"/>
                </a:cubicBezTo>
                <a:cubicBezTo>
                  <a:pt x="23143" y="11484"/>
                  <a:pt x="23113" y="11553"/>
                  <a:pt x="23044" y="11534"/>
                </a:cubicBezTo>
                <a:cubicBezTo>
                  <a:pt x="23000" y="11522"/>
                  <a:pt x="22975" y="11490"/>
                  <a:pt x="22944" y="11460"/>
                </a:cubicBezTo>
              </a:path>
              <a:path w="720" h="522">
                <a:moveTo>
                  <a:pt x="23341" y="11237"/>
                </a:moveTo>
                <a:cubicBezTo>
                  <a:pt x="23341" y="11183"/>
                  <a:pt x="23330" y="11151"/>
                  <a:pt x="23366" y="11112"/>
                </a:cubicBezTo>
                <a:cubicBezTo>
                  <a:pt x="23389" y="11090"/>
                  <a:pt x="23394" y="11082"/>
                  <a:pt x="23416" y="11088"/>
                </a:cubicBezTo>
                <a:cubicBezTo>
                  <a:pt x="23450" y="11134"/>
                  <a:pt x="23440" y="11176"/>
                  <a:pt x="23440" y="11237"/>
                </a:cubicBezTo>
                <a:cubicBezTo>
                  <a:pt x="23440" y="11265"/>
                  <a:pt x="23438" y="11275"/>
                  <a:pt x="23416" y="11286"/>
                </a:cubicBezTo>
                <a:cubicBezTo>
                  <a:pt x="23342" y="11271"/>
                  <a:pt x="23328" y="11251"/>
                  <a:pt x="23292" y="11187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067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901880" y="2347920"/>
            <a:ext cx="162000" cy="189000"/>
          </a:xfrm>
          <a:custGeom>
            <a:avLst/>
            <a:gdLst/>
            <a:ahLst/>
            <a:rect l="l" t="t" r="r" b="b"/>
            <a:pathLst>
              <a:path w="448" h="522">
                <a:moveTo>
                  <a:pt x="5407" y="6772"/>
                </a:moveTo>
                <a:cubicBezTo>
                  <a:pt x="5367" y="6741"/>
                  <a:pt x="5345" y="6768"/>
                  <a:pt x="5308" y="6747"/>
                </a:cubicBezTo>
                <a:cubicBezTo>
                  <a:pt x="5257" y="6718"/>
                  <a:pt x="5279" y="6654"/>
                  <a:pt x="5308" y="6623"/>
                </a:cubicBezTo>
                <a:cubicBezTo>
                  <a:pt x="5366" y="6561"/>
                  <a:pt x="5424" y="6529"/>
                  <a:pt x="5507" y="6524"/>
                </a:cubicBezTo>
                <a:cubicBezTo>
                  <a:pt x="5598" y="6519"/>
                  <a:pt x="5595" y="6626"/>
                  <a:pt x="5581" y="6697"/>
                </a:cubicBezTo>
                <a:cubicBezTo>
                  <a:pt x="5566" y="6775"/>
                  <a:pt x="5517" y="6851"/>
                  <a:pt x="5482" y="6921"/>
                </a:cubicBezTo>
                <a:cubicBezTo>
                  <a:pt x="5462" y="6961"/>
                  <a:pt x="5442" y="6981"/>
                  <a:pt x="5432" y="7020"/>
                </a:cubicBezTo>
                <a:cubicBezTo>
                  <a:pt x="5499" y="7060"/>
                  <a:pt x="5519" y="7032"/>
                  <a:pt x="5581" y="7020"/>
                </a:cubicBezTo>
                <a:cubicBezTo>
                  <a:pt x="5626" y="7011"/>
                  <a:pt x="5684" y="7020"/>
                  <a:pt x="5730" y="7020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720" y="2295360"/>
            <a:ext cx="617400" cy="241560"/>
          </a:xfrm>
          <a:custGeom>
            <a:avLst/>
            <a:gdLst/>
            <a:ahLst/>
            <a:rect l="l" t="t" r="r" b="b"/>
            <a:pathLst>
              <a:path w="1712" h="671">
                <a:moveTo>
                  <a:pt x="6102" y="6747"/>
                </a:moveTo>
                <a:cubicBezTo>
                  <a:pt x="6125" y="6724"/>
                  <a:pt x="6133" y="6720"/>
                  <a:pt x="6127" y="6697"/>
                </a:cubicBezTo>
                <a:cubicBezTo>
                  <a:pt x="6070" y="6708"/>
                  <a:pt x="6018" y="6730"/>
                  <a:pt x="6003" y="6796"/>
                </a:cubicBezTo>
                <a:cubicBezTo>
                  <a:pt x="5993" y="6837"/>
                  <a:pt x="6004" y="6928"/>
                  <a:pt x="6052" y="6945"/>
                </a:cubicBezTo>
                <a:cubicBezTo>
                  <a:pt x="6069" y="6945"/>
                  <a:pt x="6085" y="6945"/>
                  <a:pt x="6102" y="6945"/>
                </a:cubicBezTo>
              </a:path>
              <a:path w="1712" h="671">
                <a:moveTo>
                  <a:pt x="6226" y="6846"/>
                </a:moveTo>
                <a:cubicBezTo>
                  <a:pt x="6236" y="6805"/>
                  <a:pt x="6254" y="6777"/>
                  <a:pt x="6300" y="6772"/>
                </a:cubicBezTo>
                <a:cubicBezTo>
                  <a:pt x="6349" y="6767"/>
                  <a:pt x="6408" y="6797"/>
                  <a:pt x="6424" y="6846"/>
                </a:cubicBezTo>
                <a:cubicBezTo>
                  <a:pt x="6432" y="6870"/>
                  <a:pt x="6424" y="6944"/>
                  <a:pt x="6424" y="6970"/>
                </a:cubicBezTo>
                <a:cubicBezTo>
                  <a:pt x="6362" y="6970"/>
                  <a:pt x="6305" y="6981"/>
                  <a:pt x="6251" y="6945"/>
                </a:cubicBezTo>
                <a:cubicBezTo>
                  <a:pt x="6243" y="6937"/>
                  <a:pt x="6234" y="6929"/>
                  <a:pt x="6226" y="6921"/>
                </a:cubicBezTo>
              </a:path>
              <a:path w="1712" h="671">
                <a:moveTo>
                  <a:pt x="6598" y="6747"/>
                </a:moveTo>
                <a:cubicBezTo>
                  <a:pt x="6639" y="6727"/>
                  <a:pt x="6666" y="6718"/>
                  <a:pt x="6623" y="6722"/>
                </a:cubicBezTo>
                <a:cubicBezTo>
                  <a:pt x="6596" y="6729"/>
                  <a:pt x="6534" y="6761"/>
                  <a:pt x="6524" y="6796"/>
                </a:cubicBezTo>
                <a:cubicBezTo>
                  <a:pt x="6499" y="6886"/>
                  <a:pt x="6579" y="6874"/>
                  <a:pt x="6623" y="6896"/>
                </a:cubicBezTo>
                <a:cubicBezTo>
                  <a:pt x="6634" y="6902"/>
                  <a:pt x="6720" y="6942"/>
                  <a:pt x="6722" y="6945"/>
                </a:cubicBezTo>
                <a:cubicBezTo>
                  <a:pt x="6742" y="6975"/>
                  <a:pt x="6700" y="7037"/>
                  <a:pt x="6672" y="7045"/>
                </a:cubicBezTo>
                <a:cubicBezTo>
                  <a:pt x="6631" y="7045"/>
                  <a:pt x="6623" y="7045"/>
                  <a:pt x="6598" y="7045"/>
                </a:cubicBezTo>
              </a:path>
              <a:path w="1712" h="671">
                <a:moveTo>
                  <a:pt x="6921" y="6524"/>
                </a:moveTo>
                <a:cubicBezTo>
                  <a:pt x="6921" y="6470"/>
                  <a:pt x="6914" y="6447"/>
                  <a:pt x="6945" y="6424"/>
                </a:cubicBezTo>
                <a:cubicBezTo>
                  <a:pt x="6964" y="6410"/>
                  <a:pt x="7040" y="6343"/>
                  <a:pt x="7069" y="6375"/>
                </a:cubicBezTo>
                <a:cubicBezTo>
                  <a:pt x="7109" y="6420"/>
                  <a:pt x="7099" y="6479"/>
                  <a:pt x="7069" y="6524"/>
                </a:cubicBezTo>
                <a:cubicBezTo>
                  <a:pt x="7039" y="6570"/>
                  <a:pt x="7020" y="6591"/>
                  <a:pt x="7020" y="6648"/>
                </a:cubicBezTo>
                <a:cubicBezTo>
                  <a:pt x="7065" y="6637"/>
                  <a:pt x="7090" y="6623"/>
                  <a:pt x="7144" y="6623"/>
                </a:cubicBezTo>
                <a:cubicBezTo>
                  <a:pt x="7152" y="6623"/>
                  <a:pt x="7161" y="6623"/>
                  <a:pt x="7169" y="6623"/>
                </a:cubicBezTo>
              </a:path>
              <a:path w="1712" h="671">
                <a:moveTo>
                  <a:pt x="7367" y="6747"/>
                </a:moveTo>
                <a:cubicBezTo>
                  <a:pt x="7380" y="6707"/>
                  <a:pt x="7415" y="6722"/>
                  <a:pt x="7466" y="6722"/>
                </a:cubicBezTo>
                <a:cubicBezTo>
                  <a:pt x="7526" y="6722"/>
                  <a:pt x="7537" y="6773"/>
                  <a:pt x="7541" y="6821"/>
                </a:cubicBezTo>
                <a:cubicBezTo>
                  <a:pt x="7547" y="6893"/>
                  <a:pt x="7478" y="6877"/>
                  <a:pt x="7441" y="6896"/>
                </a:cubicBezTo>
                <a:cubicBezTo>
                  <a:pt x="7389" y="6922"/>
                  <a:pt x="7395" y="6928"/>
                  <a:pt x="7342" y="6896"/>
                </a:cubicBezTo>
              </a:path>
              <a:path w="1712" h="671">
                <a:moveTo>
                  <a:pt x="7640" y="6697"/>
                </a:moveTo>
                <a:cubicBezTo>
                  <a:pt x="7640" y="6639"/>
                  <a:pt x="7656" y="6615"/>
                  <a:pt x="7615" y="6623"/>
                </a:cubicBezTo>
                <a:cubicBezTo>
                  <a:pt x="7561" y="6690"/>
                  <a:pt x="7555" y="6717"/>
                  <a:pt x="7590" y="6796"/>
                </a:cubicBezTo>
                <a:cubicBezTo>
                  <a:pt x="7621" y="6865"/>
                  <a:pt x="7644" y="6846"/>
                  <a:pt x="7714" y="684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62160" y="2401920"/>
            <a:ext cx="10008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8682" y="6722"/>
                </a:moveTo>
                <a:cubicBezTo>
                  <a:pt x="8706" y="6722"/>
                  <a:pt x="8715" y="6722"/>
                  <a:pt x="8731" y="6722"/>
                </a:cubicBezTo>
                <a:cubicBezTo>
                  <a:pt x="8718" y="6682"/>
                  <a:pt x="8710" y="6677"/>
                  <a:pt x="8657" y="6672"/>
                </a:cubicBezTo>
                <a:cubicBezTo>
                  <a:pt x="8598" y="6667"/>
                  <a:pt x="8580" y="6703"/>
                  <a:pt x="8533" y="6722"/>
                </a:cubicBezTo>
                <a:cubicBezTo>
                  <a:pt x="8525" y="6722"/>
                  <a:pt x="8516" y="6722"/>
                  <a:pt x="8508" y="6722"/>
                </a:cubicBezTo>
              </a:path>
              <a:path w="274" h="225">
                <a:moveTo>
                  <a:pt x="8756" y="6796"/>
                </a:moveTo>
                <a:cubicBezTo>
                  <a:pt x="8795" y="6849"/>
                  <a:pt x="8775" y="6873"/>
                  <a:pt x="8706" y="6896"/>
                </a:cubicBezTo>
                <a:cubicBezTo>
                  <a:pt x="8673" y="6896"/>
                  <a:pt x="8657" y="6896"/>
                  <a:pt x="8632" y="689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67080" y="2347920"/>
            <a:ext cx="293760" cy="144360"/>
          </a:xfrm>
          <a:custGeom>
            <a:avLst/>
            <a:gdLst/>
            <a:ahLst/>
            <a:rect l="l" t="t" r="r" b="b"/>
            <a:pathLst>
              <a:path w="820" h="398">
                <a:moveTo>
                  <a:pt x="9500" y="6648"/>
                </a:moveTo>
                <a:cubicBezTo>
                  <a:pt x="9523" y="6625"/>
                  <a:pt x="9531" y="6621"/>
                  <a:pt x="9525" y="6598"/>
                </a:cubicBezTo>
                <a:cubicBezTo>
                  <a:pt x="9468" y="6598"/>
                  <a:pt x="9426" y="6590"/>
                  <a:pt x="9376" y="6623"/>
                </a:cubicBezTo>
                <a:cubicBezTo>
                  <a:pt x="9314" y="6665"/>
                  <a:pt x="9358" y="6720"/>
                  <a:pt x="9401" y="6747"/>
                </a:cubicBezTo>
                <a:cubicBezTo>
                  <a:pt x="9454" y="6780"/>
                  <a:pt x="9525" y="6765"/>
                  <a:pt x="9575" y="6796"/>
                </a:cubicBezTo>
                <a:cubicBezTo>
                  <a:pt x="9620" y="6823"/>
                  <a:pt x="9600" y="6867"/>
                  <a:pt x="9575" y="6896"/>
                </a:cubicBezTo>
                <a:cubicBezTo>
                  <a:pt x="9538" y="6938"/>
                  <a:pt x="9478" y="6921"/>
                  <a:pt x="9426" y="6921"/>
                </a:cubicBezTo>
                <a:cubicBezTo>
                  <a:pt x="9418" y="6921"/>
                  <a:pt x="9409" y="6921"/>
                  <a:pt x="9401" y="6921"/>
                </a:cubicBezTo>
              </a:path>
              <a:path w="820" h="398">
                <a:moveTo>
                  <a:pt x="9723" y="6796"/>
                </a:moveTo>
                <a:cubicBezTo>
                  <a:pt x="9740" y="6796"/>
                  <a:pt x="9756" y="6796"/>
                  <a:pt x="9773" y="6796"/>
                </a:cubicBezTo>
                <a:cubicBezTo>
                  <a:pt x="9780" y="6825"/>
                  <a:pt x="9824" y="6885"/>
                  <a:pt x="9798" y="6921"/>
                </a:cubicBezTo>
                <a:cubicBezTo>
                  <a:pt x="9790" y="6921"/>
                  <a:pt x="9781" y="6921"/>
                  <a:pt x="9773" y="6921"/>
                </a:cubicBezTo>
              </a:path>
              <a:path w="820" h="398">
                <a:moveTo>
                  <a:pt x="9748" y="6623"/>
                </a:moveTo>
                <a:cubicBezTo>
                  <a:pt x="9772" y="6545"/>
                  <a:pt x="9754" y="6524"/>
                  <a:pt x="9823" y="6524"/>
                </a:cubicBezTo>
              </a:path>
              <a:path w="820" h="398">
                <a:moveTo>
                  <a:pt x="9872" y="6747"/>
                </a:moveTo>
                <a:cubicBezTo>
                  <a:pt x="9910" y="6805"/>
                  <a:pt x="9934" y="6870"/>
                  <a:pt x="9971" y="6921"/>
                </a:cubicBezTo>
                <a:cubicBezTo>
                  <a:pt x="9971" y="6877"/>
                  <a:pt x="9979" y="6808"/>
                  <a:pt x="9996" y="6772"/>
                </a:cubicBezTo>
                <a:cubicBezTo>
                  <a:pt x="10011" y="6740"/>
                  <a:pt x="10043" y="6729"/>
                  <a:pt x="10071" y="6722"/>
                </a:cubicBezTo>
                <a:cubicBezTo>
                  <a:pt x="10113" y="6775"/>
                  <a:pt x="10139" y="6835"/>
                  <a:pt x="10170" y="689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76760" y="2313000"/>
            <a:ext cx="322200" cy="152280"/>
          </a:xfrm>
          <a:custGeom>
            <a:avLst/>
            <a:gdLst/>
            <a:ahLst/>
            <a:rect l="l" t="t" r="r" b="b"/>
            <a:pathLst>
              <a:path w="894" h="423">
                <a:moveTo>
                  <a:pt x="10567" y="6548"/>
                </a:moveTo>
                <a:cubicBezTo>
                  <a:pt x="10554" y="6541"/>
                  <a:pt x="10446" y="6490"/>
                  <a:pt x="10492" y="6449"/>
                </a:cubicBezTo>
                <a:cubicBezTo>
                  <a:pt x="10519" y="6425"/>
                  <a:pt x="10607" y="6407"/>
                  <a:pt x="10641" y="6424"/>
                </a:cubicBezTo>
                <a:cubicBezTo>
                  <a:pt x="10685" y="6446"/>
                  <a:pt x="10705" y="6501"/>
                  <a:pt x="10691" y="6548"/>
                </a:cubicBezTo>
                <a:cubicBezTo>
                  <a:pt x="10673" y="6608"/>
                  <a:pt x="10620" y="6631"/>
                  <a:pt x="10616" y="6697"/>
                </a:cubicBezTo>
                <a:cubicBezTo>
                  <a:pt x="10613" y="6747"/>
                  <a:pt x="10607" y="6813"/>
                  <a:pt x="10666" y="6821"/>
                </a:cubicBezTo>
                <a:cubicBezTo>
                  <a:pt x="10729" y="6830"/>
                  <a:pt x="10769" y="6813"/>
                  <a:pt x="10815" y="6772"/>
                </a:cubicBezTo>
                <a:cubicBezTo>
                  <a:pt x="10823" y="6764"/>
                  <a:pt x="10832" y="6755"/>
                  <a:pt x="10840" y="6747"/>
                </a:cubicBezTo>
              </a:path>
              <a:path w="894" h="423">
                <a:moveTo>
                  <a:pt x="10864" y="6697"/>
                </a:moveTo>
                <a:cubicBezTo>
                  <a:pt x="10856" y="6681"/>
                  <a:pt x="10848" y="6664"/>
                  <a:pt x="10840" y="6648"/>
                </a:cubicBezTo>
                <a:cubicBezTo>
                  <a:pt x="10870" y="6625"/>
                  <a:pt x="10901" y="6601"/>
                  <a:pt x="10939" y="6598"/>
                </a:cubicBezTo>
                <a:cubicBezTo>
                  <a:pt x="11011" y="6593"/>
                  <a:pt x="11065" y="6628"/>
                  <a:pt x="11088" y="6697"/>
                </a:cubicBezTo>
                <a:cubicBezTo>
                  <a:pt x="11103" y="6742"/>
                  <a:pt x="11047" y="6814"/>
                  <a:pt x="11013" y="6821"/>
                </a:cubicBezTo>
                <a:cubicBezTo>
                  <a:pt x="10980" y="6821"/>
                  <a:pt x="10964" y="6821"/>
                  <a:pt x="10939" y="6821"/>
                </a:cubicBezTo>
              </a:path>
              <a:path w="894" h="423">
                <a:moveTo>
                  <a:pt x="11112" y="6648"/>
                </a:moveTo>
                <a:cubicBezTo>
                  <a:pt x="11112" y="6631"/>
                  <a:pt x="11112" y="6615"/>
                  <a:pt x="11112" y="6598"/>
                </a:cubicBezTo>
                <a:cubicBezTo>
                  <a:pt x="11112" y="6665"/>
                  <a:pt x="11109" y="6710"/>
                  <a:pt x="11137" y="6772"/>
                </a:cubicBezTo>
                <a:cubicBezTo>
                  <a:pt x="11179" y="6865"/>
                  <a:pt x="11219" y="6856"/>
                  <a:pt x="11311" y="6821"/>
                </a:cubicBezTo>
                <a:cubicBezTo>
                  <a:pt x="11361" y="6796"/>
                  <a:pt x="11377" y="6788"/>
                  <a:pt x="11385" y="6747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47880" y="2678040"/>
            <a:ext cx="903240" cy="223920"/>
          </a:xfrm>
          <a:custGeom>
            <a:avLst/>
            <a:gdLst/>
            <a:ahLst/>
            <a:rect l="l" t="t" r="r" b="b"/>
            <a:pathLst>
              <a:path w="2506" h="622">
                <a:moveTo>
                  <a:pt x="5209" y="7689"/>
                </a:moveTo>
                <a:cubicBezTo>
                  <a:pt x="5165" y="7711"/>
                  <a:pt x="5154" y="7714"/>
                  <a:pt x="5135" y="7739"/>
                </a:cubicBezTo>
                <a:cubicBezTo>
                  <a:pt x="5148" y="7683"/>
                  <a:pt x="5182" y="7668"/>
                  <a:pt x="5234" y="7640"/>
                </a:cubicBezTo>
                <a:cubicBezTo>
                  <a:pt x="5285" y="7613"/>
                  <a:pt x="5360" y="7553"/>
                  <a:pt x="5407" y="7615"/>
                </a:cubicBezTo>
                <a:cubicBezTo>
                  <a:pt x="5454" y="7677"/>
                  <a:pt x="5434" y="7751"/>
                  <a:pt x="5407" y="7813"/>
                </a:cubicBezTo>
                <a:cubicBezTo>
                  <a:pt x="5379" y="7878"/>
                  <a:pt x="5358" y="7888"/>
                  <a:pt x="5358" y="7962"/>
                </a:cubicBezTo>
                <a:cubicBezTo>
                  <a:pt x="5358" y="8012"/>
                  <a:pt x="5378" y="8033"/>
                  <a:pt x="5432" y="8037"/>
                </a:cubicBezTo>
                <a:cubicBezTo>
                  <a:pt x="5492" y="8041"/>
                  <a:pt x="5538" y="8012"/>
                  <a:pt x="5606" y="8012"/>
                </a:cubicBezTo>
                <a:cubicBezTo>
                  <a:pt x="5622" y="8012"/>
                  <a:pt x="5639" y="8012"/>
                  <a:pt x="5655" y="8012"/>
                </a:cubicBezTo>
              </a:path>
              <a:path w="2506" h="622">
                <a:moveTo>
                  <a:pt x="6003" y="7813"/>
                </a:moveTo>
                <a:cubicBezTo>
                  <a:pt x="6003" y="7805"/>
                  <a:pt x="6003" y="7797"/>
                  <a:pt x="6003" y="7789"/>
                </a:cubicBezTo>
                <a:cubicBezTo>
                  <a:pt x="5969" y="7806"/>
                  <a:pt x="5915" y="7863"/>
                  <a:pt x="5904" y="7913"/>
                </a:cubicBezTo>
                <a:cubicBezTo>
                  <a:pt x="5889" y="7980"/>
                  <a:pt x="5903" y="8052"/>
                  <a:pt x="5978" y="8062"/>
                </a:cubicBezTo>
                <a:cubicBezTo>
                  <a:pt x="5995" y="8062"/>
                  <a:pt x="6011" y="8062"/>
                  <a:pt x="6028" y="8062"/>
                </a:cubicBezTo>
              </a:path>
              <a:path w="2506" h="622">
                <a:moveTo>
                  <a:pt x="6176" y="7913"/>
                </a:moveTo>
                <a:cubicBezTo>
                  <a:pt x="6149" y="7875"/>
                  <a:pt x="6150" y="7852"/>
                  <a:pt x="6176" y="7813"/>
                </a:cubicBezTo>
                <a:cubicBezTo>
                  <a:pt x="6203" y="7773"/>
                  <a:pt x="6293" y="7778"/>
                  <a:pt x="6325" y="7813"/>
                </a:cubicBezTo>
                <a:cubicBezTo>
                  <a:pt x="6366" y="7857"/>
                  <a:pt x="6350" y="7933"/>
                  <a:pt x="6350" y="7987"/>
                </a:cubicBezTo>
                <a:cubicBezTo>
                  <a:pt x="6350" y="7995"/>
                  <a:pt x="6350" y="8004"/>
                  <a:pt x="6350" y="8012"/>
                </a:cubicBezTo>
                <a:cubicBezTo>
                  <a:pt x="6300" y="8012"/>
                  <a:pt x="6251" y="8012"/>
                  <a:pt x="6201" y="8012"/>
                </a:cubicBezTo>
              </a:path>
              <a:path w="2506" h="622">
                <a:moveTo>
                  <a:pt x="6524" y="7739"/>
                </a:moveTo>
                <a:cubicBezTo>
                  <a:pt x="6562" y="7700"/>
                  <a:pt x="6579" y="7699"/>
                  <a:pt x="6573" y="7665"/>
                </a:cubicBezTo>
                <a:cubicBezTo>
                  <a:pt x="6521" y="7703"/>
                  <a:pt x="6505" y="7688"/>
                  <a:pt x="6499" y="7764"/>
                </a:cubicBezTo>
                <a:cubicBezTo>
                  <a:pt x="6496" y="7795"/>
                  <a:pt x="6544" y="7872"/>
                  <a:pt x="6573" y="7888"/>
                </a:cubicBezTo>
                <a:cubicBezTo>
                  <a:pt x="6580" y="7892"/>
                  <a:pt x="6630" y="7937"/>
                  <a:pt x="6598" y="7962"/>
                </a:cubicBezTo>
                <a:cubicBezTo>
                  <a:pt x="6577" y="7978"/>
                  <a:pt x="6527" y="8005"/>
                  <a:pt x="6499" y="8012"/>
                </a:cubicBezTo>
              </a:path>
              <a:path w="2506" h="622">
                <a:moveTo>
                  <a:pt x="6747" y="7541"/>
                </a:moveTo>
                <a:cubicBezTo>
                  <a:pt x="6739" y="7541"/>
                  <a:pt x="6730" y="7541"/>
                  <a:pt x="6722" y="7541"/>
                </a:cubicBezTo>
                <a:cubicBezTo>
                  <a:pt x="6735" y="7503"/>
                  <a:pt x="6744" y="7512"/>
                  <a:pt x="6772" y="7491"/>
                </a:cubicBezTo>
                <a:cubicBezTo>
                  <a:pt x="6809" y="7462"/>
                  <a:pt x="6847" y="7451"/>
                  <a:pt x="6896" y="7441"/>
                </a:cubicBezTo>
                <a:cubicBezTo>
                  <a:pt x="6896" y="7493"/>
                  <a:pt x="6884" y="7524"/>
                  <a:pt x="6871" y="7565"/>
                </a:cubicBezTo>
                <a:cubicBezTo>
                  <a:pt x="6865" y="7584"/>
                  <a:pt x="6858" y="7659"/>
                  <a:pt x="6896" y="7640"/>
                </a:cubicBezTo>
                <a:cubicBezTo>
                  <a:pt x="6904" y="7632"/>
                  <a:pt x="6913" y="7623"/>
                  <a:pt x="6921" y="7615"/>
                </a:cubicBezTo>
              </a:path>
              <a:path w="2506" h="622">
                <a:moveTo>
                  <a:pt x="7169" y="7764"/>
                </a:moveTo>
                <a:cubicBezTo>
                  <a:pt x="7189" y="7806"/>
                  <a:pt x="7191" y="7745"/>
                  <a:pt x="7218" y="7714"/>
                </a:cubicBezTo>
                <a:cubicBezTo>
                  <a:pt x="7276" y="7649"/>
                  <a:pt x="7311" y="7712"/>
                  <a:pt x="7342" y="7764"/>
                </a:cubicBezTo>
                <a:cubicBezTo>
                  <a:pt x="7368" y="7807"/>
                  <a:pt x="7396" y="7904"/>
                  <a:pt x="7342" y="7938"/>
                </a:cubicBezTo>
                <a:cubicBezTo>
                  <a:pt x="7325" y="7949"/>
                  <a:pt x="7263" y="7938"/>
                  <a:pt x="7243" y="7938"/>
                </a:cubicBezTo>
              </a:path>
              <a:path w="2506" h="622">
                <a:moveTo>
                  <a:pt x="7466" y="7665"/>
                </a:moveTo>
                <a:cubicBezTo>
                  <a:pt x="7466" y="7623"/>
                  <a:pt x="7474" y="7607"/>
                  <a:pt x="7441" y="7615"/>
                </a:cubicBezTo>
                <a:cubicBezTo>
                  <a:pt x="7441" y="7668"/>
                  <a:pt x="7424" y="7747"/>
                  <a:pt x="7466" y="7789"/>
                </a:cubicBezTo>
                <a:cubicBezTo>
                  <a:pt x="7517" y="7839"/>
                  <a:pt x="7574" y="7838"/>
                  <a:pt x="7640" y="7838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06800" y="2741760"/>
            <a:ext cx="73080" cy="6336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8781" y="7615"/>
                </a:moveTo>
                <a:cubicBezTo>
                  <a:pt x="8731" y="7615"/>
                  <a:pt x="8682" y="7615"/>
                  <a:pt x="8632" y="7615"/>
                </a:cubicBezTo>
              </a:path>
              <a:path w="199" h="175">
                <a:moveTo>
                  <a:pt x="8806" y="7714"/>
                </a:moveTo>
                <a:cubicBezTo>
                  <a:pt x="8828" y="7737"/>
                  <a:pt x="8836" y="7742"/>
                  <a:pt x="8830" y="7764"/>
                </a:cubicBezTo>
                <a:cubicBezTo>
                  <a:pt x="8783" y="7764"/>
                  <a:pt x="8751" y="7784"/>
                  <a:pt x="8706" y="7789"/>
                </a:cubicBezTo>
                <a:cubicBezTo>
                  <a:pt x="8698" y="7789"/>
                  <a:pt x="8690" y="7789"/>
                  <a:pt x="8682" y="778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02000" y="2608200"/>
            <a:ext cx="795240" cy="169920"/>
          </a:xfrm>
          <a:custGeom>
            <a:avLst/>
            <a:gdLst/>
            <a:ahLst/>
            <a:rect l="l" t="t" r="r" b="b"/>
            <a:pathLst>
              <a:path w="2208" h="472">
                <a:moveTo>
                  <a:pt x="9475" y="7342"/>
                </a:moveTo>
                <a:cubicBezTo>
                  <a:pt x="9467" y="7342"/>
                  <a:pt x="9459" y="7342"/>
                  <a:pt x="9451" y="7342"/>
                </a:cubicBezTo>
                <a:cubicBezTo>
                  <a:pt x="9458" y="7314"/>
                  <a:pt x="9490" y="7253"/>
                  <a:pt x="9525" y="7243"/>
                </a:cubicBezTo>
                <a:cubicBezTo>
                  <a:pt x="9598" y="7222"/>
                  <a:pt x="9670" y="7248"/>
                  <a:pt x="9699" y="7317"/>
                </a:cubicBezTo>
                <a:cubicBezTo>
                  <a:pt x="9731" y="7394"/>
                  <a:pt x="9693" y="7465"/>
                  <a:pt x="9649" y="7516"/>
                </a:cubicBezTo>
                <a:cubicBezTo>
                  <a:pt x="9622" y="7548"/>
                  <a:pt x="9567" y="7602"/>
                  <a:pt x="9550" y="7640"/>
                </a:cubicBezTo>
                <a:cubicBezTo>
                  <a:pt x="9550" y="7648"/>
                  <a:pt x="9550" y="7657"/>
                  <a:pt x="9550" y="7665"/>
                </a:cubicBezTo>
                <a:cubicBezTo>
                  <a:pt x="9610" y="7709"/>
                  <a:pt x="9631" y="7676"/>
                  <a:pt x="9699" y="7665"/>
                </a:cubicBezTo>
                <a:cubicBezTo>
                  <a:pt x="9779" y="7652"/>
                  <a:pt x="9839" y="7615"/>
                  <a:pt x="9922" y="7615"/>
                </a:cubicBezTo>
                <a:cubicBezTo>
                  <a:pt x="9950" y="7615"/>
                  <a:pt x="9961" y="7613"/>
                  <a:pt x="9971" y="7590"/>
                </a:cubicBezTo>
              </a:path>
              <a:path w="2208" h="472">
                <a:moveTo>
                  <a:pt x="10368" y="7491"/>
                </a:moveTo>
                <a:cubicBezTo>
                  <a:pt x="10393" y="7491"/>
                  <a:pt x="10401" y="7491"/>
                  <a:pt x="10418" y="7491"/>
                </a:cubicBezTo>
                <a:cubicBezTo>
                  <a:pt x="10400" y="7437"/>
                  <a:pt x="10368" y="7479"/>
                  <a:pt x="10319" y="7491"/>
                </a:cubicBezTo>
                <a:cubicBezTo>
                  <a:pt x="10289" y="7498"/>
                  <a:pt x="10244" y="7521"/>
                  <a:pt x="10269" y="7565"/>
                </a:cubicBezTo>
                <a:cubicBezTo>
                  <a:pt x="10292" y="7605"/>
                  <a:pt x="10352" y="7630"/>
                  <a:pt x="10393" y="7640"/>
                </a:cubicBezTo>
                <a:cubicBezTo>
                  <a:pt x="10420" y="7647"/>
                  <a:pt x="10442" y="7699"/>
                  <a:pt x="10393" y="7714"/>
                </a:cubicBezTo>
                <a:cubicBezTo>
                  <a:pt x="10357" y="7725"/>
                  <a:pt x="10281" y="7714"/>
                  <a:pt x="10244" y="7714"/>
                </a:cubicBezTo>
              </a:path>
              <a:path w="2208" h="472">
                <a:moveTo>
                  <a:pt x="10567" y="7590"/>
                </a:moveTo>
                <a:cubicBezTo>
                  <a:pt x="10613" y="7590"/>
                  <a:pt x="10592" y="7649"/>
                  <a:pt x="10592" y="7689"/>
                </a:cubicBezTo>
              </a:path>
              <a:path w="2208" h="472">
                <a:moveTo>
                  <a:pt x="10616" y="7466"/>
                </a:moveTo>
                <a:cubicBezTo>
                  <a:pt x="10616" y="7450"/>
                  <a:pt x="10616" y="7433"/>
                  <a:pt x="10616" y="7417"/>
                </a:cubicBezTo>
              </a:path>
              <a:path w="2208" h="472">
                <a:moveTo>
                  <a:pt x="10691" y="7516"/>
                </a:moveTo>
                <a:cubicBezTo>
                  <a:pt x="10691" y="7594"/>
                  <a:pt x="10696" y="7629"/>
                  <a:pt x="10716" y="7689"/>
                </a:cubicBezTo>
                <a:cubicBezTo>
                  <a:pt x="10716" y="7697"/>
                  <a:pt x="10716" y="7706"/>
                  <a:pt x="10716" y="7714"/>
                </a:cubicBezTo>
                <a:cubicBezTo>
                  <a:pt x="10766" y="7697"/>
                  <a:pt x="10741" y="7663"/>
                  <a:pt x="10765" y="7615"/>
                </a:cubicBezTo>
                <a:cubicBezTo>
                  <a:pt x="10773" y="7607"/>
                  <a:pt x="10782" y="7598"/>
                  <a:pt x="10790" y="7590"/>
                </a:cubicBezTo>
                <a:cubicBezTo>
                  <a:pt x="10863" y="7608"/>
                  <a:pt x="10837" y="7635"/>
                  <a:pt x="10864" y="7689"/>
                </a:cubicBezTo>
                <a:cubicBezTo>
                  <a:pt x="10872" y="7697"/>
                  <a:pt x="10881" y="7706"/>
                  <a:pt x="10889" y="7714"/>
                </a:cubicBezTo>
              </a:path>
              <a:path w="2208" h="472">
                <a:moveTo>
                  <a:pt x="11137" y="7565"/>
                </a:moveTo>
                <a:cubicBezTo>
                  <a:pt x="11146" y="7529"/>
                  <a:pt x="11175" y="7503"/>
                  <a:pt x="11212" y="7491"/>
                </a:cubicBezTo>
                <a:cubicBezTo>
                  <a:pt x="11278" y="7469"/>
                  <a:pt x="11300" y="7502"/>
                  <a:pt x="11336" y="7541"/>
                </a:cubicBezTo>
                <a:cubicBezTo>
                  <a:pt x="11394" y="7604"/>
                  <a:pt x="11359" y="7627"/>
                  <a:pt x="11311" y="7665"/>
                </a:cubicBezTo>
                <a:cubicBezTo>
                  <a:pt x="11266" y="7701"/>
                  <a:pt x="11213" y="7698"/>
                  <a:pt x="11162" y="7665"/>
                </a:cubicBezTo>
                <a:cubicBezTo>
                  <a:pt x="11154" y="7657"/>
                  <a:pt x="11145" y="7648"/>
                  <a:pt x="11137" y="7640"/>
                </a:cubicBezTo>
              </a:path>
              <a:path w="2208" h="472">
                <a:moveTo>
                  <a:pt x="11460" y="7441"/>
                </a:moveTo>
                <a:cubicBezTo>
                  <a:pt x="11460" y="7425"/>
                  <a:pt x="11460" y="7408"/>
                  <a:pt x="11460" y="7392"/>
                </a:cubicBezTo>
                <a:cubicBezTo>
                  <a:pt x="11420" y="7405"/>
                  <a:pt x="11414" y="7439"/>
                  <a:pt x="11410" y="7491"/>
                </a:cubicBezTo>
                <a:cubicBezTo>
                  <a:pt x="11403" y="7573"/>
                  <a:pt x="11471" y="7586"/>
                  <a:pt x="11534" y="7590"/>
                </a:cubicBezTo>
                <a:cubicBezTo>
                  <a:pt x="11591" y="7593"/>
                  <a:pt x="11614" y="7592"/>
                  <a:pt x="11658" y="7565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83080" y="2616120"/>
            <a:ext cx="633600" cy="125640"/>
          </a:xfrm>
          <a:custGeom>
            <a:avLst/>
            <a:gdLst/>
            <a:ahLst/>
            <a:rect l="l" t="t" r="r" b="b"/>
            <a:pathLst>
              <a:path w="1762" h="348">
                <a:moveTo>
                  <a:pt x="12601" y="7367"/>
                </a:moveTo>
                <a:cubicBezTo>
                  <a:pt x="12601" y="7342"/>
                  <a:pt x="12601" y="7334"/>
                  <a:pt x="12601" y="7317"/>
                </a:cubicBezTo>
                <a:cubicBezTo>
                  <a:pt x="12557" y="7328"/>
                  <a:pt x="12536" y="7358"/>
                  <a:pt x="12502" y="7392"/>
                </a:cubicBezTo>
                <a:cubicBezTo>
                  <a:pt x="12453" y="7441"/>
                  <a:pt x="12452" y="7476"/>
                  <a:pt x="12452" y="7541"/>
                </a:cubicBezTo>
                <a:cubicBezTo>
                  <a:pt x="12452" y="7601"/>
                  <a:pt x="12504" y="7611"/>
                  <a:pt x="12551" y="7615"/>
                </a:cubicBezTo>
                <a:cubicBezTo>
                  <a:pt x="12559" y="7615"/>
                  <a:pt x="12568" y="7615"/>
                  <a:pt x="12576" y="7615"/>
                </a:cubicBezTo>
              </a:path>
              <a:path w="1762" h="348">
                <a:moveTo>
                  <a:pt x="12700" y="7441"/>
                </a:moveTo>
                <a:cubicBezTo>
                  <a:pt x="12675" y="7441"/>
                  <a:pt x="12667" y="7441"/>
                  <a:pt x="12675" y="7417"/>
                </a:cubicBezTo>
                <a:cubicBezTo>
                  <a:pt x="12720" y="7417"/>
                  <a:pt x="12734" y="7395"/>
                  <a:pt x="12774" y="7392"/>
                </a:cubicBezTo>
                <a:cubicBezTo>
                  <a:pt x="12863" y="7386"/>
                  <a:pt x="12850" y="7401"/>
                  <a:pt x="12898" y="7466"/>
                </a:cubicBezTo>
                <a:cubicBezTo>
                  <a:pt x="12921" y="7497"/>
                  <a:pt x="12950" y="7564"/>
                  <a:pt x="12898" y="7590"/>
                </a:cubicBezTo>
                <a:cubicBezTo>
                  <a:pt x="12862" y="7608"/>
                  <a:pt x="12802" y="7577"/>
                  <a:pt x="12774" y="7565"/>
                </a:cubicBezTo>
              </a:path>
              <a:path w="1762" h="348">
                <a:moveTo>
                  <a:pt x="13122" y="7367"/>
                </a:moveTo>
                <a:cubicBezTo>
                  <a:pt x="13130" y="7359"/>
                  <a:pt x="13138" y="7350"/>
                  <a:pt x="13146" y="7342"/>
                </a:cubicBezTo>
                <a:cubicBezTo>
                  <a:pt x="13109" y="7371"/>
                  <a:pt x="13058" y="7369"/>
                  <a:pt x="13047" y="7417"/>
                </a:cubicBezTo>
                <a:cubicBezTo>
                  <a:pt x="13028" y="7500"/>
                  <a:pt x="13067" y="7500"/>
                  <a:pt x="13122" y="7541"/>
                </a:cubicBezTo>
                <a:cubicBezTo>
                  <a:pt x="13157" y="7567"/>
                  <a:pt x="13178" y="7581"/>
                  <a:pt x="13221" y="7590"/>
                </a:cubicBezTo>
                <a:cubicBezTo>
                  <a:pt x="13172" y="7611"/>
                  <a:pt x="13170" y="7615"/>
                  <a:pt x="13122" y="7615"/>
                </a:cubicBezTo>
              </a:path>
              <a:path w="1762" h="348">
                <a:moveTo>
                  <a:pt x="13543" y="7417"/>
                </a:moveTo>
                <a:cubicBezTo>
                  <a:pt x="13514" y="7358"/>
                  <a:pt x="13548" y="7372"/>
                  <a:pt x="13593" y="7342"/>
                </a:cubicBezTo>
                <a:cubicBezTo>
                  <a:pt x="13631" y="7317"/>
                  <a:pt x="13713" y="7308"/>
                  <a:pt x="13742" y="7367"/>
                </a:cubicBezTo>
                <a:cubicBezTo>
                  <a:pt x="13761" y="7405"/>
                  <a:pt x="13753" y="7568"/>
                  <a:pt x="13717" y="7590"/>
                </a:cubicBezTo>
                <a:cubicBezTo>
                  <a:pt x="13683" y="7611"/>
                  <a:pt x="13617" y="7584"/>
                  <a:pt x="13593" y="7565"/>
                </a:cubicBezTo>
                <a:cubicBezTo>
                  <a:pt x="13585" y="7557"/>
                  <a:pt x="13576" y="7549"/>
                  <a:pt x="13568" y="7541"/>
                </a:cubicBezTo>
              </a:path>
              <a:path w="1762" h="348">
                <a:moveTo>
                  <a:pt x="13915" y="7342"/>
                </a:moveTo>
                <a:cubicBezTo>
                  <a:pt x="13915" y="7301"/>
                  <a:pt x="13915" y="7293"/>
                  <a:pt x="13915" y="7268"/>
                </a:cubicBezTo>
                <a:cubicBezTo>
                  <a:pt x="13852" y="7284"/>
                  <a:pt x="13845" y="7328"/>
                  <a:pt x="13841" y="7392"/>
                </a:cubicBezTo>
                <a:cubicBezTo>
                  <a:pt x="13837" y="7463"/>
                  <a:pt x="13919" y="7569"/>
                  <a:pt x="13990" y="7590"/>
                </a:cubicBezTo>
                <a:cubicBezTo>
                  <a:pt x="14061" y="7611"/>
                  <a:pt x="14146" y="7582"/>
                  <a:pt x="14213" y="7565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40240" y="3081240"/>
            <a:ext cx="34920" cy="1071720"/>
          </a:xfrm>
          <a:custGeom>
            <a:avLst/>
            <a:gdLst/>
            <a:ahLst/>
            <a:rect l="l" t="t" r="r" b="b"/>
            <a:pathLst>
              <a:path w="100" h="2977">
                <a:moveTo>
                  <a:pt x="14833" y="8558"/>
                </a:moveTo>
                <a:cubicBezTo>
                  <a:pt x="14833" y="8662"/>
                  <a:pt x="14845" y="8758"/>
                  <a:pt x="14858" y="8855"/>
                </a:cubicBezTo>
                <a:cubicBezTo>
                  <a:pt x="14881" y="9034"/>
                  <a:pt x="14863" y="9224"/>
                  <a:pt x="14883" y="9401"/>
                </a:cubicBezTo>
                <a:cubicBezTo>
                  <a:pt x="14925" y="9777"/>
                  <a:pt x="14861" y="10171"/>
                  <a:pt x="14908" y="10542"/>
                </a:cubicBezTo>
                <a:cubicBezTo>
                  <a:pt x="14933" y="10737"/>
                  <a:pt x="14911" y="10943"/>
                  <a:pt x="14932" y="11137"/>
                </a:cubicBezTo>
                <a:cubicBezTo>
                  <a:pt x="14946" y="11266"/>
                  <a:pt x="14932" y="11404"/>
                  <a:pt x="14932" y="11534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2608200"/>
            <a:ext cx="339840" cy="150840"/>
          </a:xfrm>
          <a:custGeom>
            <a:avLst/>
            <a:gdLst/>
            <a:ahLst/>
            <a:rect l="l" t="t" r="r" b="b"/>
            <a:pathLst>
              <a:path w="944" h="423">
                <a:moveTo>
                  <a:pt x="15974" y="7317"/>
                </a:moveTo>
                <a:cubicBezTo>
                  <a:pt x="15937" y="7345"/>
                  <a:pt x="15932" y="7356"/>
                  <a:pt x="15900" y="7367"/>
                </a:cubicBezTo>
                <a:cubicBezTo>
                  <a:pt x="15866" y="7356"/>
                  <a:pt x="15859" y="7322"/>
                  <a:pt x="15900" y="7293"/>
                </a:cubicBezTo>
                <a:cubicBezTo>
                  <a:pt x="15970" y="7244"/>
                  <a:pt x="16016" y="7217"/>
                  <a:pt x="16073" y="7293"/>
                </a:cubicBezTo>
                <a:cubicBezTo>
                  <a:pt x="16119" y="7354"/>
                  <a:pt x="16141" y="7466"/>
                  <a:pt x="16123" y="7541"/>
                </a:cubicBezTo>
                <a:cubicBezTo>
                  <a:pt x="16102" y="7627"/>
                  <a:pt x="16021" y="7648"/>
                  <a:pt x="15949" y="7665"/>
                </a:cubicBezTo>
                <a:cubicBezTo>
                  <a:pt x="15941" y="7665"/>
                  <a:pt x="15933" y="7665"/>
                  <a:pt x="15925" y="7665"/>
                </a:cubicBezTo>
              </a:path>
              <a:path w="944" h="423">
                <a:moveTo>
                  <a:pt x="16173" y="7342"/>
                </a:moveTo>
                <a:cubicBezTo>
                  <a:pt x="16189" y="7334"/>
                  <a:pt x="16206" y="7325"/>
                  <a:pt x="16222" y="7317"/>
                </a:cubicBezTo>
                <a:cubicBezTo>
                  <a:pt x="16179" y="7360"/>
                  <a:pt x="16158" y="7406"/>
                  <a:pt x="16148" y="7466"/>
                </a:cubicBezTo>
                <a:cubicBezTo>
                  <a:pt x="16137" y="7531"/>
                  <a:pt x="16183" y="7621"/>
                  <a:pt x="16247" y="7640"/>
                </a:cubicBezTo>
                <a:cubicBezTo>
                  <a:pt x="16300" y="7656"/>
                  <a:pt x="16352" y="7612"/>
                  <a:pt x="16396" y="7590"/>
                </a:cubicBezTo>
              </a:path>
              <a:path w="944" h="423">
                <a:moveTo>
                  <a:pt x="16793" y="7392"/>
                </a:moveTo>
                <a:cubicBezTo>
                  <a:pt x="16801" y="7392"/>
                  <a:pt x="16810" y="7392"/>
                  <a:pt x="16818" y="7392"/>
                </a:cubicBezTo>
                <a:cubicBezTo>
                  <a:pt x="16752" y="7392"/>
                  <a:pt x="16698" y="7385"/>
                  <a:pt x="16644" y="7417"/>
                </a:cubicBezTo>
              </a:path>
              <a:path w="944" h="423">
                <a:moveTo>
                  <a:pt x="16768" y="7491"/>
                </a:moveTo>
                <a:cubicBezTo>
                  <a:pt x="16852" y="7541"/>
                  <a:pt x="16794" y="7516"/>
                  <a:pt x="16743" y="751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05680" y="2455920"/>
            <a:ext cx="223560" cy="419040"/>
          </a:xfrm>
          <a:custGeom>
            <a:avLst/>
            <a:gdLst/>
            <a:ahLst/>
            <a:rect l="l" t="t" r="r" b="b"/>
            <a:pathLst>
              <a:path w="621" h="1167">
                <a:moveTo>
                  <a:pt x="17289" y="6921"/>
                </a:moveTo>
                <a:cubicBezTo>
                  <a:pt x="17289" y="6992"/>
                  <a:pt x="17310" y="7022"/>
                  <a:pt x="17314" y="7094"/>
                </a:cubicBezTo>
                <a:cubicBezTo>
                  <a:pt x="17316" y="7127"/>
                  <a:pt x="17314" y="7160"/>
                  <a:pt x="17314" y="7193"/>
                </a:cubicBezTo>
              </a:path>
              <a:path w="621" h="1167">
                <a:moveTo>
                  <a:pt x="17462" y="6821"/>
                </a:moveTo>
                <a:cubicBezTo>
                  <a:pt x="17462" y="6903"/>
                  <a:pt x="17474" y="6969"/>
                  <a:pt x="17487" y="7045"/>
                </a:cubicBezTo>
                <a:cubicBezTo>
                  <a:pt x="17501" y="7131"/>
                  <a:pt x="17519" y="7165"/>
                  <a:pt x="17611" y="7193"/>
                </a:cubicBezTo>
                <a:cubicBezTo>
                  <a:pt x="17659" y="7208"/>
                  <a:pt x="17727" y="7146"/>
                  <a:pt x="17760" y="7119"/>
                </a:cubicBezTo>
              </a:path>
              <a:path w="621" h="1167">
                <a:moveTo>
                  <a:pt x="17686" y="6871"/>
                </a:moveTo>
                <a:cubicBezTo>
                  <a:pt x="17667" y="6813"/>
                  <a:pt x="17637" y="6864"/>
                  <a:pt x="17587" y="6871"/>
                </a:cubicBezTo>
                <a:cubicBezTo>
                  <a:pt x="17476" y="6886"/>
                  <a:pt x="17351" y="6871"/>
                  <a:pt x="17239" y="6871"/>
                </a:cubicBezTo>
              </a:path>
              <a:path w="621" h="1167">
                <a:moveTo>
                  <a:pt x="17835" y="7417"/>
                </a:moveTo>
                <a:cubicBezTo>
                  <a:pt x="17899" y="7417"/>
                  <a:pt x="17796" y="7417"/>
                  <a:pt x="17785" y="7417"/>
                </a:cubicBezTo>
                <a:cubicBezTo>
                  <a:pt x="17697" y="7417"/>
                  <a:pt x="17618" y="7402"/>
                  <a:pt x="17537" y="7392"/>
                </a:cubicBezTo>
                <a:cubicBezTo>
                  <a:pt x="17458" y="7382"/>
                  <a:pt x="17369" y="7392"/>
                  <a:pt x="17289" y="7392"/>
                </a:cubicBezTo>
              </a:path>
              <a:path w="621" h="1167">
                <a:moveTo>
                  <a:pt x="17512" y="7541"/>
                </a:moveTo>
                <a:cubicBezTo>
                  <a:pt x="17500" y="7586"/>
                  <a:pt x="17487" y="7611"/>
                  <a:pt x="17487" y="7665"/>
                </a:cubicBezTo>
                <a:cubicBezTo>
                  <a:pt x="17487" y="7714"/>
                  <a:pt x="17482" y="7765"/>
                  <a:pt x="17537" y="7789"/>
                </a:cubicBezTo>
                <a:cubicBezTo>
                  <a:pt x="17606" y="7820"/>
                  <a:pt x="17756" y="7789"/>
                  <a:pt x="17835" y="7789"/>
                </a:cubicBezTo>
              </a:path>
              <a:path w="621" h="1167">
                <a:moveTo>
                  <a:pt x="17711" y="7689"/>
                </a:moveTo>
                <a:cubicBezTo>
                  <a:pt x="17648" y="7720"/>
                  <a:pt x="17661" y="7765"/>
                  <a:pt x="17661" y="7838"/>
                </a:cubicBezTo>
                <a:cubicBezTo>
                  <a:pt x="17661" y="7893"/>
                  <a:pt x="17643" y="7933"/>
                  <a:pt x="17636" y="7987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73160" y="3036960"/>
            <a:ext cx="733680" cy="169920"/>
          </a:xfrm>
          <a:custGeom>
            <a:avLst/>
            <a:gdLst/>
            <a:ahLst/>
            <a:rect l="l" t="t" r="r" b="b"/>
            <a:pathLst>
              <a:path w="2035" h="472">
                <a:moveTo>
                  <a:pt x="5507" y="8533"/>
                </a:moveTo>
                <a:cubicBezTo>
                  <a:pt x="5507" y="8558"/>
                  <a:pt x="5507" y="8566"/>
                  <a:pt x="5482" y="8558"/>
                </a:cubicBezTo>
                <a:cubicBezTo>
                  <a:pt x="5493" y="8515"/>
                  <a:pt x="5522" y="8491"/>
                  <a:pt x="5556" y="8458"/>
                </a:cubicBezTo>
                <a:cubicBezTo>
                  <a:pt x="5589" y="8426"/>
                  <a:pt x="5650" y="8415"/>
                  <a:pt x="5680" y="8458"/>
                </a:cubicBezTo>
                <a:cubicBezTo>
                  <a:pt x="5714" y="8507"/>
                  <a:pt x="5754" y="8596"/>
                  <a:pt x="5730" y="8657"/>
                </a:cubicBezTo>
                <a:cubicBezTo>
                  <a:pt x="5712" y="8703"/>
                  <a:pt x="5674" y="8758"/>
                  <a:pt x="5655" y="8806"/>
                </a:cubicBezTo>
                <a:cubicBezTo>
                  <a:pt x="5636" y="8855"/>
                  <a:pt x="5631" y="8857"/>
                  <a:pt x="5631" y="8905"/>
                </a:cubicBezTo>
                <a:cubicBezTo>
                  <a:pt x="5697" y="8905"/>
                  <a:pt x="5763" y="8905"/>
                  <a:pt x="5829" y="8905"/>
                </a:cubicBezTo>
              </a:path>
              <a:path w="2035" h="472">
                <a:moveTo>
                  <a:pt x="6052" y="8657"/>
                </a:moveTo>
                <a:cubicBezTo>
                  <a:pt x="6093" y="8637"/>
                  <a:pt x="6109" y="8639"/>
                  <a:pt x="6102" y="8607"/>
                </a:cubicBezTo>
                <a:cubicBezTo>
                  <a:pt x="6062" y="8617"/>
                  <a:pt x="6014" y="8664"/>
                  <a:pt x="6003" y="8706"/>
                </a:cubicBezTo>
                <a:cubicBezTo>
                  <a:pt x="5983" y="8781"/>
                  <a:pt x="6039" y="8849"/>
                  <a:pt x="6102" y="8855"/>
                </a:cubicBezTo>
                <a:cubicBezTo>
                  <a:pt x="6173" y="8861"/>
                  <a:pt x="6188" y="8839"/>
                  <a:pt x="6251" y="8830"/>
                </a:cubicBezTo>
              </a:path>
              <a:path w="2035" h="472">
                <a:moveTo>
                  <a:pt x="6325" y="8682"/>
                </a:moveTo>
                <a:cubicBezTo>
                  <a:pt x="6352" y="8662"/>
                  <a:pt x="6385" y="8643"/>
                  <a:pt x="6424" y="8657"/>
                </a:cubicBezTo>
                <a:cubicBezTo>
                  <a:pt x="6493" y="8682"/>
                  <a:pt x="6518" y="8714"/>
                  <a:pt x="6524" y="8781"/>
                </a:cubicBezTo>
                <a:cubicBezTo>
                  <a:pt x="6529" y="8838"/>
                  <a:pt x="6507" y="8851"/>
                  <a:pt x="6449" y="8855"/>
                </a:cubicBezTo>
                <a:cubicBezTo>
                  <a:pt x="6433" y="8855"/>
                  <a:pt x="6416" y="8855"/>
                  <a:pt x="6400" y="8855"/>
                </a:cubicBezTo>
              </a:path>
              <a:path w="2035" h="472">
                <a:moveTo>
                  <a:pt x="6747" y="8582"/>
                </a:moveTo>
                <a:cubicBezTo>
                  <a:pt x="6755" y="8574"/>
                  <a:pt x="6764" y="8566"/>
                  <a:pt x="6772" y="8558"/>
                </a:cubicBezTo>
                <a:cubicBezTo>
                  <a:pt x="6728" y="8601"/>
                  <a:pt x="6733" y="8598"/>
                  <a:pt x="6672" y="8607"/>
                </a:cubicBezTo>
                <a:cubicBezTo>
                  <a:pt x="6672" y="8686"/>
                  <a:pt x="6685" y="8680"/>
                  <a:pt x="6747" y="8706"/>
                </a:cubicBezTo>
                <a:cubicBezTo>
                  <a:pt x="6791" y="8724"/>
                  <a:pt x="6862" y="8766"/>
                  <a:pt x="6871" y="8806"/>
                </a:cubicBezTo>
                <a:cubicBezTo>
                  <a:pt x="6883" y="8858"/>
                  <a:pt x="6864" y="8855"/>
                  <a:pt x="6821" y="8855"/>
                </a:cubicBezTo>
              </a:path>
              <a:path w="2035" h="472">
                <a:moveTo>
                  <a:pt x="7144" y="8706"/>
                </a:moveTo>
                <a:cubicBezTo>
                  <a:pt x="7119" y="8706"/>
                  <a:pt x="7111" y="8706"/>
                  <a:pt x="7119" y="8682"/>
                </a:cubicBezTo>
                <a:cubicBezTo>
                  <a:pt x="7132" y="8644"/>
                  <a:pt x="7148" y="8657"/>
                  <a:pt x="7193" y="8657"/>
                </a:cubicBezTo>
                <a:cubicBezTo>
                  <a:pt x="7274" y="8657"/>
                  <a:pt x="7277" y="8737"/>
                  <a:pt x="7293" y="8806"/>
                </a:cubicBezTo>
                <a:cubicBezTo>
                  <a:pt x="7302" y="8847"/>
                  <a:pt x="7250" y="8878"/>
                  <a:pt x="7218" y="8880"/>
                </a:cubicBezTo>
                <a:cubicBezTo>
                  <a:pt x="7202" y="8880"/>
                  <a:pt x="7185" y="8880"/>
                  <a:pt x="7169" y="8880"/>
                </a:cubicBezTo>
              </a:path>
              <a:path w="2035" h="472">
                <a:moveTo>
                  <a:pt x="7317" y="8682"/>
                </a:moveTo>
                <a:cubicBezTo>
                  <a:pt x="7356" y="8643"/>
                  <a:pt x="7388" y="8626"/>
                  <a:pt x="7342" y="8632"/>
                </a:cubicBezTo>
                <a:cubicBezTo>
                  <a:pt x="7321" y="8660"/>
                  <a:pt x="7290" y="8746"/>
                  <a:pt x="7317" y="8781"/>
                </a:cubicBezTo>
                <a:cubicBezTo>
                  <a:pt x="7370" y="8849"/>
                  <a:pt x="7450" y="8827"/>
                  <a:pt x="7516" y="880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55960" y="3054240"/>
            <a:ext cx="71280" cy="7164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8384" y="8483"/>
                </a:moveTo>
                <a:cubicBezTo>
                  <a:pt x="8392" y="8483"/>
                  <a:pt x="8401" y="8483"/>
                  <a:pt x="8409" y="8483"/>
                </a:cubicBezTo>
                <a:cubicBezTo>
                  <a:pt x="8371" y="8483"/>
                  <a:pt x="8315" y="8493"/>
                  <a:pt x="8285" y="8508"/>
                </a:cubicBezTo>
                <a:cubicBezTo>
                  <a:pt x="8256" y="8523"/>
                  <a:pt x="8236" y="8538"/>
                  <a:pt x="8210" y="8558"/>
                </a:cubicBezTo>
              </a:path>
              <a:path w="200" h="200">
                <a:moveTo>
                  <a:pt x="8334" y="8632"/>
                </a:moveTo>
                <a:cubicBezTo>
                  <a:pt x="8386" y="8654"/>
                  <a:pt x="8397" y="8646"/>
                  <a:pt x="8409" y="8682"/>
                </a:cubicBezTo>
                <a:cubicBezTo>
                  <a:pt x="8384" y="8682"/>
                  <a:pt x="8359" y="8682"/>
                  <a:pt x="8334" y="8682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0080" y="3027240"/>
            <a:ext cx="152280" cy="152640"/>
          </a:xfrm>
          <a:custGeom>
            <a:avLst/>
            <a:gdLst/>
            <a:ahLst/>
            <a:rect l="l" t="t" r="r" b="b"/>
            <a:pathLst>
              <a:path w="423" h="422">
                <a:moveTo>
                  <a:pt x="9327" y="8533"/>
                </a:moveTo>
                <a:cubicBezTo>
                  <a:pt x="9305" y="8555"/>
                  <a:pt x="9296" y="8560"/>
                  <a:pt x="9302" y="8582"/>
                </a:cubicBezTo>
                <a:cubicBezTo>
                  <a:pt x="9270" y="8541"/>
                  <a:pt x="9280" y="8498"/>
                  <a:pt x="9327" y="8458"/>
                </a:cubicBezTo>
                <a:cubicBezTo>
                  <a:pt x="9370" y="8421"/>
                  <a:pt x="9469" y="8387"/>
                  <a:pt x="9525" y="8409"/>
                </a:cubicBezTo>
                <a:cubicBezTo>
                  <a:pt x="9598" y="8437"/>
                  <a:pt x="9573" y="8507"/>
                  <a:pt x="9550" y="8558"/>
                </a:cubicBezTo>
                <a:cubicBezTo>
                  <a:pt x="9523" y="8617"/>
                  <a:pt x="9496" y="8661"/>
                  <a:pt x="9451" y="8706"/>
                </a:cubicBezTo>
                <a:cubicBezTo>
                  <a:pt x="9414" y="8743"/>
                  <a:pt x="9418" y="8769"/>
                  <a:pt x="9451" y="8806"/>
                </a:cubicBezTo>
                <a:cubicBezTo>
                  <a:pt x="9478" y="8837"/>
                  <a:pt x="9558" y="8842"/>
                  <a:pt x="9599" y="8830"/>
                </a:cubicBezTo>
                <a:cubicBezTo>
                  <a:pt x="9642" y="8818"/>
                  <a:pt x="9667" y="8805"/>
                  <a:pt x="9699" y="8781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25920" y="3027240"/>
            <a:ext cx="517320" cy="169920"/>
          </a:xfrm>
          <a:custGeom>
            <a:avLst/>
            <a:gdLst/>
            <a:ahLst/>
            <a:rect l="l" t="t" r="r" b="b"/>
            <a:pathLst>
              <a:path w="1439" h="472">
                <a:moveTo>
                  <a:pt x="10195" y="8533"/>
                </a:moveTo>
                <a:cubicBezTo>
                  <a:pt x="10142" y="8533"/>
                  <a:pt x="10134" y="8544"/>
                  <a:pt x="10096" y="8582"/>
                </a:cubicBezTo>
                <a:cubicBezTo>
                  <a:pt x="10056" y="8622"/>
                  <a:pt x="10073" y="8652"/>
                  <a:pt x="10120" y="8682"/>
                </a:cubicBezTo>
                <a:cubicBezTo>
                  <a:pt x="10170" y="8714"/>
                  <a:pt x="10203" y="8694"/>
                  <a:pt x="10244" y="8731"/>
                </a:cubicBezTo>
                <a:cubicBezTo>
                  <a:pt x="10293" y="8775"/>
                  <a:pt x="10257" y="8793"/>
                  <a:pt x="10220" y="8830"/>
                </a:cubicBezTo>
                <a:cubicBezTo>
                  <a:pt x="10197" y="8853"/>
                  <a:pt x="10134" y="8919"/>
                  <a:pt x="10096" y="8880"/>
                </a:cubicBezTo>
                <a:cubicBezTo>
                  <a:pt x="10096" y="8872"/>
                  <a:pt x="10096" y="8863"/>
                  <a:pt x="10096" y="8855"/>
                </a:cubicBezTo>
              </a:path>
              <a:path w="1439" h="472">
                <a:moveTo>
                  <a:pt x="10368" y="8657"/>
                </a:moveTo>
                <a:cubicBezTo>
                  <a:pt x="10393" y="8690"/>
                  <a:pt x="10408" y="8716"/>
                  <a:pt x="10418" y="8756"/>
                </a:cubicBezTo>
              </a:path>
              <a:path w="1439" h="472">
                <a:moveTo>
                  <a:pt x="10542" y="8607"/>
                </a:moveTo>
                <a:cubicBezTo>
                  <a:pt x="10542" y="8665"/>
                  <a:pt x="10542" y="8723"/>
                  <a:pt x="10542" y="8781"/>
                </a:cubicBezTo>
                <a:cubicBezTo>
                  <a:pt x="10575" y="8748"/>
                  <a:pt x="10595" y="8714"/>
                  <a:pt x="10616" y="8682"/>
                </a:cubicBezTo>
                <a:cubicBezTo>
                  <a:pt x="10655" y="8624"/>
                  <a:pt x="10667" y="8675"/>
                  <a:pt x="10691" y="8706"/>
                </a:cubicBezTo>
              </a:path>
              <a:path w="1439" h="472">
                <a:moveTo>
                  <a:pt x="10988" y="8682"/>
                </a:moveTo>
                <a:cubicBezTo>
                  <a:pt x="10988" y="8629"/>
                  <a:pt x="10976" y="8644"/>
                  <a:pt x="10964" y="8607"/>
                </a:cubicBezTo>
                <a:cubicBezTo>
                  <a:pt x="11017" y="8607"/>
                  <a:pt x="11033" y="8585"/>
                  <a:pt x="11088" y="8582"/>
                </a:cubicBezTo>
                <a:cubicBezTo>
                  <a:pt x="11155" y="8578"/>
                  <a:pt x="11220" y="8611"/>
                  <a:pt x="11237" y="8682"/>
                </a:cubicBezTo>
                <a:cubicBezTo>
                  <a:pt x="11249" y="8732"/>
                  <a:pt x="11240" y="8777"/>
                  <a:pt x="11187" y="8781"/>
                </a:cubicBezTo>
                <a:cubicBezTo>
                  <a:pt x="11131" y="8785"/>
                  <a:pt x="11104" y="8787"/>
                  <a:pt x="11063" y="8756"/>
                </a:cubicBezTo>
              </a:path>
              <a:path w="1439" h="472">
                <a:moveTo>
                  <a:pt x="11212" y="8607"/>
                </a:moveTo>
                <a:cubicBezTo>
                  <a:pt x="11253" y="8566"/>
                  <a:pt x="11261" y="8558"/>
                  <a:pt x="11286" y="8533"/>
                </a:cubicBezTo>
                <a:cubicBezTo>
                  <a:pt x="11238" y="8549"/>
                  <a:pt x="11264" y="8585"/>
                  <a:pt x="11286" y="8632"/>
                </a:cubicBezTo>
                <a:cubicBezTo>
                  <a:pt x="11317" y="8698"/>
                  <a:pt x="11344" y="8776"/>
                  <a:pt x="11435" y="8756"/>
                </a:cubicBezTo>
                <a:cubicBezTo>
                  <a:pt x="11479" y="8734"/>
                  <a:pt x="11490" y="8731"/>
                  <a:pt x="11509" y="8706"/>
                </a:cubicBezTo>
              </a:path>
              <a:path w="1439" h="472">
                <a:moveTo>
                  <a:pt x="10319" y="8409"/>
                </a:moveTo>
                <a:cubicBezTo>
                  <a:pt x="10311" y="8409"/>
                  <a:pt x="10302" y="8409"/>
                  <a:pt x="10294" y="840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16080" y="3402000"/>
            <a:ext cx="519120" cy="142920"/>
          </a:xfrm>
          <a:custGeom>
            <a:avLst/>
            <a:gdLst/>
            <a:ahLst/>
            <a:rect l="l" t="t" r="r" b="b"/>
            <a:pathLst>
              <a:path w="1439" h="397">
                <a:moveTo>
                  <a:pt x="6003" y="9500"/>
                </a:moveTo>
                <a:cubicBezTo>
                  <a:pt x="5958" y="9511"/>
                  <a:pt x="5950" y="9536"/>
                  <a:pt x="5928" y="9575"/>
                </a:cubicBezTo>
                <a:cubicBezTo>
                  <a:pt x="5889" y="9643"/>
                  <a:pt x="5857" y="9671"/>
                  <a:pt x="5904" y="9748"/>
                </a:cubicBezTo>
                <a:cubicBezTo>
                  <a:pt x="5931" y="9792"/>
                  <a:pt x="6004" y="9812"/>
                  <a:pt x="6052" y="9798"/>
                </a:cubicBezTo>
                <a:cubicBezTo>
                  <a:pt x="6097" y="9785"/>
                  <a:pt x="6121" y="9754"/>
                  <a:pt x="6152" y="9723"/>
                </a:cubicBezTo>
              </a:path>
              <a:path w="1439" h="397">
                <a:moveTo>
                  <a:pt x="6152" y="9723"/>
                </a:moveTo>
                <a:cubicBezTo>
                  <a:pt x="6152" y="9670"/>
                  <a:pt x="6140" y="9631"/>
                  <a:pt x="6201" y="9624"/>
                </a:cubicBezTo>
                <a:cubicBezTo>
                  <a:pt x="6237" y="9620"/>
                  <a:pt x="6288" y="9632"/>
                  <a:pt x="6300" y="9674"/>
                </a:cubicBezTo>
                <a:cubicBezTo>
                  <a:pt x="6307" y="9698"/>
                  <a:pt x="6300" y="9746"/>
                  <a:pt x="6300" y="9773"/>
                </a:cubicBezTo>
                <a:cubicBezTo>
                  <a:pt x="6247" y="9773"/>
                  <a:pt x="6220" y="9774"/>
                  <a:pt x="6176" y="9748"/>
                </a:cubicBezTo>
              </a:path>
              <a:path w="1439" h="397">
                <a:moveTo>
                  <a:pt x="6424" y="9525"/>
                </a:moveTo>
                <a:cubicBezTo>
                  <a:pt x="6444" y="9485"/>
                  <a:pt x="6453" y="9478"/>
                  <a:pt x="6449" y="9451"/>
                </a:cubicBezTo>
                <a:cubicBezTo>
                  <a:pt x="6426" y="9481"/>
                  <a:pt x="6403" y="9511"/>
                  <a:pt x="6400" y="9550"/>
                </a:cubicBezTo>
                <a:cubicBezTo>
                  <a:pt x="6395" y="9623"/>
                  <a:pt x="6441" y="9643"/>
                  <a:pt x="6499" y="9674"/>
                </a:cubicBezTo>
                <a:cubicBezTo>
                  <a:pt x="6545" y="9699"/>
                  <a:pt x="6592" y="9719"/>
                  <a:pt x="6598" y="9773"/>
                </a:cubicBezTo>
                <a:cubicBezTo>
                  <a:pt x="6603" y="9815"/>
                  <a:pt x="6560" y="9843"/>
                  <a:pt x="6524" y="9847"/>
                </a:cubicBezTo>
                <a:cubicBezTo>
                  <a:pt x="6516" y="9847"/>
                  <a:pt x="6507" y="9847"/>
                  <a:pt x="6499" y="9847"/>
                </a:cubicBezTo>
              </a:path>
              <a:path w="1439" h="397">
                <a:moveTo>
                  <a:pt x="6846" y="9649"/>
                </a:moveTo>
                <a:cubicBezTo>
                  <a:pt x="6823" y="9626"/>
                  <a:pt x="6815" y="9622"/>
                  <a:pt x="6821" y="9599"/>
                </a:cubicBezTo>
                <a:cubicBezTo>
                  <a:pt x="6843" y="9583"/>
                  <a:pt x="6892" y="9542"/>
                  <a:pt x="6921" y="9550"/>
                </a:cubicBezTo>
                <a:cubicBezTo>
                  <a:pt x="7011" y="9576"/>
                  <a:pt x="7052" y="9632"/>
                  <a:pt x="7069" y="9723"/>
                </a:cubicBezTo>
                <a:cubicBezTo>
                  <a:pt x="7079" y="9779"/>
                  <a:pt x="7053" y="9843"/>
                  <a:pt x="6995" y="9847"/>
                </a:cubicBezTo>
                <a:cubicBezTo>
                  <a:pt x="6963" y="9849"/>
                  <a:pt x="6929" y="9847"/>
                  <a:pt x="6896" y="9847"/>
                </a:cubicBezTo>
              </a:path>
              <a:path w="1439" h="397">
                <a:moveTo>
                  <a:pt x="7119" y="9599"/>
                </a:moveTo>
                <a:cubicBezTo>
                  <a:pt x="7119" y="9575"/>
                  <a:pt x="7119" y="9567"/>
                  <a:pt x="7094" y="9575"/>
                </a:cubicBezTo>
                <a:cubicBezTo>
                  <a:pt x="7094" y="9633"/>
                  <a:pt x="7095" y="9669"/>
                  <a:pt x="7119" y="9723"/>
                </a:cubicBezTo>
                <a:cubicBezTo>
                  <a:pt x="7149" y="9791"/>
                  <a:pt x="7189" y="9820"/>
                  <a:pt x="7268" y="9798"/>
                </a:cubicBezTo>
                <a:cubicBezTo>
                  <a:pt x="7284" y="9790"/>
                  <a:pt x="7301" y="9781"/>
                  <a:pt x="7317" y="9773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90880" y="3419640"/>
            <a:ext cx="81000" cy="53640"/>
          </a:xfrm>
          <a:custGeom>
            <a:avLst/>
            <a:gdLst/>
            <a:ahLst/>
            <a:rect l="l" t="t" r="r" b="b"/>
            <a:pathLst>
              <a:path w="224" h="150">
                <a:moveTo>
                  <a:pt x="8483" y="9500"/>
                </a:moveTo>
                <a:cubicBezTo>
                  <a:pt x="8429" y="9500"/>
                  <a:pt x="8324" y="9481"/>
                  <a:pt x="8310" y="9525"/>
                </a:cubicBezTo>
              </a:path>
              <a:path w="224" h="150">
                <a:moveTo>
                  <a:pt x="8458" y="9599"/>
                </a:moveTo>
                <a:cubicBezTo>
                  <a:pt x="8516" y="9599"/>
                  <a:pt x="8541" y="9582"/>
                  <a:pt x="8533" y="9624"/>
                </a:cubicBezTo>
                <a:cubicBezTo>
                  <a:pt x="8482" y="9624"/>
                  <a:pt x="8460" y="9642"/>
                  <a:pt x="8409" y="964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8800" y="3348000"/>
            <a:ext cx="544320" cy="144360"/>
          </a:xfrm>
          <a:custGeom>
            <a:avLst/>
            <a:gdLst/>
            <a:ahLst/>
            <a:rect l="l" t="t" r="r" b="b"/>
            <a:pathLst>
              <a:path w="1514" h="398">
                <a:moveTo>
                  <a:pt x="9227" y="9426"/>
                </a:moveTo>
                <a:cubicBezTo>
                  <a:pt x="9227" y="9401"/>
                  <a:pt x="9227" y="9393"/>
                  <a:pt x="9227" y="9376"/>
                </a:cubicBezTo>
                <a:cubicBezTo>
                  <a:pt x="9177" y="9376"/>
                  <a:pt x="9113" y="9381"/>
                  <a:pt x="9079" y="9426"/>
                </a:cubicBezTo>
                <a:cubicBezTo>
                  <a:pt x="9057" y="9454"/>
                  <a:pt x="9103" y="9518"/>
                  <a:pt x="9128" y="9525"/>
                </a:cubicBezTo>
                <a:cubicBezTo>
                  <a:pt x="9175" y="9539"/>
                  <a:pt x="9272" y="9529"/>
                  <a:pt x="9302" y="9575"/>
                </a:cubicBezTo>
                <a:cubicBezTo>
                  <a:pt x="9327" y="9614"/>
                  <a:pt x="9273" y="9653"/>
                  <a:pt x="9252" y="9674"/>
                </a:cubicBezTo>
                <a:cubicBezTo>
                  <a:pt x="9219" y="9707"/>
                  <a:pt x="9198" y="9699"/>
                  <a:pt x="9153" y="9699"/>
                </a:cubicBezTo>
                <a:cubicBezTo>
                  <a:pt x="9145" y="9699"/>
                  <a:pt x="9136" y="9699"/>
                  <a:pt x="9128" y="9699"/>
                </a:cubicBezTo>
              </a:path>
              <a:path w="1514" h="398">
                <a:moveTo>
                  <a:pt x="9401" y="9525"/>
                </a:moveTo>
                <a:cubicBezTo>
                  <a:pt x="9442" y="9525"/>
                  <a:pt x="9450" y="9525"/>
                  <a:pt x="9475" y="9525"/>
                </a:cubicBezTo>
                <a:cubicBezTo>
                  <a:pt x="9475" y="9566"/>
                  <a:pt x="9475" y="9608"/>
                  <a:pt x="9475" y="9649"/>
                </a:cubicBezTo>
              </a:path>
              <a:path w="1514" h="398">
                <a:moveTo>
                  <a:pt x="9426" y="9351"/>
                </a:moveTo>
                <a:cubicBezTo>
                  <a:pt x="9426" y="9310"/>
                  <a:pt x="9418" y="9294"/>
                  <a:pt x="9451" y="9302"/>
                </a:cubicBezTo>
              </a:path>
              <a:path w="1514" h="398">
                <a:moveTo>
                  <a:pt x="9599" y="9525"/>
                </a:moveTo>
                <a:cubicBezTo>
                  <a:pt x="9633" y="9581"/>
                  <a:pt x="9642" y="9606"/>
                  <a:pt x="9674" y="9649"/>
                </a:cubicBezTo>
                <a:cubicBezTo>
                  <a:pt x="9674" y="9611"/>
                  <a:pt x="9684" y="9556"/>
                  <a:pt x="9699" y="9525"/>
                </a:cubicBezTo>
                <a:cubicBezTo>
                  <a:pt x="9723" y="9500"/>
                  <a:pt x="9731" y="9491"/>
                  <a:pt x="9748" y="9475"/>
                </a:cubicBezTo>
                <a:cubicBezTo>
                  <a:pt x="9820" y="9504"/>
                  <a:pt x="9820" y="9554"/>
                  <a:pt x="9872" y="9599"/>
                </a:cubicBezTo>
                <a:cubicBezTo>
                  <a:pt x="9889" y="9607"/>
                  <a:pt x="9905" y="9616"/>
                  <a:pt x="9922" y="9624"/>
                </a:cubicBezTo>
              </a:path>
              <a:path w="1514" h="398">
                <a:moveTo>
                  <a:pt x="10071" y="9525"/>
                </a:moveTo>
                <a:cubicBezTo>
                  <a:pt x="10111" y="9465"/>
                  <a:pt x="10102" y="9475"/>
                  <a:pt x="10170" y="9475"/>
                </a:cubicBezTo>
                <a:cubicBezTo>
                  <a:pt x="10178" y="9475"/>
                  <a:pt x="10187" y="9475"/>
                  <a:pt x="10195" y="9475"/>
                </a:cubicBezTo>
                <a:cubicBezTo>
                  <a:pt x="10195" y="9528"/>
                  <a:pt x="10215" y="9545"/>
                  <a:pt x="10220" y="9599"/>
                </a:cubicBezTo>
                <a:cubicBezTo>
                  <a:pt x="10220" y="9607"/>
                  <a:pt x="10220" y="9616"/>
                  <a:pt x="10220" y="9624"/>
                </a:cubicBezTo>
                <a:cubicBezTo>
                  <a:pt x="10187" y="9624"/>
                  <a:pt x="10153" y="9624"/>
                  <a:pt x="10120" y="9624"/>
                </a:cubicBezTo>
              </a:path>
              <a:path w="1514" h="398">
                <a:moveTo>
                  <a:pt x="10344" y="9426"/>
                </a:moveTo>
                <a:cubicBezTo>
                  <a:pt x="10365" y="9382"/>
                  <a:pt x="10378" y="9371"/>
                  <a:pt x="10344" y="9351"/>
                </a:cubicBezTo>
                <a:cubicBezTo>
                  <a:pt x="10302" y="9365"/>
                  <a:pt x="10276" y="9393"/>
                  <a:pt x="10269" y="9451"/>
                </a:cubicBezTo>
                <a:cubicBezTo>
                  <a:pt x="10257" y="9552"/>
                  <a:pt x="10308" y="9591"/>
                  <a:pt x="10393" y="9624"/>
                </a:cubicBezTo>
                <a:cubicBezTo>
                  <a:pt x="10483" y="9659"/>
                  <a:pt x="10519" y="9657"/>
                  <a:pt x="10592" y="959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52840" y="3759120"/>
            <a:ext cx="17280" cy="162000"/>
          </a:xfrm>
          <a:custGeom>
            <a:avLst/>
            <a:gdLst/>
            <a:ahLst/>
            <a:rect l="l" t="t" r="r" b="b"/>
            <a:pathLst>
              <a:path w="51" h="447">
                <a:moveTo>
                  <a:pt x="7367" y="10468"/>
                </a:moveTo>
                <a:cubicBezTo>
                  <a:pt x="7367" y="10400"/>
                  <a:pt x="7367" y="10553"/>
                  <a:pt x="7367" y="10567"/>
                </a:cubicBezTo>
                <a:cubicBezTo>
                  <a:pt x="7367" y="10646"/>
                  <a:pt x="7372" y="10764"/>
                  <a:pt x="7392" y="10840"/>
                </a:cubicBezTo>
                <a:cubicBezTo>
                  <a:pt x="7400" y="10856"/>
                  <a:pt x="7409" y="10873"/>
                  <a:pt x="7417" y="1088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38320" y="3786120"/>
            <a:ext cx="79560" cy="54000"/>
          </a:xfrm>
          <a:custGeom>
            <a:avLst/>
            <a:gdLst/>
            <a:ahLst/>
            <a:rect l="l" t="t" r="r" b="b"/>
            <a:pathLst>
              <a:path w="224" h="150">
                <a:moveTo>
                  <a:pt x="8384" y="10517"/>
                </a:moveTo>
                <a:cubicBezTo>
                  <a:pt x="8331" y="10517"/>
                  <a:pt x="8311" y="10533"/>
                  <a:pt x="8260" y="10542"/>
                </a:cubicBezTo>
                <a:cubicBezTo>
                  <a:pt x="8213" y="10550"/>
                  <a:pt x="8202" y="10557"/>
                  <a:pt x="8161" y="10567"/>
                </a:cubicBezTo>
              </a:path>
              <a:path w="224" h="150">
                <a:moveTo>
                  <a:pt x="8285" y="10592"/>
                </a:moveTo>
                <a:cubicBezTo>
                  <a:pt x="8344" y="10600"/>
                  <a:pt x="8345" y="10586"/>
                  <a:pt x="8359" y="10641"/>
                </a:cubicBezTo>
                <a:cubicBezTo>
                  <a:pt x="8331" y="10641"/>
                  <a:pt x="8320" y="10643"/>
                  <a:pt x="8310" y="1066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95800" y="3598920"/>
            <a:ext cx="436320" cy="169920"/>
          </a:xfrm>
          <a:custGeom>
            <a:avLst/>
            <a:gdLst/>
            <a:ahLst/>
            <a:rect l="l" t="t" r="r" b="b"/>
            <a:pathLst>
              <a:path w="1216" h="473">
                <a:moveTo>
                  <a:pt x="9252" y="10170"/>
                </a:moveTo>
                <a:cubicBezTo>
                  <a:pt x="9260" y="10162"/>
                  <a:pt x="9269" y="10153"/>
                  <a:pt x="9277" y="10145"/>
                </a:cubicBezTo>
                <a:cubicBezTo>
                  <a:pt x="9233" y="10156"/>
                  <a:pt x="9213" y="10186"/>
                  <a:pt x="9178" y="10220"/>
                </a:cubicBezTo>
                <a:cubicBezTo>
                  <a:pt x="9148" y="10250"/>
                  <a:pt x="9153" y="10254"/>
                  <a:pt x="9153" y="10294"/>
                </a:cubicBezTo>
                <a:cubicBezTo>
                  <a:pt x="9200" y="10294"/>
                  <a:pt x="9327" y="10269"/>
                  <a:pt x="9351" y="10319"/>
                </a:cubicBezTo>
                <a:cubicBezTo>
                  <a:pt x="9366" y="10350"/>
                  <a:pt x="9361" y="10451"/>
                  <a:pt x="9327" y="10468"/>
                </a:cubicBezTo>
                <a:cubicBezTo>
                  <a:pt x="9294" y="10468"/>
                  <a:pt x="9277" y="10468"/>
                  <a:pt x="9252" y="10468"/>
                </a:cubicBezTo>
              </a:path>
              <a:path w="1216" h="473">
                <a:moveTo>
                  <a:pt x="9426" y="10244"/>
                </a:moveTo>
                <a:cubicBezTo>
                  <a:pt x="9464" y="10282"/>
                  <a:pt x="9475" y="10291"/>
                  <a:pt x="9475" y="10344"/>
                </a:cubicBezTo>
                <a:cubicBezTo>
                  <a:pt x="9475" y="10352"/>
                  <a:pt x="9475" y="10360"/>
                  <a:pt x="9475" y="10368"/>
                </a:cubicBezTo>
              </a:path>
              <a:path w="1216" h="473">
                <a:moveTo>
                  <a:pt x="9451" y="10071"/>
                </a:moveTo>
                <a:cubicBezTo>
                  <a:pt x="9451" y="10029"/>
                  <a:pt x="9451" y="10021"/>
                  <a:pt x="9451" y="9996"/>
                </a:cubicBezTo>
              </a:path>
              <a:path w="1216" h="473">
                <a:moveTo>
                  <a:pt x="9575" y="10220"/>
                </a:moveTo>
                <a:cubicBezTo>
                  <a:pt x="9590" y="10289"/>
                  <a:pt x="9599" y="10310"/>
                  <a:pt x="9599" y="10368"/>
                </a:cubicBezTo>
                <a:cubicBezTo>
                  <a:pt x="9599" y="10311"/>
                  <a:pt x="9621" y="10291"/>
                  <a:pt x="9649" y="10244"/>
                </a:cubicBezTo>
                <a:cubicBezTo>
                  <a:pt x="9682" y="10191"/>
                  <a:pt x="9697" y="10174"/>
                  <a:pt x="9748" y="10220"/>
                </a:cubicBezTo>
                <a:cubicBezTo>
                  <a:pt x="9809" y="10276"/>
                  <a:pt x="9813" y="10271"/>
                  <a:pt x="9823" y="10344"/>
                </a:cubicBezTo>
              </a:path>
              <a:path w="1216" h="473">
                <a:moveTo>
                  <a:pt x="9947" y="10170"/>
                </a:moveTo>
                <a:cubicBezTo>
                  <a:pt x="9978" y="10146"/>
                  <a:pt x="9989" y="10144"/>
                  <a:pt x="10021" y="10120"/>
                </a:cubicBezTo>
                <a:cubicBezTo>
                  <a:pt x="10067" y="10166"/>
                  <a:pt x="10092" y="10178"/>
                  <a:pt x="10096" y="10244"/>
                </a:cubicBezTo>
                <a:cubicBezTo>
                  <a:pt x="10098" y="10277"/>
                  <a:pt x="10096" y="10311"/>
                  <a:pt x="10096" y="10344"/>
                </a:cubicBezTo>
                <a:cubicBezTo>
                  <a:pt x="10071" y="10344"/>
                  <a:pt x="10063" y="10344"/>
                  <a:pt x="10046" y="10344"/>
                </a:cubicBezTo>
              </a:path>
              <a:path w="1216" h="473">
                <a:moveTo>
                  <a:pt x="10145" y="10071"/>
                </a:moveTo>
                <a:cubicBezTo>
                  <a:pt x="10145" y="10030"/>
                  <a:pt x="10145" y="10104"/>
                  <a:pt x="10145" y="10145"/>
                </a:cubicBezTo>
                <a:cubicBezTo>
                  <a:pt x="10145" y="10233"/>
                  <a:pt x="10182" y="10284"/>
                  <a:pt x="10269" y="10294"/>
                </a:cubicBezTo>
                <a:cubicBezTo>
                  <a:pt x="10321" y="10294"/>
                  <a:pt x="10339" y="10293"/>
                  <a:pt x="10368" y="10269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38320" y="3795840"/>
            <a:ext cx="1170000" cy="544320"/>
          </a:xfrm>
          <a:custGeom>
            <a:avLst/>
            <a:gdLst/>
            <a:ahLst/>
            <a:rect l="l" t="t" r="r" b="b"/>
            <a:pathLst>
              <a:path w="3250" h="1514">
                <a:moveTo>
                  <a:pt x="10468" y="10542"/>
                </a:moveTo>
                <a:cubicBezTo>
                  <a:pt x="10286" y="10542"/>
                  <a:pt x="10099" y="10526"/>
                  <a:pt x="9922" y="10567"/>
                </a:cubicBezTo>
                <a:cubicBezTo>
                  <a:pt x="9819" y="10591"/>
                  <a:pt x="9701" y="10625"/>
                  <a:pt x="9599" y="10641"/>
                </a:cubicBezTo>
                <a:cubicBezTo>
                  <a:pt x="9510" y="10655"/>
                  <a:pt x="9461" y="10690"/>
                  <a:pt x="9376" y="10716"/>
                </a:cubicBezTo>
                <a:cubicBezTo>
                  <a:pt x="9335" y="10729"/>
                  <a:pt x="9297" y="10740"/>
                  <a:pt x="9252" y="10740"/>
                </a:cubicBezTo>
              </a:path>
              <a:path w="3250" h="1514">
                <a:moveTo>
                  <a:pt x="9426" y="10988"/>
                </a:moveTo>
                <a:cubicBezTo>
                  <a:pt x="9426" y="10960"/>
                  <a:pt x="9429" y="10950"/>
                  <a:pt x="9451" y="10939"/>
                </a:cubicBezTo>
                <a:cubicBezTo>
                  <a:pt x="9424" y="10939"/>
                  <a:pt x="9363" y="10946"/>
                  <a:pt x="9351" y="10964"/>
                </a:cubicBezTo>
                <a:cubicBezTo>
                  <a:pt x="9317" y="11014"/>
                  <a:pt x="9355" y="11096"/>
                  <a:pt x="9401" y="11112"/>
                </a:cubicBezTo>
                <a:cubicBezTo>
                  <a:pt x="9458" y="11132"/>
                  <a:pt x="9489" y="11099"/>
                  <a:pt x="9525" y="11063"/>
                </a:cubicBezTo>
                <a:cubicBezTo>
                  <a:pt x="9533" y="11055"/>
                  <a:pt x="9542" y="11046"/>
                  <a:pt x="9550" y="11038"/>
                </a:cubicBezTo>
              </a:path>
              <a:path w="3250" h="1514">
                <a:moveTo>
                  <a:pt x="9550" y="11038"/>
                </a:moveTo>
                <a:cubicBezTo>
                  <a:pt x="9564" y="11006"/>
                  <a:pt x="9573" y="10937"/>
                  <a:pt x="9624" y="10964"/>
                </a:cubicBezTo>
                <a:cubicBezTo>
                  <a:pt x="9668" y="10988"/>
                  <a:pt x="9674" y="11019"/>
                  <a:pt x="9674" y="11063"/>
                </a:cubicBezTo>
                <a:cubicBezTo>
                  <a:pt x="9674" y="11071"/>
                  <a:pt x="9674" y="11080"/>
                  <a:pt x="9674" y="11088"/>
                </a:cubicBezTo>
                <a:cubicBezTo>
                  <a:pt x="9615" y="11088"/>
                  <a:pt x="9574" y="11093"/>
                  <a:pt x="9525" y="11063"/>
                </a:cubicBezTo>
              </a:path>
              <a:path w="3250" h="1514">
                <a:moveTo>
                  <a:pt x="9723" y="10889"/>
                </a:moveTo>
                <a:cubicBezTo>
                  <a:pt x="9740" y="10881"/>
                  <a:pt x="9756" y="10872"/>
                  <a:pt x="9773" y="10864"/>
                </a:cubicBezTo>
                <a:cubicBezTo>
                  <a:pt x="9773" y="10924"/>
                  <a:pt x="9758" y="10993"/>
                  <a:pt x="9798" y="11038"/>
                </a:cubicBezTo>
                <a:cubicBezTo>
                  <a:pt x="9839" y="11084"/>
                  <a:pt x="9826" y="11088"/>
                  <a:pt x="9773" y="11088"/>
                </a:cubicBezTo>
              </a:path>
              <a:path w="3250" h="1514">
                <a:moveTo>
                  <a:pt x="10120" y="10840"/>
                </a:moveTo>
                <a:cubicBezTo>
                  <a:pt x="10146" y="10833"/>
                  <a:pt x="10188" y="10797"/>
                  <a:pt x="10220" y="10815"/>
                </a:cubicBezTo>
                <a:cubicBezTo>
                  <a:pt x="10261" y="10838"/>
                  <a:pt x="10244" y="10900"/>
                  <a:pt x="10244" y="10939"/>
                </a:cubicBezTo>
                <a:cubicBezTo>
                  <a:pt x="10244" y="10970"/>
                  <a:pt x="10204" y="10984"/>
                  <a:pt x="10170" y="10988"/>
                </a:cubicBezTo>
                <a:cubicBezTo>
                  <a:pt x="10162" y="10988"/>
                  <a:pt x="10153" y="10988"/>
                  <a:pt x="10145" y="10988"/>
                </a:cubicBezTo>
              </a:path>
              <a:path w="3250" h="1514">
                <a:moveTo>
                  <a:pt x="10294" y="10840"/>
                </a:moveTo>
                <a:cubicBezTo>
                  <a:pt x="10294" y="10823"/>
                  <a:pt x="10294" y="10807"/>
                  <a:pt x="10294" y="10790"/>
                </a:cubicBezTo>
                <a:cubicBezTo>
                  <a:pt x="10285" y="10828"/>
                  <a:pt x="10249" y="10866"/>
                  <a:pt x="10269" y="10914"/>
                </a:cubicBezTo>
                <a:cubicBezTo>
                  <a:pt x="10302" y="10992"/>
                  <a:pt x="10374" y="10988"/>
                  <a:pt x="10443" y="10988"/>
                </a:cubicBezTo>
                <a:cubicBezTo>
                  <a:pt x="10459" y="10988"/>
                  <a:pt x="10476" y="10988"/>
                  <a:pt x="10492" y="10988"/>
                </a:cubicBezTo>
              </a:path>
              <a:path w="3250" h="1514">
                <a:moveTo>
                  <a:pt x="9550" y="11460"/>
                </a:moveTo>
                <a:cubicBezTo>
                  <a:pt x="9510" y="11473"/>
                  <a:pt x="9503" y="11507"/>
                  <a:pt x="9500" y="11559"/>
                </a:cubicBezTo>
                <a:cubicBezTo>
                  <a:pt x="9495" y="11638"/>
                  <a:pt x="9495" y="11710"/>
                  <a:pt x="9525" y="11782"/>
                </a:cubicBezTo>
                <a:cubicBezTo>
                  <a:pt x="9561" y="11867"/>
                  <a:pt x="9590" y="11857"/>
                  <a:pt x="9674" y="11857"/>
                </a:cubicBezTo>
              </a:path>
              <a:path w="3250" h="1514">
                <a:moveTo>
                  <a:pt x="9748" y="11633"/>
                </a:moveTo>
                <a:cubicBezTo>
                  <a:pt x="9715" y="11614"/>
                  <a:pt x="9667" y="11594"/>
                  <a:pt x="9624" y="11609"/>
                </a:cubicBezTo>
                <a:cubicBezTo>
                  <a:pt x="9579" y="11625"/>
                  <a:pt x="9559" y="11633"/>
                  <a:pt x="9525" y="11658"/>
                </a:cubicBezTo>
              </a:path>
              <a:path w="3250" h="1514">
                <a:moveTo>
                  <a:pt x="9947" y="11683"/>
                </a:moveTo>
                <a:cubicBezTo>
                  <a:pt x="9969" y="11660"/>
                  <a:pt x="9977" y="11655"/>
                  <a:pt x="9971" y="11633"/>
                </a:cubicBezTo>
                <a:cubicBezTo>
                  <a:pt x="9939" y="11633"/>
                  <a:pt x="9860" y="11616"/>
                  <a:pt x="9847" y="11658"/>
                </a:cubicBezTo>
                <a:cubicBezTo>
                  <a:pt x="9831" y="11709"/>
                  <a:pt x="9846" y="11804"/>
                  <a:pt x="9897" y="11832"/>
                </a:cubicBezTo>
                <a:cubicBezTo>
                  <a:pt x="9931" y="11851"/>
                  <a:pt x="9983" y="11811"/>
                  <a:pt x="9996" y="11782"/>
                </a:cubicBezTo>
                <a:cubicBezTo>
                  <a:pt x="9996" y="11774"/>
                  <a:pt x="9996" y="11765"/>
                  <a:pt x="9996" y="11757"/>
                </a:cubicBezTo>
                <a:cubicBezTo>
                  <a:pt x="10037" y="11798"/>
                  <a:pt x="10079" y="11840"/>
                  <a:pt x="10120" y="11881"/>
                </a:cubicBezTo>
              </a:path>
              <a:path w="3250" h="1514">
                <a:moveTo>
                  <a:pt x="10220" y="11708"/>
                </a:moveTo>
                <a:cubicBezTo>
                  <a:pt x="10220" y="11656"/>
                  <a:pt x="10238" y="11739"/>
                  <a:pt x="10244" y="11757"/>
                </a:cubicBezTo>
                <a:cubicBezTo>
                  <a:pt x="10244" y="11782"/>
                  <a:pt x="10244" y="11790"/>
                  <a:pt x="10269" y="11782"/>
                </a:cubicBezTo>
                <a:cubicBezTo>
                  <a:pt x="10279" y="11731"/>
                  <a:pt x="10288" y="11689"/>
                  <a:pt x="10344" y="11683"/>
                </a:cubicBezTo>
                <a:cubicBezTo>
                  <a:pt x="10395" y="11677"/>
                  <a:pt x="10423" y="11747"/>
                  <a:pt x="10443" y="11782"/>
                </a:cubicBezTo>
              </a:path>
              <a:path w="3250" h="1514">
                <a:moveTo>
                  <a:pt x="10840" y="11683"/>
                </a:moveTo>
                <a:cubicBezTo>
                  <a:pt x="10852" y="11634"/>
                  <a:pt x="10883" y="11614"/>
                  <a:pt x="10939" y="11633"/>
                </a:cubicBezTo>
                <a:cubicBezTo>
                  <a:pt x="11015" y="11659"/>
                  <a:pt x="11032" y="11709"/>
                  <a:pt x="11038" y="11782"/>
                </a:cubicBezTo>
                <a:cubicBezTo>
                  <a:pt x="11042" y="11836"/>
                  <a:pt x="11041" y="11864"/>
                  <a:pt x="10988" y="11881"/>
                </a:cubicBezTo>
                <a:cubicBezTo>
                  <a:pt x="10962" y="11890"/>
                  <a:pt x="10917" y="11881"/>
                  <a:pt x="10889" y="11881"/>
                </a:cubicBezTo>
              </a:path>
              <a:path w="3250" h="1514">
                <a:moveTo>
                  <a:pt x="11112" y="11559"/>
                </a:moveTo>
                <a:cubicBezTo>
                  <a:pt x="11112" y="11501"/>
                  <a:pt x="11090" y="11599"/>
                  <a:pt x="11088" y="11609"/>
                </a:cubicBezTo>
                <a:cubicBezTo>
                  <a:pt x="11074" y="11678"/>
                  <a:pt x="11135" y="11768"/>
                  <a:pt x="11187" y="11807"/>
                </a:cubicBezTo>
                <a:cubicBezTo>
                  <a:pt x="11253" y="11857"/>
                  <a:pt x="11325" y="11824"/>
                  <a:pt x="11385" y="11782"/>
                </a:cubicBezTo>
                <a:cubicBezTo>
                  <a:pt x="11393" y="11774"/>
                  <a:pt x="11402" y="11765"/>
                  <a:pt x="11410" y="11757"/>
                </a:cubicBezTo>
              </a:path>
              <a:path w="3250" h="1514">
                <a:moveTo>
                  <a:pt x="8706" y="11609"/>
                </a:moveTo>
                <a:cubicBezTo>
                  <a:pt x="8714" y="11609"/>
                  <a:pt x="8723" y="11609"/>
                  <a:pt x="8731" y="11609"/>
                </a:cubicBezTo>
                <a:cubicBezTo>
                  <a:pt x="8713" y="11554"/>
                  <a:pt x="8696" y="11596"/>
                  <a:pt x="8657" y="11609"/>
                </a:cubicBezTo>
                <a:cubicBezTo>
                  <a:pt x="8630" y="11618"/>
                  <a:pt x="8610" y="11626"/>
                  <a:pt x="8582" y="11633"/>
                </a:cubicBezTo>
              </a:path>
              <a:path w="3250" h="1514">
                <a:moveTo>
                  <a:pt x="8756" y="11733"/>
                </a:moveTo>
                <a:cubicBezTo>
                  <a:pt x="8764" y="11733"/>
                  <a:pt x="8773" y="11733"/>
                  <a:pt x="8781" y="11733"/>
                </a:cubicBezTo>
                <a:cubicBezTo>
                  <a:pt x="8748" y="11757"/>
                  <a:pt x="8695" y="11792"/>
                  <a:pt x="8657" y="11807"/>
                </a:cubicBezTo>
                <a:cubicBezTo>
                  <a:pt x="8649" y="11807"/>
                  <a:pt x="8640" y="11807"/>
                  <a:pt x="8632" y="11807"/>
                </a:cubicBezTo>
              </a:path>
              <a:path w="3250" h="1514">
                <a:moveTo>
                  <a:pt x="8161" y="11658"/>
                </a:moveTo>
                <a:cubicBezTo>
                  <a:pt x="8161" y="11739"/>
                  <a:pt x="8157" y="11803"/>
                  <a:pt x="8186" y="11881"/>
                </a:cubicBezTo>
                <a:cubicBezTo>
                  <a:pt x="8209" y="11941"/>
                  <a:pt x="8215" y="11994"/>
                  <a:pt x="8235" y="12055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1160" y="4249800"/>
            <a:ext cx="1027080" cy="822240"/>
          </a:xfrm>
          <a:custGeom>
            <a:avLst/>
            <a:gdLst/>
            <a:ahLst/>
            <a:rect l="l" t="t" r="r" b="b"/>
            <a:pathLst>
              <a:path w="2854" h="2283">
                <a:moveTo>
                  <a:pt x="5159" y="13816"/>
                </a:moveTo>
                <a:cubicBezTo>
                  <a:pt x="5197" y="13830"/>
                  <a:pt x="5204" y="13833"/>
                  <a:pt x="5234" y="13841"/>
                </a:cubicBezTo>
                <a:cubicBezTo>
                  <a:pt x="5242" y="13841"/>
                  <a:pt x="5251" y="13841"/>
                  <a:pt x="5259" y="13841"/>
                </a:cubicBezTo>
                <a:cubicBezTo>
                  <a:pt x="5222" y="13808"/>
                  <a:pt x="5216" y="13801"/>
                  <a:pt x="5159" y="13767"/>
                </a:cubicBezTo>
                <a:cubicBezTo>
                  <a:pt x="5083" y="13722"/>
                  <a:pt x="5009" y="13668"/>
                  <a:pt x="4936" y="13618"/>
                </a:cubicBezTo>
                <a:cubicBezTo>
                  <a:pt x="4832" y="13547"/>
                  <a:pt x="4724" y="13479"/>
                  <a:pt x="4614" y="13419"/>
                </a:cubicBezTo>
                <a:cubicBezTo>
                  <a:pt x="4481" y="13347"/>
                  <a:pt x="4374" y="13247"/>
                  <a:pt x="4242" y="13171"/>
                </a:cubicBezTo>
                <a:cubicBezTo>
                  <a:pt x="4106" y="13092"/>
                  <a:pt x="3988" y="13004"/>
                  <a:pt x="3870" y="12898"/>
                </a:cubicBezTo>
                <a:cubicBezTo>
                  <a:pt x="3761" y="12800"/>
                  <a:pt x="3662" y="12692"/>
                  <a:pt x="3547" y="12601"/>
                </a:cubicBezTo>
                <a:cubicBezTo>
                  <a:pt x="3422" y="12502"/>
                  <a:pt x="3293" y="12410"/>
                  <a:pt x="3175" y="12303"/>
                </a:cubicBezTo>
                <a:cubicBezTo>
                  <a:pt x="3070" y="12208"/>
                  <a:pt x="2966" y="12114"/>
                  <a:pt x="2853" y="12030"/>
                </a:cubicBezTo>
                <a:cubicBezTo>
                  <a:pt x="2763" y="11963"/>
                  <a:pt x="2672" y="11918"/>
                  <a:pt x="2580" y="11857"/>
                </a:cubicBezTo>
              </a:path>
              <a:path w="2854" h="2283">
                <a:moveTo>
                  <a:pt x="5259" y="13841"/>
                </a:moveTo>
                <a:cubicBezTo>
                  <a:pt x="5222" y="13855"/>
                  <a:pt x="5202" y="13864"/>
                  <a:pt x="5159" y="13866"/>
                </a:cubicBezTo>
                <a:cubicBezTo>
                  <a:pt x="5106" y="13869"/>
                  <a:pt x="5089" y="13888"/>
                  <a:pt x="5035" y="13891"/>
                </a:cubicBezTo>
                <a:cubicBezTo>
                  <a:pt x="4989" y="13894"/>
                  <a:pt x="4955" y="13909"/>
                  <a:pt x="4911" y="13915"/>
                </a:cubicBezTo>
                <a:cubicBezTo>
                  <a:pt x="4855" y="13923"/>
                  <a:pt x="4782" y="13934"/>
                  <a:pt x="4738" y="13940"/>
                </a:cubicBezTo>
                <a:cubicBezTo>
                  <a:pt x="4559" y="13966"/>
                  <a:pt x="4371" y="13939"/>
                  <a:pt x="4192" y="13965"/>
                </a:cubicBezTo>
                <a:cubicBezTo>
                  <a:pt x="4115" y="13976"/>
                  <a:pt x="4050" y="13990"/>
                  <a:pt x="3969" y="13990"/>
                </a:cubicBezTo>
                <a:cubicBezTo>
                  <a:pt x="3839" y="13990"/>
                  <a:pt x="3719" y="13985"/>
                  <a:pt x="3597" y="13965"/>
                </a:cubicBezTo>
                <a:cubicBezTo>
                  <a:pt x="3526" y="13953"/>
                  <a:pt x="3441" y="13949"/>
                  <a:pt x="3373" y="13940"/>
                </a:cubicBezTo>
                <a:cubicBezTo>
                  <a:pt x="3232" y="13921"/>
                  <a:pt x="3088" y="13938"/>
                  <a:pt x="2952" y="13915"/>
                </a:cubicBezTo>
                <a:cubicBezTo>
                  <a:pt x="2858" y="13899"/>
                  <a:pt x="2749" y="13915"/>
                  <a:pt x="2654" y="13915"/>
                </a:cubicBezTo>
              </a:path>
              <a:path w="2854" h="2283">
                <a:moveTo>
                  <a:pt x="2604" y="11807"/>
                </a:moveTo>
                <a:cubicBezTo>
                  <a:pt x="2604" y="11859"/>
                  <a:pt x="2588" y="11890"/>
                  <a:pt x="2580" y="11931"/>
                </a:cubicBezTo>
                <a:cubicBezTo>
                  <a:pt x="2560" y="12036"/>
                  <a:pt x="2575" y="12158"/>
                  <a:pt x="2555" y="12254"/>
                </a:cubicBezTo>
                <a:cubicBezTo>
                  <a:pt x="2541" y="12324"/>
                  <a:pt x="2541" y="12409"/>
                  <a:pt x="2530" y="12477"/>
                </a:cubicBezTo>
                <a:cubicBezTo>
                  <a:pt x="2519" y="12548"/>
                  <a:pt x="2547" y="12588"/>
                  <a:pt x="2555" y="12650"/>
                </a:cubicBezTo>
                <a:cubicBezTo>
                  <a:pt x="2574" y="12799"/>
                  <a:pt x="2554" y="12960"/>
                  <a:pt x="2580" y="13097"/>
                </a:cubicBezTo>
                <a:cubicBezTo>
                  <a:pt x="2592" y="13162"/>
                  <a:pt x="2582" y="13206"/>
                  <a:pt x="2604" y="13271"/>
                </a:cubicBezTo>
                <a:cubicBezTo>
                  <a:pt x="2621" y="13321"/>
                  <a:pt x="2626" y="13365"/>
                  <a:pt x="2629" y="13419"/>
                </a:cubicBezTo>
                <a:cubicBezTo>
                  <a:pt x="2632" y="13477"/>
                  <a:pt x="2651" y="13507"/>
                  <a:pt x="2654" y="13568"/>
                </a:cubicBezTo>
                <a:cubicBezTo>
                  <a:pt x="2656" y="13617"/>
                  <a:pt x="2667" y="13670"/>
                  <a:pt x="2679" y="13717"/>
                </a:cubicBezTo>
                <a:cubicBezTo>
                  <a:pt x="2690" y="13760"/>
                  <a:pt x="2701" y="13795"/>
                  <a:pt x="2704" y="13841"/>
                </a:cubicBezTo>
                <a:cubicBezTo>
                  <a:pt x="2705" y="13865"/>
                  <a:pt x="2704" y="13890"/>
                  <a:pt x="2704" y="13915"/>
                </a:cubicBezTo>
              </a:path>
              <a:path w="2854" h="2283">
                <a:moveTo>
                  <a:pt x="2654" y="13543"/>
                </a:moveTo>
                <a:cubicBezTo>
                  <a:pt x="2665" y="13575"/>
                  <a:pt x="2672" y="13582"/>
                  <a:pt x="2704" y="13593"/>
                </a:cubicBezTo>
                <a:cubicBezTo>
                  <a:pt x="2752" y="13564"/>
                  <a:pt x="2797" y="13548"/>
                  <a:pt x="2853" y="13519"/>
                </a:cubicBezTo>
                <a:cubicBezTo>
                  <a:pt x="2902" y="13493"/>
                  <a:pt x="2956" y="13474"/>
                  <a:pt x="3001" y="13444"/>
                </a:cubicBezTo>
                <a:cubicBezTo>
                  <a:pt x="3038" y="13419"/>
                  <a:pt x="3031" y="13419"/>
                  <a:pt x="3076" y="13419"/>
                </a:cubicBezTo>
                <a:cubicBezTo>
                  <a:pt x="3076" y="13482"/>
                  <a:pt x="3091" y="13511"/>
                  <a:pt x="3101" y="13568"/>
                </a:cubicBezTo>
                <a:cubicBezTo>
                  <a:pt x="3112" y="13628"/>
                  <a:pt x="3140" y="13691"/>
                  <a:pt x="3150" y="13742"/>
                </a:cubicBezTo>
                <a:cubicBezTo>
                  <a:pt x="3162" y="13800"/>
                  <a:pt x="3128" y="13800"/>
                  <a:pt x="3175" y="13816"/>
                </a:cubicBezTo>
              </a:path>
              <a:path w="2854" h="2283">
                <a:moveTo>
                  <a:pt x="4366" y="13320"/>
                </a:moveTo>
                <a:cubicBezTo>
                  <a:pt x="4366" y="13295"/>
                  <a:pt x="4366" y="13287"/>
                  <a:pt x="4366" y="13271"/>
                </a:cubicBezTo>
                <a:cubicBezTo>
                  <a:pt x="4307" y="13271"/>
                  <a:pt x="4328" y="13279"/>
                  <a:pt x="4291" y="13320"/>
                </a:cubicBezTo>
                <a:cubicBezTo>
                  <a:pt x="4238" y="13379"/>
                  <a:pt x="4203" y="13423"/>
                  <a:pt x="4167" y="13494"/>
                </a:cubicBezTo>
                <a:cubicBezTo>
                  <a:pt x="4126" y="13576"/>
                  <a:pt x="4118" y="13625"/>
                  <a:pt x="4118" y="13717"/>
                </a:cubicBezTo>
                <a:cubicBezTo>
                  <a:pt x="4118" y="13808"/>
                  <a:pt x="4129" y="13881"/>
                  <a:pt x="4142" y="13965"/>
                </a:cubicBezTo>
                <a:cubicBezTo>
                  <a:pt x="4150" y="14016"/>
                  <a:pt x="4167" y="14038"/>
                  <a:pt x="4167" y="14089"/>
                </a:cubicBezTo>
              </a:path>
              <a:path w="2854" h="2283">
                <a:moveTo>
                  <a:pt x="4787" y="12824"/>
                </a:moveTo>
                <a:cubicBezTo>
                  <a:pt x="4787" y="12882"/>
                  <a:pt x="4799" y="12918"/>
                  <a:pt x="4812" y="12973"/>
                </a:cubicBezTo>
                <a:cubicBezTo>
                  <a:pt x="4820" y="13007"/>
                  <a:pt x="4830" y="13038"/>
                  <a:pt x="4837" y="13072"/>
                </a:cubicBezTo>
              </a:path>
              <a:path w="2854" h="2283">
                <a:moveTo>
                  <a:pt x="4936" y="12774"/>
                </a:moveTo>
                <a:cubicBezTo>
                  <a:pt x="4936" y="12733"/>
                  <a:pt x="4924" y="12810"/>
                  <a:pt x="4936" y="12849"/>
                </a:cubicBezTo>
                <a:cubicBezTo>
                  <a:pt x="4956" y="12916"/>
                  <a:pt x="5015" y="13052"/>
                  <a:pt x="5085" y="13072"/>
                </a:cubicBezTo>
                <a:cubicBezTo>
                  <a:pt x="5130" y="13072"/>
                  <a:pt x="5143" y="13076"/>
                  <a:pt x="5159" y="13047"/>
                </a:cubicBezTo>
              </a:path>
              <a:path w="2854" h="2283">
                <a:moveTo>
                  <a:pt x="5085" y="12725"/>
                </a:moveTo>
                <a:cubicBezTo>
                  <a:pt x="5060" y="12725"/>
                  <a:pt x="5052" y="12725"/>
                  <a:pt x="5035" y="12725"/>
                </a:cubicBezTo>
                <a:cubicBezTo>
                  <a:pt x="5018" y="12751"/>
                  <a:pt x="4958" y="12774"/>
                  <a:pt x="4911" y="12799"/>
                </a:cubicBezTo>
                <a:cubicBezTo>
                  <a:pt x="4859" y="12827"/>
                  <a:pt x="4844" y="12849"/>
                  <a:pt x="4787" y="12849"/>
                </a:cubicBezTo>
              </a:path>
              <a:path w="2854" h="2283">
                <a:moveTo>
                  <a:pt x="5283" y="13171"/>
                </a:moveTo>
                <a:cubicBezTo>
                  <a:pt x="5283" y="13163"/>
                  <a:pt x="5283" y="13154"/>
                  <a:pt x="5283" y="13146"/>
                </a:cubicBezTo>
                <a:cubicBezTo>
                  <a:pt x="5200" y="13146"/>
                  <a:pt x="5138" y="13153"/>
                  <a:pt x="5060" y="13171"/>
                </a:cubicBezTo>
                <a:cubicBezTo>
                  <a:pt x="5018" y="13181"/>
                  <a:pt x="4995" y="13193"/>
                  <a:pt x="4961" y="13221"/>
                </a:cubicBezTo>
              </a:path>
              <a:path w="2854" h="2283">
                <a:moveTo>
                  <a:pt x="5085" y="13295"/>
                </a:moveTo>
                <a:cubicBezTo>
                  <a:pt x="5114" y="13333"/>
                  <a:pt x="5110" y="13346"/>
                  <a:pt x="5110" y="13395"/>
                </a:cubicBezTo>
                <a:cubicBezTo>
                  <a:pt x="5110" y="13428"/>
                  <a:pt x="5137" y="13469"/>
                  <a:pt x="5159" y="13494"/>
                </a:cubicBezTo>
                <a:cubicBezTo>
                  <a:pt x="5199" y="13539"/>
                  <a:pt x="5219" y="13517"/>
                  <a:pt x="5259" y="13494"/>
                </a:cubicBezTo>
                <a:cubicBezTo>
                  <a:pt x="5266" y="13490"/>
                  <a:pt x="5379" y="13417"/>
                  <a:pt x="5383" y="13419"/>
                </a:cubicBezTo>
                <a:cubicBezTo>
                  <a:pt x="5383" y="13427"/>
                  <a:pt x="5383" y="13436"/>
                  <a:pt x="5383" y="13444"/>
                </a:cubicBezTo>
              </a:path>
              <a:path w="2854" h="2283">
                <a:moveTo>
                  <a:pt x="5209" y="13419"/>
                </a:moveTo>
                <a:cubicBezTo>
                  <a:pt x="5169" y="13473"/>
                  <a:pt x="5186" y="13479"/>
                  <a:pt x="5209" y="13543"/>
                </a:cubicBezTo>
                <a:cubicBezTo>
                  <a:pt x="5228" y="13601"/>
                  <a:pt x="5237" y="13608"/>
                  <a:pt x="5234" y="13643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7240" y="3152880"/>
            <a:ext cx="1670040" cy="1035000"/>
          </a:xfrm>
          <a:custGeom>
            <a:avLst/>
            <a:gdLst/>
            <a:ahLst/>
            <a:rect l="l" t="t" r="r" b="b"/>
            <a:pathLst>
              <a:path w="4639" h="2878">
                <a:moveTo>
                  <a:pt x="14908" y="10096"/>
                </a:moveTo>
                <a:cubicBezTo>
                  <a:pt x="15043" y="10096"/>
                  <a:pt x="15176" y="10082"/>
                  <a:pt x="15304" y="10071"/>
                </a:cubicBezTo>
                <a:cubicBezTo>
                  <a:pt x="15416" y="10061"/>
                  <a:pt x="15554" y="10053"/>
                  <a:pt x="15652" y="10046"/>
                </a:cubicBezTo>
                <a:cubicBezTo>
                  <a:pt x="15800" y="10035"/>
                  <a:pt x="15957" y="10032"/>
                  <a:pt x="16098" y="10021"/>
                </a:cubicBezTo>
                <a:cubicBezTo>
                  <a:pt x="16393" y="9998"/>
                  <a:pt x="16702" y="10026"/>
                  <a:pt x="16991" y="10046"/>
                </a:cubicBezTo>
                <a:cubicBezTo>
                  <a:pt x="17229" y="10062"/>
                  <a:pt x="17481" y="10009"/>
                  <a:pt x="17711" y="10071"/>
                </a:cubicBezTo>
                <a:cubicBezTo>
                  <a:pt x="17828" y="10102"/>
                  <a:pt x="17942" y="10114"/>
                  <a:pt x="18058" y="10145"/>
                </a:cubicBezTo>
                <a:cubicBezTo>
                  <a:pt x="18195" y="10182"/>
                  <a:pt x="18339" y="10169"/>
                  <a:pt x="18479" y="10195"/>
                </a:cubicBezTo>
                <a:cubicBezTo>
                  <a:pt x="18579" y="10214"/>
                  <a:pt x="18676" y="10205"/>
                  <a:pt x="18777" y="10220"/>
                </a:cubicBezTo>
                <a:cubicBezTo>
                  <a:pt x="18879" y="10235"/>
                  <a:pt x="18976" y="10261"/>
                  <a:pt x="19075" y="10294"/>
                </a:cubicBezTo>
                <a:cubicBezTo>
                  <a:pt x="19177" y="10328"/>
                  <a:pt x="19266" y="10358"/>
                  <a:pt x="19372" y="10368"/>
                </a:cubicBezTo>
                <a:cubicBezTo>
                  <a:pt x="19436" y="10374"/>
                  <a:pt x="19485" y="10379"/>
                  <a:pt x="19546" y="10393"/>
                </a:cubicBezTo>
              </a:path>
              <a:path w="4639" h="2878">
                <a:moveTo>
                  <a:pt x="15007" y="10046"/>
                </a:moveTo>
                <a:cubicBezTo>
                  <a:pt x="15030" y="10023"/>
                  <a:pt x="15038" y="10019"/>
                  <a:pt x="15032" y="9996"/>
                </a:cubicBezTo>
                <a:cubicBezTo>
                  <a:pt x="15052" y="9981"/>
                  <a:pt x="15061" y="9986"/>
                  <a:pt x="15081" y="9971"/>
                </a:cubicBezTo>
                <a:cubicBezTo>
                  <a:pt x="15096" y="9951"/>
                  <a:pt x="15091" y="9942"/>
                  <a:pt x="15106" y="9922"/>
                </a:cubicBezTo>
                <a:cubicBezTo>
                  <a:pt x="15149" y="9897"/>
                  <a:pt x="15156" y="9891"/>
                  <a:pt x="15180" y="9847"/>
                </a:cubicBezTo>
                <a:cubicBezTo>
                  <a:pt x="15217" y="9826"/>
                  <a:pt x="15267" y="9816"/>
                  <a:pt x="15304" y="9798"/>
                </a:cubicBezTo>
                <a:cubicBezTo>
                  <a:pt x="15327" y="9775"/>
                  <a:pt x="15335" y="9771"/>
                  <a:pt x="15329" y="9748"/>
                </a:cubicBezTo>
                <a:cubicBezTo>
                  <a:pt x="15371" y="9724"/>
                  <a:pt x="15377" y="9710"/>
                  <a:pt x="15404" y="9674"/>
                </a:cubicBezTo>
                <a:cubicBezTo>
                  <a:pt x="15428" y="9642"/>
                  <a:pt x="15433" y="9604"/>
                  <a:pt x="15453" y="9575"/>
                </a:cubicBezTo>
                <a:cubicBezTo>
                  <a:pt x="15483" y="9532"/>
                  <a:pt x="15527" y="9537"/>
                  <a:pt x="15553" y="9500"/>
                </a:cubicBezTo>
                <a:cubicBezTo>
                  <a:pt x="15573" y="9471"/>
                  <a:pt x="15573" y="9471"/>
                  <a:pt x="15602" y="9451"/>
                </a:cubicBezTo>
                <a:cubicBezTo>
                  <a:pt x="15619" y="9413"/>
                  <a:pt x="15625" y="9366"/>
                  <a:pt x="15652" y="9327"/>
                </a:cubicBezTo>
                <a:cubicBezTo>
                  <a:pt x="15675" y="9304"/>
                  <a:pt x="15683" y="9300"/>
                  <a:pt x="15677" y="9277"/>
                </a:cubicBezTo>
                <a:cubicBezTo>
                  <a:pt x="15685" y="9267"/>
                  <a:pt x="15720" y="9232"/>
                  <a:pt x="15726" y="9203"/>
                </a:cubicBezTo>
                <a:cubicBezTo>
                  <a:pt x="15735" y="9157"/>
                  <a:pt x="15745" y="9120"/>
                  <a:pt x="15751" y="9079"/>
                </a:cubicBezTo>
                <a:cubicBezTo>
                  <a:pt x="15758" y="9038"/>
                  <a:pt x="15770" y="9017"/>
                  <a:pt x="15776" y="8979"/>
                </a:cubicBezTo>
                <a:cubicBezTo>
                  <a:pt x="15783" y="8939"/>
                  <a:pt x="15795" y="8917"/>
                  <a:pt x="15801" y="8880"/>
                </a:cubicBezTo>
                <a:cubicBezTo>
                  <a:pt x="15808" y="8839"/>
                  <a:pt x="15817" y="8818"/>
                  <a:pt x="15825" y="8781"/>
                </a:cubicBezTo>
                <a:cubicBezTo>
                  <a:pt x="15825" y="8773"/>
                  <a:pt x="15825" y="8764"/>
                  <a:pt x="15825" y="8756"/>
                </a:cubicBezTo>
              </a:path>
              <a:path w="4639" h="2878">
                <a:moveTo>
                  <a:pt x="15949" y="11609"/>
                </a:moveTo>
                <a:cubicBezTo>
                  <a:pt x="15949" y="11506"/>
                  <a:pt x="15964" y="11399"/>
                  <a:pt x="15974" y="11311"/>
                </a:cubicBezTo>
                <a:cubicBezTo>
                  <a:pt x="15982" y="11244"/>
                  <a:pt x="15982" y="11195"/>
                  <a:pt x="15999" y="11137"/>
                </a:cubicBezTo>
                <a:cubicBezTo>
                  <a:pt x="16009" y="11104"/>
                  <a:pt x="16013" y="11072"/>
                  <a:pt x="16024" y="11038"/>
                </a:cubicBezTo>
                <a:cubicBezTo>
                  <a:pt x="16036" y="11003"/>
                  <a:pt x="16038" y="10975"/>
                  <a:pt x="16049" y="10939"/>
                </a:cubicBezTo>
                <a:cubicBezTo>
                  <a:pt x="16059" y="10906"/>
                  <a:pt x="16065" y="10878"/>
                  <a:pt x="16073" y="10840"/>
                </a:cubicBezTo>
                <a:cubicBezTo>
                  <a:pt x="16084" y="10790"/>
                  <a:pt x="16113" y="10734"/>
                  <a:pt x="16123" y="10691"/>
                </a:cubicBezTo>
                <a:cubicBezTo>
                  <a:pt x="16123" y="10683"/>
                  <a:pt x="16123" y="10674"/>
                  <a:pt x="16123" y="10666"/>
                </a:cubicBezTo>
                <a:cubicBezTo>
                  <a:pt x="16138" y="10646"/>
                  <a:pt x="16158" y="10632"/>
                  <a:pt x="16173" y="10592"/>
                </a:cubicBezTo>
                <a:cubicBezTo>
                  <a:pt x="16183" y="10566"/>
                  <a:pt x="16188" y="10543"/>
                  <a:pt x="16197" y="10517"/>
                </a:cubicBezTo>
                <a:cubicBezTo>
                  <a:pt x="16210" y="10502"/>
                  <a:pt x="16252" y="10477"/>
                  <a:pt x="16272" y="10443"/>
                </a:cubicBezTo>
                <a:cubicBezTo>
                  <a:pt x="16272" y="10435"/>
                  <a:pt x="16272" y="10426"/>
                  <a:pt x="16272" y="10418"/>
                </a:cubicBezTo>
                <a:cubicBezTo>
                  <a:pt x="16287" y="10403"/>
                  <a:pt x="16316" y="10369"/>
                  <a:pt x="16346" y="10344"/>
                </a:cubicBezTo>
                <a:cubicBezTo>
                  <a:pt x="16369" y="10321"/>
                  <a:pt x="16373" y="10313"/>
                  <a:pt x="16396" y="10319"/>
                </a:cubicBezTo>
                <a:cubicBezTo>
                  <a:pt x="16412" y="10287"/>
                  <a:pt x="16405" y="10301"/>
                  <a:pt x="16421" y="10269"/>
                </a:cubicBezTo>
                <a:cubicBezTo>
                  <a:pt x="16441" y="10255"/>
                  <a:pt x="16474" y="10253"/>
                  <a:pt x="16495" y="10220"/>
                </a:cubicBezTo>
                <a:cubicBezTo>
                  <a:pt x="16495" y="10212"/>
                  <a:pt x="16495" y="10203"/>
                  <a:pt x="16495" y="10195"/>
                </a:cubicBezTo>
                <a:cubicBezTo>
                  <a:pt x="16512" y="10187"/>
                  <a:pt x="16543" y="10171"/>
                  <a:pt x="16545" y="10170"/>
                </a:cubicBezTo>
                <a:cubicBezTo>
                  <a:pt x="16561" y="10162"/>
                  <a:pt x="16592" y="10146"/>
                  <a:pt x="16594" y="10145"/>
                </a:cubicBezTo>
                <a:cubicBezTo>
                  <a:pt x="16619" y="10145"/>
                  <a:pt x="16644" y="10145"/>
                  <a:pt x="16669" y="10145"/>
                </a:cubicBezTo>
                <a:cubicBezTo>
                  <a:pt x="16684" y="10139"/>
                  <a:pt x="16704" y="10129"/>
                  <a:pt x="16743" y="10120"/>
                </a:cubicBezTo>
                <a:cubicBezTo>
                  <a:pt x="16779" y="10111"/>
                  <a:pt x="16810" y="10078"/>
                  <a:pt x="16842" y="10071"/>
                </a:cubicBezTo>
                <a:cubicBezTo>
                  <a:pt x="16866" y="10066"/>
                  <a:pt x="16893" y="10075"/>
                  <a:pt x="16917" y="10071"/>
                </a:cubicBezTo>
                <a:cubicBezTo>
                  <a:pt x="16932" y="10064"/>
                  <a:pt x="16953" y="10056"/>
                  <a:pt x="16991" y="10046"/>
                </a:cubicBezTo>
                <a:cubicBezTo>
                  <a:pt x="17032" y="10036"/>
                  <a:pt x="17053" y="10011"/>
                  <a:pt x="17090" y="9996"/>
                </a:cubicBezTo>
                <a:cubicBezTo>
                  <a:pt x="17121" y="9983"/>
                  <a:pt x="17159" y="9981"/>
                  <a:pt x="17190" y="9971"/>
                </a:cubicBezTo>
                <a:cubicBezTo>
                  <a:pt x="17206" y="9959"/>
                  <a:pt x="17235" y="9939"/>
                  <a:pt x="17264" y="9922"/>
                </a:cubicBezTo>
                <a:cubicBezTo>
                  <a:pt x="17300" y="9901"/>
                  <a:pt x="17327" y="9888"/>
                  <a:pt x="17363" y="9872"/>
                </a:cubicBezTo>
                <a:cubicBezTo>
                  <a:pt x="17386" y="9849"/>
                  <a:pt x="17390" y="9841"/>
                  <a:pt x="17413" y="9847"/>
                </a:cubicBezTo>
                <a:cubicBezTo>
                  <a:pt x="17429" y="9817"/>
                  <a:pt x="17422" y="9829"/>
                  <a:pt x="17438" y="9798"/>
                </a:cubicBezTo>
                <a:cubicBezTo>
                  <a:pt x="17468" y="9782"/>
                  <a:pt x="17456" y="9789"/>
                  <a:pt x="17487" y="9773"/>
                </a:cubicBezTo>
                <a:cubicBezTo>
                  <a:pt x="17503" y="9749"/>
                  <a:pt x="17546" y="9704"/>
                  <a:pt x="17562" y="9674"/>
                </a:cubicBezTo>
                <a:cubicBezTo>
                  <a:pt x="17578" y="9644"/>
                  <a:pt x="17595" y="9607"/>
                  <a:pt x="17611" y="9575"/>
                </a:cubicBezTo>
                <a:cubicBezTo>
                  <a:pt x="17624" y="9548"/>
                  <a:pt x="17652" y="9504"/>
                  <a:pt x="17661" y="9475"/>
                </a:cubicBezTo>
                <a:cubicBezTo>
                  <a:pt x="17661" y="9451"/>
                  <a:pt x="17661" y="9442"/>
                  <a:pt x="17661" y="9426"/>
                </a:cubicBezTo>
                <a:cubicBezTo>
                  <a:pt x="17693" y="9410"/>
                  <a:pt x="17679" y="9417"/>
                  <a:pt x="17711" y="9401"/>
                </a:cubicBezTo>
                <a:cubicBezTo>
                  <a:pt x="17720" y="9366"/>
                  <a:pt x="17731" y="9335"/>
                  <a:pt x="17735" y="9302"/>
                </a:cubicBezTo>
                <a:cubicBezTo>
                  <a:pt x="17740" y="9261"/>
                  <a:pt x="17757" y="9208"/>
                  <a:pt x="17760" y="9178"/>
                </a:cubicBezTo>
                <a:cubicBezTo>
                  <a:pt x="17765" y="9131"/>
                  <a:pt x="17778" y="9091"/>
                  <a:pt x="17785" y="9054"/>
                </a:cubicBezTo>
                <a:cubicBezTo>
                  <a:pt x="17785" y="9029"/>
                  <a:pt x="17785" y="9021"/>
                  <a:pt x="17785" y="9004"/>
                </a:cubicBezTo>
                <a:cubicBezTo>
                  <a:pt x="17789" y="8992"/>
                  <a:pt x="17808" y="8974"/>
                  <a:pt x="17810" y="8930"/>
                </a:cubicBezTo>
                <a:cubicBezTo>
                  <a:pt x="17812" y="8886"/>
                  <a:pt x="17831" y="8868"/>
                  <a:pt x="17835" y="8855"/>
                </a:cubicBezTo>
              </a:path>
              <a:path w="4639" h="2878">
                <a:moveTo>
                  <a:pt x="17587" y="11609"/>
                </a:moveTo>
                <a:cubicBezTo>
                  <a:pt x="17587" y="11617"/>
                  <a:pt x="17587" y="11625"/>
                  <a:pt x="17587" y="11633"/>
                </a:cubicBezTo>
                <a:cubicBezTo>
                  <a:pt x="17596" y="11598"/>
                  <a:pt x="17607" y="11567"/>
                  <a:pt x="17611" y="11534"/>
                </a:cubicBezTo>
                <a:cubicBezTo>
                  <a:pt x="17617" y="11481"/>
                  <a:pt x="17630" y="11436"/>
                  <a:pt x="17636" y="11385"/>
                </a:cubicBezTo>
                <a:cubicBezTo>
                  <a:pt x="17642" y="11328"/>
                  <a:pt x="17645" y="11289"/>
                  <a:pt x="17661" y="11237"/>
                </a:cubicBezTo>
                <a:cubicBezTo>
                  <a:pt x="17671" y="11204"/>
                  <a:pt x="17677" y="11176"/>
                  <a:pt x="17686" y="11137"/>
                </a:cubicBezTo>
                <a:cubicBezTo>
                  <a:pt x="17692" y="11110"/>
                  <a:pt x="17704" y="11072"/>
                  <a:pt x="17711" y="11038"/>
                </a:cubicBezTo>
                <a:cubicBezTo>
                  <a:pt x="17717" y="11011"/>
                  <a:pt x="17728" y="10972"/>
                  <a:pt x="17735" y="10939"/>
                </a:cubicBezTo>
                <a:cubicBezTo>
                  <a:pt x="17743" y="10902"/>
                  <a:pt x="17778" y="10873"/>
                  <a:pt x="17785" y="10840"/>
                </a:cubicBezTo>
                <a:cubicBezTo>
                  <a:pt x="17791" y="10812"/>
                  <a:pt x="17807" y="10759"/>
                  <a:pt x="17810" y="10740"/>
                </a:cubicBezTo>
                <a:cubicBezTo>
                  <a:pt x="17814" y="10716"/>
                  <a:pt x="17808" y="10690"/>
                  <a:pt x="17810" y="10666"/>
                </a:cubicBezTo>
                <a:cubicBezTo>
                  <a:pt x="17819" y="10654"/>
                  <a:pt x="17843" y="10614"/>
                  <a:pt x="17859" y="10592"/>
                </a:cubicBezTo>
                <a:cubicBezTo>
                  <a:pt x="17870" y="10578"/>
                  <a:pt x="17903" y="10550"/>
                  <a:pt x="17909" y="10542"/>
                </a:cubicBezTo>
                <a:cubicBezTo>
                  <a:pt x="17925" y="10515"/>
                  <a:pt x="17943" y="10470"/>
                  <a:pt x="17959" y="10443"/>
                </a:cubicBezTo>
                <a:cubicBezTo>
                  <a:pt x="17989" y="10427"/>
                  <a:pt x="17977" y="10434"/>
                  <a:pt x="18008" y="10418"/>
                </a:cubicBezTo>
                <a:cubicBezTo>
                  <a:pt x="18024" y="10386"/>
                  <a:pt x="18017" y="10400"/>
                  <a:pt x="18033" y="10368"/>
                </a:cubicBezTo>
                <a:cubicBezTo>
                  <a:pt x="18062" y="10343"/>
                  <a:pt x="18077" y="10328"/>
                  <a:pt x="18107" y="10294"/>
                </a:cubicBezTo>
                <a:cubicBezTo>
                  <a:pt x="18129" y="10270"/>
                  <a:pt x="18162" y="10261"/>
                  <a:pt x="18182" y="10220"/>
                </a:cubicBezTo>
                <a:cubicBezTo>
                  <a:pt x="18182" y="10212"/>
                  <a:pt x="18182" y="10203"/>
                  <a:pt x="18182" y="10195"/>
                </a:cubicBezTo>
                <a:cubicBezTo>
                  <a:pt x="18198" y="10187"/>
                  <a:pt x="18229" y="10171"/>
                  <a:pt x="18231" y="10170"/>
                </a:cubicBezTo>
                <a:cubicBezTo>
                  <a:pt x="18257" y="10154"/>
                  <a:pt x="18267" y="10139"/>
                  <a:pt x="18306" y="10120"/>
                </a:cubicBezTo>
                <a:cubicBezTo>
                  <a:pt x="18348" y="10099"/>
                  <a:pt x="18385" y="10084"/>
                  <a:pt x="18430" y="10071"/>
                </a:cubicBezTo>
                <a:cubicBezTo>
                  <a:pt x="18438" y="10071"/>
                  <a:pt x="18447" y="10071"/>
                  <a:pt x="18455" y="10071"/>
                </a:cubicBezTo>
                <a:cubicBezTo>
                  <a:pt x="18471" y="10039"/>
                  <a:pt x="18463" y="10053"/>
                  <a:pt x="18479" y="10021"/>
                </a:cubicBezTo>
                <a:cubicBezTo>
                  <a:pt x="18496" y="10013"/>
                  <a:pt x="18527" y="9997"/>
                  <a:pt x="18529" y="9996"/>
                </a:cubicBezTo>
                <a:cubicBezTo>
                  <a:pt x="18546" y="9988"/>
                  <a:pt x="18577" y="9972"/>
                  <a:pt x="18579" y="9971"/>
                </a:cubicBezTo>
                <a:cubicBezTo>
                  <a:pt x="18613" y="9960"/>
                  <a:pt x="18646" y="9964"/>
                  <a:pt x="18678" y="9947"/>
                </a:cubicBezTo>
                <a:cubicBezTo>
                  <a:pt x="18711" y="9930"/>
                  <a:pt x="18747" y="9914"/>
                  <a:pt x="18777" y="9897"/>
                </a:cubicBezTo>
                <a:cubicBezTo>
                  <a:pt x="18812" y="9878"/>
                  <a:pt x="18839" y="9841"/>
                  <a:pt x="18876" y="9823"/>
                </a:cubicBezTo>
                <a:cubicBezTo>
                  <a:pt x="18913" y="9805"/>
                  <a:pt x="18966" y="9799"/>
                  <a:pt x="19000" y="9773"/>
                </a:cubicBezTo>
                <a:cubicBezTo>
                  <a:pt x="19033" y="9747"/>
                  <a:pt x="19074" y="9727"/>
                  <a:pt x="19100" y="9699"/>
                </a:cubicBezTo>
                <a:cubicBezTo>
                  <a:pt x="19100" y="9691"/>
                  <a:pt x="19100" y="9682"/>
                  <a:pt x="19100" y="9674"/>
                </a:cubicBezTo>
                <a:cubicBezTo>
                  <a:pt x="19127" y="9665"/>
                  <a:pt x="19147" y="9658"/>
                  <a:pt x="19174" y="9649"/>
                </a:cubicBezTo>
                <a:cubicBezTo>
                  <a:pt x="19195" y="9623"/>
                  <a:pt x="19224" y="9597"/>
                  <a:pt x="19248" y="9575"/>
                </a:cubicBezTo>
                <a:cubicBezTo>
                  <a:pt x="19286" y="9541"/>
                  <a:pt x="19296" y="9512"/>
                  <a:pt x="19323" y="9475"/>
                </a:cubicBezTo>
                <a:cubicBezTo>
                  <a:pt x="19356" y="9429"/>
                  <a:pt x="19354" y="9423"/>
                  <a:pt x="19372" y="9376"/>
                </a:cubicBezTo>
                <a:cubicBezTo>
                  <a:pt x="19383" y="9347"/>
                  <a:pt x="19418" y="9278"/>
                  <a:pt x="19422" y="9252"/>
                </a:cubicBezTo>
                <a:cubicBezTo>
                  <a:pt x="19435" y="9165"/>
                  <a:pt x="19422" y="9067"/>
                  <a:pt x="19422" y="8979"/>
                </a:cubicBezTo>
                <a:cubicBezTo>
                  <a:pt x="19426" y="8966"/>
                  <a:pt x="19445" y="8949"/>
                  <a:pt x="19447" y="8905"/>
                </a:cubicBezTo>
                <a:cubicBezTo>
                  <a:pt x="19448" y="8880"/>
                  <a:pt x="19447" y="8855"/>
                  <a:pt x="19447" y="8830"/>
                </a:cubicBezTo>
              </a:path>
              <a:path w="4639" h="2878">
                <a:moveTo>
                  <a:pt x="15751" y="9426"/>
                </a:moveTo>
                <a:cubicBezTo>
                  <a:pt x="15743" y="9426"/>
                  <a:pt x="15734" y="9426"/>
                  <a:pt x="15726" y="9426"/>
                </a:cubicBezTo>
              </a:path>
              <a:path w="4639" h="2878">
                <a:moveTo>
                  <a:pt x="15726" y="9525"/>
                </a:moveTo>
                <a:cubicBezTo>
                  <a:pt x="15726" y="9533"/>
                  <a:pt x="15726" y="9542"/>
                  <a:pt x="15726" y="9550"/>
                </a:cubicBezTo>
              </a:path>
              <a:path w="4639" h="2878">
                <a:moveTo>
                  <a:pt x="15726" y="9674"/>
                </a:moveTo>
                <a:cubicBezTo>
                  <a:pt x="15726" y="9682"/>
                  <a:pt x="15726" y="9691"/>
                  <a:pt x="15726" y="9699"/>
                </a:cubicBezTo>
              </a:path>
              <a:path w="4639" h="2878">
                <a:moveTo>
                  <a:pt x="15751" y="9947"/>
                </a:moveTo>
                <a:cubicBezTo>
                  <a:pt x="15751" y="9955"/>
                  <a:pt x="15751" y="9963"/>
                  <a:pt x="15751" y="9971"/>
                </a:cubicBezTo>
              </a:path>
              <a:path w="4639" h="2878">
                <a:moveTo>
                  <a:pt x="15776" y="10046"/>
                </a:moveTo>
                <a:cubicBezTo>
                  <a:pt x="15776" y="10071"/>
                  <a:pt x="15776" y="10079"/>
                  <a:pt x="15776" y="10096"/>
                </a:cubicBezTo>
              </a:path>
              <a:path w="4639" h="2878">
                <a:moveTo>
                  <a:pt x="15776" y="9823"/>
                </a:moveTo>
                <a:cubicBezTo>
                  <a:pt x="15776" y="9847"/>
                  <a:pt x="15776" y="9855"/>
                  <a:pt x="15751" y="9847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88080" y="2394000"/>
            <a:ext cx="947880" cy="606240"/>
          </a:xfrm>
          <a:custGeom>
            <a:avLst/>
            <a:gdLst/>
            <a:ahLst/>
            <a:rect l="l" t="t" r="r" b="b"/>
            <a:pathLst>
              <a:path w="2630" h="1687">
                <a:moveTo>
                  <a:pt x="18653" y="7590"/>
                </a:moveTo>
                <a:cubicBezTo>
                  <a:pt x="18619" y="7590"/>
                  <a:pt x="18606" y="7656"/>
                  <a:pt x="18579" y="7689"/>
                </a:cubicBezTo>
              </a:path>
              <a:path w="2630" h="1687">
                <a:moveTo>
                  <a:pt x="19869" y="6921"/>
                </a:moveTo>
                <a:cubicBezTo>
                  <a:pt x="19927" y="6940"/>
                  <a:pt x="19877" y="6995"/>
                  <a:pt x="19869" y="7045"/>
                </a:cubicBezTo>
                <a:cubicBezTo>
                  <a:pt x="19859" y="7107"/>
                  <a:pt x="19869" y="7180"/>
                  <a:pt x="19869" y="7243"/>
                </a:cubicBezTo>
                <a:cubicBezTo>
                  <a:pt x="19912" y="7232"/>
                  <a:pt x="19951" y="7180"/>
                  <a:pt x="19993" y="7169"/>
                </a:cubicBezTo>
                <a:cubicBezTo>
                  <a:pt x="20108" y="7139"/>
                  <a:pt x="20141" y="7260"/>
                  <a:pt x="20141" y="7342"/>
                </a:cubicBezTo>
                <a:cubicBezTo>
                  <a:pt x="20141" y="7407"/>
                  <a:pt x="20107" y="7444"/>
                  <a:pt x="20042" y="7466"/>
                </a:cubicBezTo>
                <a:cubicBezTo>
                  <a:pt x="20009" y="7466"/>
                  <a:pt x="19993" y="7466"/>
                  <a:pt x="19968" y="7466"/>
                </a:cubicBezTo>
              </a:path>
              <a:path w="2630" h="1687">
                <a:moveTo>
                  <a:pt x="20141" y="6970"/>
                </a:moveTo>
                <a:cubicBezTo>
                  <a:pt x="20141" y="6954"/>
                  <a:pt x="20141" y="6937"/>
                  <a:pt x="20141" y="6921"/>
                </a:cubicBezTo>
                <a:cubicBezTo>
                  <a:pt x="20095" y="6940"/>
                  <a:pt x="20043" y="6967"/>
                  <a:pt x="19993" y="6970"/>
                </a:cubicBezTo>
                <a:cubicBezTo>
                  <a:pt x="19976" y="6970"/>
                  <a:pt x="19960" y="6970"/>
                  <a:pt x="19943" y="6970"/>
                </a:cubicBezTo>
              </a:path>
              <a:path w="2630" h="1687">
                <a:moveTo>
                  <a:pt x="20389" y="7193"/>
                </a:moveTo>
                <a:cubicBezTo>
                  <a:pt x="20389" y="7259"/>
                  <a:pt x="20389" y="7326"/>
                  <a:pt x="20389" y="7392"/>
                </a:cubicBezTo>
              </a:path>
              <a:path w="2630" h="1687">
                <a:moveTo>
                  <a:pt x="20563" y="7119"/>
                </a:moveTo>
                <a:cubicBezTo>
                  <a:pt x="20563" y="7102"/>
                  <a:pt x="20563" y="7086"/>
                  <a:pt x="20563" y="7069"/>
                </a:cubicBezTo>
                <a:cubicBezTo>
                  <a:pt x="20548" y="7131"/>
                  <a:pt x="20538" y="7167"/>
                  <a:pt x="20538" y="7243"/>
                </a:cubicBezTo>
                <a:cubicBezTo>
                  <a:pt x="20538" y="7288"/>
                  <a:pt x="20560" y="7398"/>
                  <a:pt x="20613" y="7417"/>
                </a:cubicBezTo>
                <a:cubicBezTo>
                  <a:pt x="20629" y="7417"/>
                  <a:pt x="20646" y="7417"/>
                  <a:pt x="20662" y="7417"/>
                </a:cubicBezTo>
              </a:path>
              <a:path w="2630" h="1687">
                <a:moveTo>
                  <a:pt x="20786" y="7243"/>
                </a:moveTo>
                <a:cubicBezTo>
                  <a:pt x="20726" y="7157"/>
                  <a:pt x="20734" y="7144"/>
                  <a:pt x="20638" y="7144"/>
                </a:cubicBezTo>
                <a:cubicBezTo>
                  <a:pt x="20567" y="7144"/>
                  <a:pt x="20528" y="7160"/>
                  <a:pt x="20464" y="7169"/>
                </a:cubicBezTo>
              </a:path>
              <a:path w="2630" h="1687">
                <a:moveTo>
                  <a:pt x="20737" y="7689"/>
                </a:moveTo>
                <a:cubicBezTo>
                  <a:pt x="20724" y="7729"/>
                  <a:pt x="20689" y="7714"/>
                  <a:pt x="20638" y="7714"/>
                </a:cubicBezTo>
                <a:cubicBezTo>
                  <a:pt x="20527" y="7714"/>
                  <a:pt x="20425" y="7693"/>
                  <a:pt x="20315" y="7689"/>
                </a:cubicBezTo>
                <a:cubicBezTo>
                  <a:pt x="20257" y="7687"/>
                  <a:pt x="20199" y="7689"/>
                  <a:pt x="20141" y="7689"/>
                </a:cubicBezTo>
              </a:path>
              <a:path w="2630" h="1687">
                <a:moveTo>
                  <a:pt x="20365" y="7739"/>
                </a:moveTo>
                <a:cubicBezTo>
                  <a:pt x="20365" y="7802"/>
                  <a:pt x="20350" y="7831"/>
                  <a:pt x="20340" y="7888"/>
                </a:cubicBezTo>
                <a:cubicBezTo>
                  <a:pt x="20330" y="7945"/>
                  <a:pt x="20366" y="8006"/>
                  <a:pt x="20414" y="8037"/>
                </a:cubicBezTo>
                <a:cubicBezTo>
                  <a:pt x="20480" y="8079"/>
                  <a:pt x="20563" y="8062"/>
                  <a:pt x="20638" y="8062"/>
                </a:cubicBezTo>
                <a:cubicBezTo>
                  <a:pt x="20679" y="8062"/>
                  <a:pt x="20721" y="8062"/>
                  <a:pt x="20762" y="8062"/>
                </a:cubicBezTo>
              </a:path>
              <a:path w="2630" h="1687">
                <a:moveTo>
                  <a:pt x="20662" y="7913"/>
                </a:moveTo>
                <a:cubicBezTo>
                  <a:pt x="20553" y="7847"/>
                  <a:pt x="20571" y="7845"/>
                  <a:pt x="20538" y="7938"/>
                </a:cubicBezTo>
                <a:cubicBezTo>
                  <a:pt x="20514" y="8005"/>
                  <a:pt x="20498" y="8065"/>
                  <a:pt x="20489" y="8136"/>
                </a:cubicBezTo>
              </a:path>
              <a:path w="2630" h="1687">
                <a:moveTo>
                  <a:pt x="21158" y="6672"/>
                </a:moveTo>
                <a:cubicBezTo>
                  <a:pt x="21175" y="6664"/>
                  <a:pt x="21191" y="6656"/>
                  <a:pt x="21208" y="6648"/>
                </a:cubicBezTo>
                <a:cubicBezTo>
                  <a:pt x="21164" y="6677"/>
                  <a:pt x="21129" y="6703"/>
                  <a:pt x="21084" y="6747"/>
                </a:cubicBezTo>
                <a:cubicBezTo>
                  <a:pt x="20979" y="6851"/>
                  <a:pt x="20885" y="6961"/>
                  <a:pt x="20786" y="7069"/>
                </a:cubicBezTo>
                <a:cubicBezTo>
                  <a:pt x="20654" y="7213"/>
                  <a:pt x="20532" y="7360"/>
                  <a:pt x="20414" y="7516"/>
                </a:cubicBezTo>
                <a:cubicBezTo>
                  <a:pt x="20312" y="7650"/>
                  <a:pt x="20240" y="7806"/>
                  <a:pt x="20141" y="7938"/>
                </a:cubicBezTo>
                <a:cubicBezTo>
                  <a:pt x="20094" y="8001"/>
                  <a:pt x="20088" y="8035"/>
                  <a:pt x="20067" y="8111"/>
                </a:cubicBezTo>
              </a:path>
              <a:path w="2630" h="1687">
                <a:moveTo>
                  <a:pt x="21208" y="8334"/>
                </a:moveTo>
                <a:cubicBezTo>
                  <a:pt x="21189" y="8304"/>
                  <a:pt x="21157" y="8270"/>
                  <a:pt x="21134" y="8235"/>
                </a:cubicBezTo>
                <a:cubicBezTo>
                  <a:pt x="21067" y="8134"/>
                  <a:pt x="20999" y="8070"/>
                  <a:pt x="20910" y="7987"/>
                </a:cubicBezTo>
                <a:cubicBezTo>
                  <a:pt x="20745" y="7832"/>
                  <a:pt x="20593" y="7676"/>
                  <a:pt x="20464" y="7491"/>
                </a:cubicBezTo>
                <a:cubicBezTo>
                  <a:pt x="20354" y="7333"/>
                  <a:pt x="20245" y="7169"/>
                  <a:pt x="20166" y="6995"/>
                </a:cubicBezTo>
                <a:cubicBezTo>
                  <a:pt x="20142" y="6942"/>
                  <a:pt x="20119" y="6870"/>
                  <a:pt x="20092" y="6821"/>
                </a:cubicBezTo>
                <a:cubicBezTo>
                  <a:pt x="20067" y="6821"/>
                  <a:pt x="20059" y="6821"/>
                  <a:pt x="20067" y="6796"/>
                </a:cubicBezTo>
              </a:path>
            </a:pathLst>
          </a:custGeom>
          <a:noFill/>
          <a:ln cap="rnd"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Less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G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9:54:05Z</dcterms:created>
  <dc:creator>N Holden</dc:creator>
  <dc:description/>
  <dc:language>en-US</dc:language>
  <cp:lastModifiedBy>N Holden</cp:lastModifiedBy>
  <dcterms:modified xsi:type="dcterms:W3CDTF">2009-02-20T15:17:31Z</dcterms:modified>
  <cp:revision>4</cp:revision>
  <dc:subject/>
  <dc:title>IB Revision Lesson 2</dc:title>
</cp:coreProperties>
</file>